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0.pct" ContentType="image/x-pict"/>
  <Override PartName="/ppt/media/image9.pct" ContentType="image/x-pict"/>
  <Override PartName="/ppt/media/image11.pct" ContentType="image/x-pict"/>
  <Override PartName="/ppt/media/image12.pct" ContentType="image/x-pict"/>
  <Override PartName="/ppt/media/image13.pct" ContentType="image/x-pic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Click to move the slide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B3637-75D5-47D1-9207-272B5F4589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11"/>
          <p:cNvSpPr/>
          <p:nvPr/>
        </p:nvSpPr>
        <p:spPr>
          <a:xfrm>
            <a:off x="816840" y="450756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asd</a:t>
            </a:r>
            <a:endParaRPr b="1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8D8E7-4D06-447C-BD50-59AA9A5ADCFA}" type="slidenum">
              <a:rPr b="0" lang="en-US" sz="1200" spc="-1" strike="noStrike">
                <a:solidFill>
                  <a:srgbClr val="ff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171A7-7FB1-44A9-9F64-53A48A05BBB2}" type="slidenum">
              <a:rPr b="0" lang="en-US" sz="1200" spc="-1" strike="noStrike">
                <a:solidFill>
                  <a:srgbClr val="ff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Question: Anything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missing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? Answer: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Exceptional cases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cases represent functionality of th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use cases need to be described for the model to be use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case diagrams are useful as an index into the use c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extual Use case descriptions provide meat of model, not the use case diagra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1FB40-CAFE-412C-93BA-AC62FFE5B083}" type="slidenum">
              <a:rPr b="0" lang="en-US" sz="1200" spc="-1" strike="noStrike">
                <a:solidFill>
                  <a:srgbClr val="ff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6A61C-7324-47DF-9F08-4A94626C115B}" type="slidenum">
              <a:rPr b="0" lang="en-US" sz="1200" spc="-1" strike="noStrike">
                <a:solidFill>
                  <a:srgbClr val="ff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C7519-893F-49ED-B908-4A26CF183EAA}" type="slidenum">
              <a:rPr b="0" lang="en-US" sz="1200" spc="-1" strike="noStrike">
                <a:solidFill>
                  <a:srgbClr val="ff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5D06D-9DE8-4B71-BFA6-DF4E4A42068F}" type="slidenum">
              <a:rPr b="0" lang="en-US" sz="1200" spc="-1" strike="noStrike">
                <a:solidFill>
                  <a:srgbClr val="ff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9AB5B-BE91-4EE1-8032-18D2C1754244}" type="slidenum">
              <a:rPr b="0" lang="en-US" sz="1200" spc="-1" strike="noStrike">
                <a:solidFill>
                  <a:srgbClr val="ff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B4B49-F660-4E49-B32B-4A627B3355E4}" type="slidenum">
              <a:rPr b="0" lang="en-US" sz="1200" spc="-1" strike="noStrike">
                <a:solidFill>
                  <a:srgbClr val="ff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DFE89-B2F4-475B-BCCD-C3DC5023E23B}" type="slidenum">
              <a:rPr b="0" lang="en-US" sz="1200" spc="-1" strike="noStrike">
                <a:solidFill>
                  <a:srgbClr val="ff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difference between an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cto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 a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clas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and an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instanc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5761B-4A22-4F9E-8B0D-60DC3DE7DAD1}" type="slidenum">
              <a:rPr b="0" lang="en-US" sz="1200" spc="-1" strike="noStrike">
                <a:solidFill>
                  <a:srgbClr val="ff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7678C-6B84-4683-B8CA-4D24E0C0F47F}" type="slidenum">
              <a:rPr b="0" lang="en-US" sz="1200" spc="-1" strike="noStrike">
                <a:solidFill>
                  <a:srgbClr val="ff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provided already a basic overview of the notation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case diagra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s diagra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quence diagrams, statechart diagra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will now go int more detail and cover two additional notations as well, sequence diagrams and activity diagra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7809D-EB09-46C8-B324-847F1B570272}" type="slidenum">
              <a:rPr b="0" lang="en-US" sz="1200" spc="-1" strike="noStrike">
                <a:solidFill>
                  <a:srgbClr val="ff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942BB-5764-48F3-9437-CB1C02727D1A}" type="slidenum">
              <a:rPr b="0" lang="en-US" sz="1200" spc="-1" strike="noStrike">
                <a:solidFill>
                  <a:srgbClr val="ff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94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tock exchange lists many companies each of them uniquely identifed by a ticker symbol used at that stock exchan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ompany can be listed on more than one stock exchange, using the same ticker symbo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rcedes Benz is an example for a company  listed on more than one stock exchange: Frankfurt and NYS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es it have two different Ticker symbol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thing not clear here: What happens if the company cannot have the same ticker symbol on two different stock exchang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D8319-8D2C-4054-B1DE-BA14174A37DA}" type="slidenum">
              <a:rPr b="0" lang="en-US" sz="1200" spc="-1" strike="noStrike">
                <a:solidFill>
                  <a:srgbClr val="ff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A7764-B076-468C-8CB5-32F1D50E897A}" type="slidenum">
              <a:rPr b="0" lang="en-US" sz="1200" spc="-1" strike="noStrike">
                <a:solidFill>
                  <a:srgbClr val="ff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9F81E-139E-4872-9534-97BFB5EE2B96}" type="slidenum">
              <a:rPr b="0" lang="en-US" sz="1200" spc="-1" strike="noStrike">
                <a:solidFill>
                  <a:srgbClr val="ff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for composition: Bill of Mater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E93A8-7891-494E-B0AC-41AE509EC6E2}" type="slidenum">
              <a:rPr b="0" lang="en-US" sz="1200" spc="-1" strike="noStrike">
                <a:solidFill>
                  <a:srgbClr val="ff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is case, filename is a qualifier attached to Direc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ABB6A-6F63-4FC1-84F0-2FB7E412AC61}" type="slidenum">
              <a:rPr b="0" lang="en-US" sz="1200" spc="-1" strike="noStrike">
                <a:solidFill>
                  <a:srgbClr val="ff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15967-FF85-40CE-BC3A-09B26184099F}" type="slidenum">
              <a:rPr b="0" lang="en-US" sz="1200" spc="-1" strike="noStrike">
                <a:solidFill>
                  <a:srgbClr val="ff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ter we will also see how inheritance allows the reuse of solutions (implementation and specification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299AC-5BB5-4F93-A414-342A2B38E568}" type="slidenum">
              <a:rPr b="0" lang="en-US" sz="1200" spc="-1" strike="noStrike">
                <a:solidFill>
                  <a:srgbClr val="ff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ckages are the grouping construct wi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935C1-5837-4607-8018-355823DA5FE7}" type="slidenum">
              <a:rPr b="0" lang="en-US" sz="1200" spc="-1" strike="noStrike">
                <a:solidFill>
                  <a:srgbClr val="ff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56DBE-AB8C-4920-9E51-7BF58FEE7FEF}" type="slidenum">
              <a:rPr b="0" lang="en-US" sz="1200" spc="-1" strike="noStrike">
                <a:solidFill>
                  <a:srgbClr val="ff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13BDF-7649-4290-9D3D-D6B94E780ECB}" type="slidenum">
              <a:rPr b="0" lang="en-US" sz="1200" spc="-1" strike="noStrike">
                <a:solidFill>
                  <a:srgbClr val="ff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"/>
              </a:rPr>
              <a:t>Naming is important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CC7E0-E8BC-42DA-AD5A-F58A07D8CFDE}" type="slidenum">
              <a:rPr b="0" lang="en-US" sz="1200" spc="-1" strike="noStrike">
                <a:solidFill>
                  <a:srgbClr val="ff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FD3C5-351D-4F85-ABD2-BCF7BF279923}" type="slidenum">
              <a:rPr b="0" lang="en-US" sz="1200" spc="-1" strike="noStrike">
                <a:solidFill>
                  <a:srgbClr val="ff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BD691-27FA-4D23-8439-78BFFCE53830}" type="slidenum">
              <a:rPr b="0" lang="en-US" sz="1200" spc="-1" strike="noStrike">
                <a:solidFill>
                  <a:srgbClr val="ff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750EE-F7EF-4A7D-A71A-90D873C9C99A}" type="slidenum">
              <a:rPr b="0" lang="en-US" sz="1200" spc="-1" strike="noStrike">
                <a:solidFill>
                  <a:srgbClr val="ff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BB4E5-885B-4333-AE1E-8E64716695DF}" type="slidenum">
              <a:rPr b="0" lang="en-US" sz="1200" spc="-1" strike="noStrike">
                <a:solidFill>
                  <a:srgbClr val="ff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41462-40C2-4505-822C-C34010C2C28F}" type="slidenum">
              <a:rPr b="0" lang="en-US" sz="1200" spc="-1" strike="noStrike">
                <a:solidFill>
                  <a:srgbClr val="ff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C7B4F-A252-4977-B929-F122B7B1EB6F}" type="slidenum">
              <a:rPr b="0" lang="en-US" sz="1200" spc="-1" strike="noStrike">
                <a:solidFill>
                  <a:srgbClr val="ff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99D6E-A87B-456E-8050-EA63A334F602}" type="slidenum">
              <a:rPr b="0" lang="en-US" sz="1200" spc="-1" strike="noStrike">
                <a:solidFill>
                  <a:srgbClr val="ff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12BF7-8220-43A1-BCAF-AEF03EFC2E57}" type="slidenum">
              <a:rPr b="0" lang="en-US" sz="1200" spc="-1" strike="noStrike">
                <a:solidFill>
                  <a:srgbClr val="ff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77B47-2DF9-4503-8B98-2958052F10AB}" type="slidenum">
              <a:rPr b="0" lang="en-US" sz="1200" spc="-1" strike="noStrike">
                <a:solidFill>
                  <a:srgbClr val="ff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03F5E-ECDF-4AF5-9FF3-D531C9B40F1A}" type="slidenum">
              <a:rPr b="0" lang="en-US" sz="1200" spc="-1" strike="noStrike">
                <a:solidFill>
                  <a:srgbClr val="ff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5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98ABE-FB13-4104-8543-E5B20832ECE5}" type="slidenum">
              <a:rPr b="0" lang="en-US" sz="1200" spc="-1" strike="noStrike">
                <a:solidFill>
                  <a:srgbClr val="ff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provided already a basic overview of the notation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case diagra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s diagra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quence diagrams, statechart diagra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will now go int more detail and cover two additional notations as well, sequence diagrams and activity diagra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F8A54-9DF3-4FB3-AF61-116CF31B5652}" type="slidenum">
              <a:rPr b="0" lang="en-US" sz="1200" spc="-1" strike="noStrike">
                <a:solidFill>
                  <a:srgbClr val="ff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two types of state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ction state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not be decomposed any fur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ppens “instantaneously” with respect to the level of abstraction used in the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ctivity state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be decomposed fur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ctivity is modeled by another activity dia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17499-B2B5-4513-8AF1-8B3BB4919472}" type="slidenum">
              <a:rPr b="0" lang="en-US" sz="1200" spc="-1" strike="noStrike">
                <a:solidFill>
                  <a:srgbClr val="ff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21C40-55CB-4867-A50F-7A8A2362CEDF}" type="slidenum">
              <a:rPr b="0" lang="en-US" sz="1200" spc="-1" strike="noStrike">
                <a:solidFill>
                  <a:srgbClr val="ff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44B09-8204-43D9-AE9E-FA0E1D1FA235}" type="slidenum">
              <a:rPr b="0" lang="en-US" sz="1200" spc="-1" strike="noStrike">
                <a:solidFill>
                  <a:srgbClr val="ff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7777D-23AF-482F-B205-5AB099BB0E7E}" type="slidenum">
              <a:rPr b="0" lang="en-US" sz="1200" spc="-1" strike="noStrike">
                <a:solidFill>
                  <a:srgbClr val="ff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techart Diagram for Incident (similar to Mealy Automat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vity Diagram for Incident (similar to Moore Automat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208FD-D721-4D3D-99B9-58CA4CF72D7F}" type="slidenum">
              <a:rPr b="0" lang="en-US" sz="1200" spc="-1" strike="noStrike">
                <a:solidFill>
                  <a:srgbClr val="ff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E5565-B6E4-4440-B768-9C964290514B}" type="slidenum">
              <a:rPr b="0" lang="en-US" sz="1200" spc="-1" strike="noStrike">
                <a:solidFill>
                  <a:srgbClr val="ff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5630F-E3E5-4CEB-A004-EE76E8193CFF}" type="slidenum">
              <a:rPr b="0" lang="en-US" sz="1200" spc="-1" strike="noStrike">
                <a:solidFill>
                  <a:srgbClr val="ff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techart diagra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cribe the dynamic behavior of an individual object  (essentially a finite state automat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ivity Diagra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del the dynamic behavior of a system, in particular the  workflow (essentially a flowchar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C9348-F80C-42B4-90EC-CA9E99B9C898}" type="slidenum">
              <a:rPr b="0" lang="en-US" sz="1200" spc="-1" strike="noStrike">
                <a:solidFill>
                  <a:srgbClr val="ff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werful, but complex 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be misused to generate unreadable mod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be misunderstood when using too many exotic fea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87FF6-F189-438A-96F9-673994CF4ED8}" type="slidenum">
              <a:rPr b="0" lang="en-US" sz="1200" spc="-1" strike="noStrike">
                <a:solidFill>
                  <a:srgbClr val="ff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19635-4F8E-4783-86C1-B55A43734ECC}" type="slidenum">
              <a:rPr b="0" lang="en-US" sz="1200" spc="-1" strike="noStrike">
                <a:solidFill>
                  <a:srgbClr val="ff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33160" y="3802320"/>
            <a:ext cx="80010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33160" y="38023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32840" y="38023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8560" y="12949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3960" y="12949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33160" y="38023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8560" y="38023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3960" y="38023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18680" y="221760"/>
            <a:ext cx="815364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33160" y="38023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32840" y="38023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33160" y="3802320"/>
            <a:ext cx="80010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33160" y="3802320"/>
            <a:ext cx="80010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33160" y="38023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32840" y="38023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8560" y="12949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3960" y="12949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33160" y="38023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8560" y="38023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3960" y="38023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18680" y="221760"/>
            <a:ext cx="815364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33160" y="38023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32840" y="38023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33160" y="3802320"/>
            <a:ext cx="80010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Rechteck 5"/>
          <p:cNvSpPr/>
          <p:nvPr/>
        </p:nvSpPr>
        <p:spPr>
          <a:xfrm>
            <a:off x="3967200" y="3198960"/>
            <a:ext cx="183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Text Box 10"/>
          <p:cNvSpPr/>
          <p:nvPr/>
        </p:nvSpPr>
        <p:spPr>
          <a:xfrm>
            <a:off x="360360" y="6400800"/>
            <a:ext cx="83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Bernd Bruegge &amp; Allen H. Dutoit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Object-Oriented Software Engineering: Using UML, Patterns, and Java                                        </a:t>
            </a:r>
            <a:fld id="{B2D2B6E0-5D57-4463-9F2E-8136E0685D59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9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 rot="16200000">
            <a:off x="-2289600" y="2955240"/>
            <a:ext cx="64166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UML, Patterns, and Java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1" name="Text Box 5"/>
          <p:cNvSpPr/>
          <p:nvPr/>
        </p:nvSpPr>
        <p:spPr>
          <a:xfrm rot="16200000">
            <a:off x="-2658240" y="3170520"/>
            <a:ext cx="640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bject-Oriented Software Engineering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body"/>
          </p:nvPr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ct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unicase.org/" TargetMode="External"/><Relationship Id="rId2" Type="http://schemas.openxmlformats.org/officeDocument/2006/relationships/hyperlink" Target="http://sysiphus.in.tum.de/" TargetMode="External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2.pct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.pct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90" descr="_x0014_mtkinley_sketch.tiff                                           0012F214_x000c_Macintosh HD                   B7C803F1:"/>
          <p:cNvPicPr/>
          <p:nvPr/>
        </p:nvPicPr>
        <p:blipFill>
          <a:blip r:embed="rId1"/>
          <a:srcRect l="0" t="15700" r="0" b="0"/>
          <a:stretch/>
        </p:blipFill>
        <p:spPr>
          <a:xfrm>
            <a:off x="1282680" y="279360"/>
            <a:ext cx="7607160" cy="641340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55680" y="219240"/>
            <a:ext cx="783576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entury Gothic"/>
              </a:rPr>
              <a:t>Chapter 2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Century Gothic"/>
              </a:rPr>
              <a:t>Modeling with UML, Part 2</a:t>
            </a:r>
            <a:endParaRPr b="1" lang="en-US" sz="4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Use Case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139920" y="807840"/>
            <a:ext cx="567072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729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use case represents a class of functionality provided by the system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729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e cases can be described textually, with a focus on the event flow between actor and syste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729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textual use case description consists of 6 part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84080" indent="-33588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nique n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84080" indent="-33588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articipating acto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84080" indent="-33588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ntry condi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84080" indent="-33588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it condi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84080" indent="-33588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low of even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84080" indent="-33588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pecial requirement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47" name="Group 5"/>
          <p:cNvGrpSpPr/>
          <p:nvPr/>
        </p:nvGrpSpPr>
        <p:grpSpPr>
          <a:xfrm>
            <a:off x="325080" y="2505240"/>
            <a:ext cx="2561040" cy="1168200"/>
            <a:chOff x="325080" y="2505240"/>
            <a:chExt cx="2561040" cy="1168200"/>
          </a:xfrm>
        </p:grpSpPr>
        <p:sp>
          <p:nvSpPr>
            <p:cNvPr id="148" name="Oval 6"/>
            <p:cNvSpPr/>
            <p:nvPr/>
          </p:nvSpPr>
          <p:spPr>
            <a:xfrm>
              <a:off x="625320" y="2505240"/>
              <a:ext cx="1778760" cy="7592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49" name="Rectangle 7"/>
            <p:cNvSpPr/>
            <p:nvPr/>
          </p:nvSpPr>
          <p:spPr>
            <a:xfrm>
              <a:off x="325080" y="3307320"/>
              <a:ext cx="25610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PurchaseTicket</a:t>
              </a: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Textual Use Case 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Description Example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33520" y="1472760"/>
            <a:ext cx="392256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3300"/>
                </a:solidFill>
                <a:latin typeface="Verdana"/>
              </a:rPr>
              <a:t>1. Name: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rchase ticke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3300"/>
                </a:solidFill>
                <a:latin typeface="Verdana"/>
              </a:rPr>
              <a:t>2. Participating actor: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asseng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3300"/>
                </a:solidFill>
                <a:latin typeface="Verdana"/>
              </a:rPr>
              <a:t>3. Entry condition: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assenger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stands in front of ticket distribut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assenger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has sufficient money to purchase ticke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3300"/>
                </a:solidFill>
                <a:latin typeface="Verdana"/>
              </a:rPr>
              <a:t>4. Exit condition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assenger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has ticke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11240" y="1510920"/>
            <a:ext cx="392292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3300"/>
                </a:solidFill>
                <a:latin typeface="Verdana"/>
              </a:rPr>
              <a:t>5. Flow of event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.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assenger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selects the number of zones to be travele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. </a:t>
            </a:r>
            <a:r>
              <a:rPr b="0" lang="en-US" sz="1800" spc="-1" strike="noStrike">
                <a:solidFill>
                  <a:srgbClr val="000000"/>
                </a:solidFill>
                <a:latin typeface="ヒラギノ角ゴ Pro W3"/>
              </a:rPr>
              <a:t>_x0008_Ticket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istributor displays the amount du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3.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assenger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inserts money, at least the amount du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4. Ticket Distributor returns chang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5. Ticket Distributor issues ticke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6. Special requirements: Non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Text Box 5"/>
          <p:cNvSpPr/>
          <p:nvPr/>
        </p:nvSpPr>
        <p:spPr>
          <a:xfrm>
            <a:off x="5748480" y="4863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4" name="Text Box 6"/>
          <p:cNvSpPr/>
          <p:nvPr/>
        </p:nvSpPr>
        <p:spPr>
          <a:xfrm>
            <a:off x="5780160" y="557064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grpSp>
        <p:nvGrpSpPr>
          <p:cNvPr id="155" name="Group 7"/>
          <p:cNvGrpSpPr/>
          <p:nvPr/>
        </p:nvGrpSpPr>
        <p:grpSpPr>
          <a:xfrm>
            <a:off x="4792320" y="150840"/>
            <a:ext cx="1098000" cy="1179000"/>
            <a:chOff x="4792320" y="150840"/>
            <a:chExt cx="1098000" cy="1179000"/>
          </a:xfrm>
        </p:grpSpPr>
        <p:grpSp>
          <p:nvGrpSpPr>
            <p:cNvPr id="156" name="Group 8"/>
            <p:cNvGrpSpPr/>
            <p:nvPr/>
          </p:nvGrpSpPr>
          <p:grpSpPr>
            <a:xfrm>
              <a:off x="5063400" y="150840"/>
              <a:ext cx="436680" cy="884160"/>
              <a:chOff x="5063400" y="150840"/>
              <a:chExt cx="436680" cy="884160"/>
            </a:xfrm>
          </p:grpSpPr>
          <p:sp>
            <p:nvSpPr>
              <p:cNvPr id="157" name="Freeform 9"/>
              <p:cNvSpPr/>
              <p:nvPr/>
            </p:nvSpPr>
            <p:spPr>
              <a:xfrm>
                <a:off x="5063400" y="332280"/>
                <a:ext cx="208800" cy="702720"/>
              </a:xfrm>
              <a:prstGeom prst="pie">
                <a:avLst/>
              </a:pr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158" name="Line 10"/>
              <p:cNvSpPr/>
              <p:nvPr/>
            </p:nvSpPr>
            <p:spPr>
              <a:xfrm>
                <a:off x="5272200" y="774360"/>
                <a:ext cx="227520" cy="260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159" name="Line 11"/>
              <p:cNvSpPr/>
              <p:nvPr/>
            </p:nvSpPr>
            <p:spPr>
              <a:xfrm>
                <a:off x="5063400" y="532440"/>
                <a:ext cx="43668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160" name="Oval 12"/>
              <p:cNvSpPr/>
              <p:nvPr/>
            </p:nvSpPr>
            <p:spPr>
              <a:xfrm>
                <a:off x="5168520" y="150840"/>
                <a:ext cx="226080" cy="26208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  <p:sp>
          <p:nvSpPr>
            <p:cNvPr id="161" name="Rectangle 13"/>
            <p:cNvSpPr/>
            <p:nvPr/>
          </p:nvSpPr>
          <p:spPr>
            <a:xfrm>
              <a:off x="4792320" y="1086120"/>
              <a:ext cx="1098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assenger</a:t>
              </a:r>
              <a:endParaRPr b="1" lang="en-US" sz="16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162" name="Group 14"/>
          <p:cNvGrpSpPr/>
          <p:nvPr/>
        </p:nvGrpSpPr>
        <p:grpSpPr>
          <a:xfrm>
            <a:off x="6579720" y="378000"/>
            <a:ext cx="1707480" cy="830160"/>
            <a:chOff x="6579720" y="378000"/>
            <a:chExt cx="1707480" cy="830160"/>
          </a:xfrm>
        </p:grpSpPr>
        <p:sp>
          <p:nvSpPr>
            <p:cNvPr id="163" name="Oval 15"/>
            <p:cNvSpPr/>
            <p:nvPr/>
          </p:nvSpPr>
          <p:spPr>
            <a:xfrm>
              <a:off x="6801840" y="378000"/>
              <a:ext cx="1316880" cy="5551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64" name="Rectangle 16"/>
            <p:cNvSpPr/>
            <p:nvPr/>
          </p:nvSpPr>
          <p:spPr>
            <a:xfrm>
              <a:off x="6579720" y="964440"/>
              <a:ext cx="1707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urchaseTicket</a:t>
              </a:r>
              <a:endParaRPr b="1" lang="en-US" sz="16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sp>
        <p:nvSpPr>
          <p:cNvPr id="165" name="Line 17"/>
          <p:cNvSpPr/>
          <p:nvPr/>
        </p:nvSpPr>
        <p:spPr>
          <a:xfrm>
            <a:off x="5540400" y="628560"/>
            <a:ext cx="1270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Uses Cases can be related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Extends Relationship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 represent seldom invoked use cases or exceptional functionalit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Includes Relationship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 represent functional behavior common to more than one use cas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The </a:t>
            </a:r>
            <a:r>
              <a:rPr b="1" i="1" lang="en-US" sz="3000" spc="-1" strike="noStrike">
                <a:solidFill>
                  <a:srgbClr val="000000"/>
                </a:solidFill>
                <a:latin typeface="Century Gothic"/>
              </a:rPr>
              <a:t>&lt;&lt;extends&gt;&gt;</a:t>
            </a:r>
            <a:r>
              <a:rPr b="1" i="1" lang="en-US" sz="26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Relationship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0" y="856800"/>
            <a:ext cx="447048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&lt;extends&gt;&gt;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relationships model exceptional or seldom invoked cas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exceptional event flows are factored out of the main event flow for clarit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direction of a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&lt;extends&gt;&gt;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relationship is to the extended use case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se cases representing exceptional flows can extend more than one use cas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70" name="Group 47"/>
          <p:cNvGrpSpPr/>
          <p:nvPr/>
        </p:nvGrpSpPr>
        <p:grpSpPr>
          <a:xfrm>
            <a:off x="2135160" y="1271520"/>
            <a:ext cx="1920960" cy="2357640"/>
            <a:chOff x="2135160" y="1271520"/>
            <a:chExt cx="1920960" cy="2357640"/>
          </a:xfrm>
        </p:grpSpPr>
        <p:grpSp>
          <p:nvGrpSpPr>
            <p:cNvPr id="171" name="Group 18"/>
            <p:cNvGrpSpPr/>
            <p:nvPr/>
          </p:nvGrpSpPr>
          <p:grpSpPr>
            <a:xfrm>
              <a:off x="2476440" y="1271520"/>
              <a:ext cx="1235160" cy="1101960"/>
              <a:chOff x="2476440" y="1271520"/>
              <a:chExt cx="1235160" cy="1101960"/>
            </a:xfrm>
          </p:grpSpPr>
          <p:grpSp>
            <p:nvGrpSpPr>
              <p:cNvPr id="172" name="Group 6"/>
              <p:cNvGrpSpPr/>
              <p:nvPr/>
            </p:nvGrpSpPr>
            <p:grpSpPr>
              <a:xfrm>
                <a:off x="2868480" y="1271520"/>
                <a:ext cx="444600" cy="782640"/>
                <a:chOff x="2868480" y="1271520"/>
                <a:chExt cx="444600" cy="782640"/>
              </a:xfrm>
            </p:grpSpPr>
            <p:sp>
              <p:nvSpPr>
                <p:cNvPr id="173" name="Freeform 7"/>
                <p:cNvSpPr/>
                <p:nvPr/>
              </p:nvSpPr>
              <p:spPr>
                <a:xfrm>
                  <a:off x="2868480" y="1432080"/>
                  <a:ext cx="212400" cy="622080"/>
                </a:xfrm>
                <a:prstGeom prst="pie">
                  <a:avLst/>
                </a:pr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  <p:sp>
              <p:nvSpPr>
                <p:cNvPr id="174" name="Line 8"/>
                <p:cNvSpPr/>
                <p:nvPr/>
              </p:nvSpPr>
              <p:spPr>
                <a:xfrm>
                  <a:off x="3080880" y="1823400"/>
                  <a:ext cx="231840" cy="2304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  <p:sp>
              <p:nvSpPr>
                <p:cNvPr id="175" name="Line 9"/>
                <p:cNvSpPr/>
                <p:nvPr/>
              </p:nvSpPr>
              <p:spPr>
                <a:xfrm>
                  <a:off x="2868480" y="1609200"/>
                  <a:ext cx="444600" cy="1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  <p:sp>
              <p:nvSpPr>
                <p:cNvPr id="176" name="Oval 10"/>
                <p:cNvSpPr/>
                <p:nvPr/>
              </p:nvSpPr>
              <p:spPr>
                <a:xfrm>
                  <a:off x="2975400" y="1271520"/>
                  <a:ext cx="230040" cy="23184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7" name="Rectangle 11"/>
              <p:cNvSpPr/>
              <p:nvPr/>
            </p:nvSpPr>
            <p:spPr>
              <a:xfrm>
                <a:off x="2476440" y="2098800"/>
                <a:ext cx="12351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Passenger</a:t>
                </a: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  <p:grpSp>
          <p:nvGrpSpPr>
            <p:cNvPr id="178" name="Group 17"/>
            <p:cNvGrpSpPr/>
            <p:nvPr/>
          </p:nvGrpSpPr>
          <p:grpSpPr>
            <a:xfrm>
              <a:off x="2135160" y="2849400"/>
              <a:ext cx="1920960" cy="779760"/>
              <a:chOff x="2135160" y="2849400"/>
              <a:chExt cx="1920960" cy="779760"/>
            </a:xfrm>
          </p:grpSpPr>
          <p:sp>
            <p:nvSpPr>
              <p:cNvPr id="179" name="Oval 13"/>
              <p:cNvSpPr/>
              <p:nvPr/>
            </p:nvSpPr>
            <p:spPr>
              <a:xfrm>
                <a:off x="2530440" y="2849400"/>
                <a:ext cx="1120680" cy="4780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180" name="Rectangle 14"/>
              <p:cNvSpPr/>
              <p:nvPr/>
            </p:nvSpPr>
            <p:spPr>
              <a:xfrm>
                <a:off x="2135160" y="3354480"/>
                <a:ext cx="19209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PurchaseTicket</a:t>
                </a: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  <p:sp>
          <p:nvSpPr>
            <p:cNvPr id="181" name="Line 15"/>
            <p:cNvSpPr/>
            <p:nvPr/>
          </p:nvSpPr>
          <p:spPr>
            <a:xfrm flipH="1">
              <a:off x="3088800" y="2449440"/>
              <a:ext cx="1800" cy="320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182" name="Group 37"/>
          <p:cNvGrpSpPr/>
          <p:nvPr/>
        </p:nvGrpSpPr>
        <p:grpSpPr>
          <a:xfrm>
            <a:off x="5985000" y="4900680"/>
            <a:ext cx="1120680" cy="779760"/>
            <a:chOff x="5985000" y="4900680"/>
            <a:chExt cx="1120680" cy="779760"/>
          </a:xfrm>
        </p:grpSpPr>
        <p:sp>
          <p:nvSpPr>
            <p:cNvPr id="183" name="Oval 33"/>
            <p:cNvSpPr/>
            <p:nvPr/>
          </p:nvSpPr>
          <p:spPr>
            <a:xfrm>
              <a:off x="5985000" y="4900680"/>
              <a:ext cx="1120680" cy="478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84" name="Rectangle 34"/>
            <p:cNvSpPr/>
            <p:nvPr/>
          </p:nvSpPr>
          <p:spPr>
            <a:xfrm>
              <a:off x="6066000" y="5405760"/>
              <a:ext cx="9608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TimeOut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185" name="Group 59"/>
          <p:cNvGrpSpPr/>
          <p:nvPr/>
        </p:nvGrpSpPr>
        <p:grpSpPr>
          <a:xfrm>
            <a:off x="3598920" y="3821040"/>
            <a:ext cx="2279160" cy="1464120"/>
            <a:chOff x="3598920" y="3821040"/>
            <a:chExt cx="2279160" cy="1464120"/>
          </a:xfrm>
        </p:grpSpPr>
        <p:sp>
          <p:nvSpPr>
            <p:cNvPr id="186" name="Line 43"/>
            <p:cNvSpPr/>
            <p:nvPr/>
          </p:nvSpPr>
          <p:spPr>
            <a:xfrm>
              <a:off x="3598920" y="3821040"/>
              <a:ext cx="2259000" cy="1197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87" name="Text Box 44"/>
            <p:cNvSpPr/>
            <p:nvPr/>
          </p:nvSpPr>
          <p:spPr>
            <a:xfrm>
              <a:off x="4356360" y="4947840"/>
              <a:ext cx="1521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&lt;&lt;extends&gt;&gt;</a:t>
              </a:r>
              <a:endParaRPr b="1" lang="en-US" sz="16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188" name="Group 53"/>
          <p:cNvGrpSpPr/>
          <p:nvPr/>
        </p:nvGrpSpPr>
        <p:grpSpPr>
          <a:xfrm>
            <a:off x="4162320" y="5707080"/>
            <a:ext cx="1120680" cy="779400"/>
            <a:chOff x="4162320" y="5707080"/>
            <a:chExt cx="1120680" cy="779400"/>
          </a:xfrm>
        </p:grpSpPr>
        <p:sp>
          <p:nvSpPr>
            <p:cNvPr id="189" name="Oval 27"/>
            <p:cNvSpPr/>
            <p:nvPr/>
          </p:nvSpPr>
          <p:spPr>
            <a:xfrm>
              <a:off x="4162320" y="5707080"/>
              <a:ext cx="1120680" cy="477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90" name="Rectangle 28"/>
            <p:cNvSpPr/>
            <p:nvPr/>
          </p:nvSpPr>
          <p:spPr>
            <a:xfrm>
              <a:off x="4174560" y="6211800"/>
              <a:ext cx="1098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NoChange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191" name="Group 57"/>
          <p:cNvGrpSpPr/>
          <p:nvPr/>
        </p:nvGrpSpPr>
        <p:grpSpPr>
          <a:xfrm>
            <a:off x="2972160" y="3795840"/>
            <a:ext cx="1615680" cy="1845000"/>
            <a:chOff x="2972160" y="3795840"/>
            <a:chExt cx="1615680" cy="1845000"/>
          </a:xfrm>
        </p:grpSpPr>
        <p:sp>
          <p:nvSpPr>
            <p:cNvPr id="192" name="Line 42"/>
            <p:cNvSpPr/>
            <p:nvPr/>
          </p:nvSpPr>
          <p:spPr>
            <a:xfrm>
              <a:off x="3319560" y="3795840"/>
              <a:ext cx="1268280" cy="180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93" name="Text Box 45"/>
            <p:cNvSpPr/>
            <p:nvPr/>
          </p:nvSpPr>
          <p:spPr>
            <a:xfrm>
              <a:off x="2972160" y="5303520"/>
              <a:ext cx="1521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&lt;&lt;extends&gt;&gt;</a:t>
              </a:r>
              <a:endParaRPr b="1" lang="en-US" sz="16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194" name="Group 35"/>
          <p:cNvGrpSpPr/>
          <p:nvPr/>
        </p:nvGrpSpPr>
        <p:grpSpPr>
          <a:xfrm>
            <a:off x="222120" y="4799160"/>
            <a:ext cx="1384920" cy="779400"/>
            <a:chOff x="222120" y="4799160"/>
            <a:chExt cx="1384920" cy="779400"/>
          </a:xfrm>
        </p:grpSpPr>
        <p:sp>
          <p:nvSpPr>
            <p:cNvPr id="195" name="Oval 21"/>
            <p:cNvSpPr/>
            <p:nvPr/>
          </p:nvSpPr>
          <p:spPr>
            <a:xfrm>
              <a:off x="222120" y="4799160"/>
              <a:ext cx="1121040" cy="477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96" name="Rectangle 22"/>
            <p:cNvSpPr/>
            <p:nvPr/>
          </p:nvSpPr>
          <p:spPr>
            <a:xfrm>
              <a:off x="234720" y="5303880"/>
              <a:ext cx="1372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OutOfOrder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197" name="Group 55"/>
          <p:cNvGrpSpPr/>
          <p:nvPr/>
        </p:nvGrpSpPr>
        <p:grpSpPr>
          <a:xfrm>
            <a:off x="470160" y="3757680"/>
            <a:ext cx="2150280" cy="968400"/>
            <a:chOff x="470160" y="3757680"/>
            <a:chExt cx="2150280" cy="968400"/>
          </a:xfrm>
        </p:grpSpPr>
        <p:sp>
          <p:nvSpPr>
            <p:cNvPr id="198" name="Line 40"/>
            <p:cNvSpPr/>
            <p:nvPr/>
          </p:nvSpPr>
          <p:spPr>
            <a:xfrm flipH="1">
              <a:off x="1158480" y="3757680"/>
              <a:ext cx="1461960" cy="968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99" name="Text Box 46"/>
            <p:cNvSpPr/>
            <p:nvPr/>
          </p:nvSpPr>
          <p:spPr>
            <a:xfrm>
              <a:off x="470160" y="3970080"/>
              <a:ext cx="1521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&lt;&lt;extends&gt;&gt;</a:t>
              </a:r>
              <a:endParaRPr b="1" lang="en-US" sz="16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200" name="Group 38"/>
          <p:cNvGrpSpPr/>
          <p:nvPr/>
        </p:nvGrpSpPr>
        <p:grpSpPr>
          <a:xfrm>
            <a:off x="2071800" y="5707080"/>
            <a:ext cx="1120680" cy="779400"/>
            <a:chOff x="2071800" y="5707080"/>
            <a:chExt cx="1120680" cy="779400"/>
          </a:xfrm>
        </p:grpSpPr>
        <p:sp>
          <p:nvSpPr>
            <p:cNvPr id="201" name="Oval 24"/>
            <p:cNvSpPr/>
            <p:nvPr/>
          </p:nvSpPr>
          <p:spPr>
            <a:xfrm>
              <a:off x="2071800" y="5707080"/>
              <a:ext cx="1120680" cy="477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202" name="Rectangle 25"/>
            <p:cNvSpPr/>
            <p:nvPr/>
          </p:nvSpPr>
          <p:spPr>
            <a:xfrm>
              <a:off x="2153520" y="6211800"/>
              <a:ext cx="823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Cancel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203" name="Group 56"/>
          <p:cNvGrpSpPr/>
          <p:nvPr/>
        </p:nvGrpSpPr>
        <p:grpSpPr>
          <a:xfrm>
            <a:off x="1465560" y="3782880"/>
            <a:ext cx="1521720" cy="1844640"/>
            <a:chOff x="1465560" y="3782880"/>
            <a:chExt cx="1521720" cy="1844640"/>
          </a:xfrm>
        </p:grpSpPr>
        <p:sp>
          <p:nvSpPr>
            <p:cNvPr id="204" name="Line 41"/>
            <p:cNvSpPr/>
            <p:nvPr/>
          </p:nvSpPr>
          <p:spPr>
            <a:xfrm flipH="1">
              <a:off x="2776680" y="3782880"/>
              <a:ext cx="141120" cy="1844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205" name="Text Box 48"/>
            <p:cNvSpPr/>
            <p:nvPr/>
          </p:nvSpPr>
          <p:spPr>
            <a:xfrm>
              <a:off x="1465560" y="4630320"/>
              <a:ext cx="1521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&lt;&lt;extends&gt;&gt;</a:t>
              </a:r>
              <a:endParaRPr b="1" lang="en-US" sz="16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The </a:t>
            </a:r>
            <a:r>
              <a:rPr b="1" i="1" lang="en-US" sz="3000" spc="-1" strike="noStrike">
                <a:solidFill>
                  <a:srgbClr val="000000"/>
                </a:solidFill>
                <a:latin typeface="Courier New"/>
              </a:rPr>
              <a:t>&lt;&lt;includes&gt;&gt;</a:t>
            </a:r>
            <a:r>
              <a:rPr b="1" i="1" lang="en-US" sz="2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Relationship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952880" y="1085400"/>
            <a:ext cx="419112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&lt;includes&gt;&gt;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relationship represents common functionality needed in more than one use cas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&lt;includes&gt;&gt;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behavior is factored out for reuse, not because it is an excep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direction of a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&lt;includes&gt;&gt;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relationship is to the using use case (unlike  the direction of th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&lt;extends&gt;&gt;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relationship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08" name="Group 6"/>
          <p:cNvGrpSpPr/>
          <p:nvPr/>
        </p:nvGrpSpPr>
        <p:grpSpPr>
          <a:xfrm>
            <a:off x="876240" y="1284120"/>
            <a:ext cx="1235160" cy="1101960"/>
            <a:chOff x="876240" y="1284120"/>
            <a:chExt cx="1235160" cy="1101960"/>
          </a:xfrm>
        </p:grpSpPr>
        <p:grpSp>
          <p:nvGrpSpPr>
            <p:cNvPr id="209" name="Group 7"/>
            <p:cNvGrpSpPr/>
            <p:nvPr/>
          </p:nvGrpSpPr>
          <p:grpSpPr>
            <a:xfrm>
              <a:off x="1268280" y="1284120"/>
              <a:ext cx="444600" cy="782640"/>
              <a:chOff x="1268280" y="1284120"/>
              <a:chExt cx="444600" cy="782640"/>
            </a:xfrm>
          </p:grpSpPr>
          <p:sp>
            <p:nvSpPr>
              <p:cNvPr id="210" name="Freeform 8"/>
              <p:cNvSpPr/>
              <p:nvPr/>
            </p:nvSpPr>
            <p:spPr>
              <a:xfrm>
                <a:off x="1268280" y="1444680"/>
                <a:ext cx="212400" cy="622080"/>
              </a:xfrm>
              <a:prstGeom prst="pie">
                <a:avLst/>
              </a:pr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211" name="Line 9"/>
              <p:cNvSpPr/>
              <p:nvPr/>
            </p:nvSpPr>
            <p:spPr>
              <a:xfrm>
                <a:off x="1480680" y="1836000"/>
                <a:ext cx="231840" cy="230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212" name="Line 10"/>
              <p:cNvSpPr/>
              <p:nvPr/>
            </p:nvSpPr>
            <p:spPr>
              <a:xfrm>
                <a:off x="1268280" y="1621800"/>
                <a:ext cx="444600" cy="1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213" name="Oval 11"/>
              <p:cNvSpPr/>
              <p:nvPr/>
            </p:nvSpPr>
            <p:spPr>
              <a:xfrm>
                <a:off x="1375200" y="1284120"/>
                <a:ext cx="230040" cy="23184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  <p:sp>
          <p:nvSpPr>
            <p:cNvPr id="214" name="Rectangle 12"/>
            <p:cNvSpPr/>
            <p:nvPr/>
          </p:nvSpPr>
          <p:spPr>
            <a:xfrm>
              <a:off x="876240" y="2111400"/>
              <a:ext cx="1235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Passenger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215" name="Group 38"/>
          <p:cNvGrpSpPr/>
          <p:nvPr/>
        </p:nvGrpSpPr>
        <p:grpSpPr>
          <a:xfrm>
            <a:off x="153720" y="2862360"/>
            <a:ext cx="2743920" cy="779400"/>
            <a:chOff x="153720" y="2862360"/>
            <a:chExt cx="2743920" cy="779400"/>
          </a:xfrm>
        </p:grpSpPr>
        <p:sp>
          <p:nvSpPr>
            <p:cNvPr id="216" name="Oval 14"/>
            <p:cNvSpPr/>
            <p:nvPr/>
          </p:nvSpPr>
          <p:spPr>
            <a:xfrm>
              <a:off x="959040" y="2862360"/>
              <a:ext cx="1120680" cy="477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217" name="Rectangle 15"/>
            <p:cNvSpPr/>
            <p:nvPr/>
          </p:nvSpPr>
          <p:spPr>
            <a:xfrm>
              <a:off x="153720" y="3367080"/>
              <a:ext cx="2743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PurchaseSingleTicket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sp>
        <p:nvSpPr>
          <p:cNvPr id="218" name="Line 16"/>
          <p:cNvSpPr/>
          <p:nvPr/>
        </p:nvSpPr>
        <p:spPr>
          <a:xfrm flipH="1">
            <a:off x="1488600" y="2462040"/>
            <a:ext cx="1800" cy="320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grpSp>
        <p:nvGrpSpPr>
          <p:cNvPr id="219" name="Group 53"/>
          <p:cNvGrpSpPr/>
          <p:nvPr/>
        </p:nvGrpSpPr>
        <p:grpSpPr>
          <a:xfrm>
            <a:off x="2227320" y="2017800"/>
            <a:ext cx="2723040" cy="1166760"/>
            <a:chOff x="2227320" y="2017800"/>
            <a:chExt cx="2723040" cy="1166760"/>
          </a:xfrm>
        </p:grpSpPr>
        <p:sp>
          <p:nvSpPr>
            <p:cNvPr id="220" name="Oval 18"/>
            <p:cNvSpPr/>
            <p:nvPr/>
          </p:nvSpPr>
          <p:spPr>
            <a:xfrm>
              <a:off x="3218040" y="2405160"/>
              <a:ext cx="1120680" cy="477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221" name="Rectangle 19"/>
            <p:cNvSpPr/>
            <p:nvPr/>
          </p:nvSpPr>
          <p:spPr>
            <a:xfrm>
              <a:off x="2617920" y="2909880"/>
              <a:ext cx="2332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PurchaseMultiCard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222" name="Line 20"/>
            <p:cNvSpPr/>
            <p:nvPr/>
          </p:nvSpPr>
          <p:spPr>
            <a:xfrm>
              <a:off x="2227320" y="2017800"/>
              <a:ext cx="1116000" cy="371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223" name="Group 42"/>
          <p:cNvGrpSpPr/>
          <p:nvPr/>
        </p:nvGrpSpPr>
        <p:grpSpPr>
          <a:xfrm>
            <a:off x="3191040" y="3236760"/>
            <a:ext cx="1955160" cy="1070280"/>
            <a:chOff x="3191040" y="3236760"/>
            <a:chExt cx="1955160" cy="1070280"/>
          </a:xfrm>
        </p:grpSpPr>
        <p:sp>
          <p:nvSpPr>
            <p:cNvPr id="224" name="Line 36"/>
            <p:cNvSpPr/>
            <p:nvPr/>
          </p:nvSpPr>
          <p:spPr>
            <a:xfrm flipH="1">
              <a:off x="3191040" y="3236760"/>
              <a:ext cx="522000" cy="1070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225" name="Text Box 39"/>
            <p:cNvSpPr/>
            <p:nvPr/>
          </p:nvSpPr>
          <p:spPr>
            <a:xfrm>
              <a:off x="3502440" y="3652560"/>
              <a:ext cx="1643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&lt;&lt;includes&gt;&gt;</a:t>
              </a:r>
              <a:endParaRPr b="1" lang="en-US" sz="16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226" name="Group 33"/>
          <p:cNvGrpSpPr/>
          <p:nvPr/>
        </p:nvGrpSpPr>
        <p:grpSpPr>
          <a:xfrm>
            <a:off x="2198520" y="4386240"/>
            <a:ext cx="1646640" cy="779400"/>
            <a:chOff x="2198520" y="4386240"/>
            <a:chExt cx="1646640" cy="779400"/>
          </a:xfrm>
        </p:grpSpPr>
        <p:sp>
          <p:nvSpPr>
            <p:cNvPr id="227" name="Oval 22"/>
            <p:cNvSpPr/>
            <p:nvPr/>
          </p:nvSpPr>
          <p:spPr>
            <a:xfrm>
              <a:off x="2457360" y="4386240"/>
              <a:ext cx="1120680" cy="477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228" name="Rectangle 23"/>
            <p:cNvSpPr/>
            <p:nvPr/>
          </p:nvSpPr>
          <p:spPr>
            <a:xfrm>
              <a:off x="2198520" y="4890960"/>
              <a:ext cx="16466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CollectMoney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229" name="Group 45"/>
          <p:cNvGrpSpPr/>
          <p:nvPr/>
        </p:nvGrpSpPr>
        <p:grpSpPr>
          <a:xfrm>
            <a:off x="756000" y="3706920"/>
            <a:ext cx="2028600" cy="625320"/>
            <a:chOff x="756000" y="3706920"/>
            <a:chExt cx="2028600" cy="625320"/>
          </a:xfrm>
        </p:grpSpPr>
        <p:sp>
          <p:nvSpPr>
            <p:cNvPr id="230" name="Line 35"/>
            <p:cNvSpPr/>
            <p:nvPr/>
          </p:nvSpPr>
          <p:spPr>
            <a:xfrm>
              <a:off x="1681200" y="3706920"/>
              <a:ext cx="1103400" cy="625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231" name="Text Box 40"/>
            <p:cNvSpPr/>
            <p:nvPr/>
          </p:nvSpPr>
          <p:spPr>
            <a:xfrm>
              <a:off x="756000" y="3982680"/>
              <a:ext cx="1643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&lt;&lt;includes&gt;&gt;</a:t>
              </a:r>
              <a:endParaRPr b="1" lang="en-US" sz="16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232" name="Group 52"/>
          <p:cNvGrpSpPr/>
          <p:nvPr/>
        </p:nvGrpSpPr>
        <p:grpSpPr>
          <a:xfrm>
            <a:off x="368640" y="5011200"/>
            <a:ext cx="5544360" cy="1383480"/>
            <a:chOff x="368640" y="5011200"/>
            <a:chExt cx="5544360" cy="1383480"/>
          </a:xfrm>
        </p:grpSpPr>
        <p:grpSp>
          <p:nvGrpSpPr>
            <p:cNvPr id="233" name="Group 43"/>
            <p:cNvGrpSpPr/>
            <p:nvPr/>
          </p:nvGrpSpPr>
          <p:grpSpPr>
            <a:xfrm>
              <a:off x="368640" y="5011200"/>
              <a:ext cx="1654920" cy="1272240"/>
              <a:chOff x="368640" y="5011200"/>
              <a:chExt cx="1654920" cy="1272240"/>
            </a:xfrm>
          </p:grpSpPr>
          <p:grpSp>
            <p:nvGrpSpPr>
              <p:cNvPr id="234" name="Group 24"/>
              <p:cNvGrpSpPr/>
              <p:nvPr/>
            </p:nvGrpSpPr>
            <p:grpSpPr>
              <a:xfrm>
                <a:off x="743040" y="5504040"/>
                <a:ext cx="1120680" cy="779400"/>
                <a:chOff x="743040" y="5504040"/>
                <a:chExt cx="1120680" cy="779400"/>
              </a:xfrm>
            </p:grpSpPr>
            <p:sp>
              <p:nvSpPr>
                <p:cNvPr id="235" name="Oval 25"/>
                <p:cNvSpPr/>
                <p:nvPr/>
              </p:nvSpPr>
              <p:spPr>
                <a:xfrm>
                  <a:off x="743040" y="5504040"/>
                  <a:ext cx="1120680" cy="47772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  <p:sp>
              <p:nvSpPr>
                <p:cNvPr id="236" name="Rectangle 26"/>
                <p:cNvSpPr/>
                <p:nvPr/>
              </p:nvSpPr>
              <p:spPr>
                <a:xfrm>
                  <a:off x="754920" y="6008760"/>
                  <a:ext cx="1098000" cy="27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NoChange</a:t>
                  </a:r>
                  <a:endParaRPr b="1" lang="en-US" sz="18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7" name="Line 30"/>
              <p:cNvSpPr/>
              <p:nvPr/>
            </p:nvSpPr>
            <p:spPr>
              <a:xfrm flipH="1">
                <a:off x="1539360" y="5091120"/>
                <a:ext cx="484200" cy="307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238" name="Text Box 31"/>
              <p:cNvSpPr/>
              <p:nvPr/>
            </p:nvSpPr>
            <p:spPr>
              <a:xfrm>
                <a:off x="368640" y="5011200"/>
                <a:ext cx="1521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urier New"/>
                  </a:rPr>
                  <a:t>&lt;&lt;extends&gt;&gt;</a:t>
                </a:r>
                <a:endParaRPr b="1" lang="en-US" sz="16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  <p:grpSp>
          <p:nvGrpSpPr>
            <p:cNvPr id="239" name="Group 44"/>
            <p:cNvGrpSpPr/>
            <p:nvPr/>
          </p:nvGrpSpPr>
          <p:grpSpPr>
            <a:xfrm>
              <a:off x="4078440" y="5074920"/>
              <a:ext cx="1834560" cy="1208880"/>
              <a:chOff x="4078440" y="5074920"/>
              <a:chExt cx="1834560" cy="1208880"/>
            </a:xfrm>
          </p:grpSpPr>
          <p:grpSp>
            <p:nvGrpSpPr>
              <p:cNvPr id="240" name="Group 27"/>
              <p:cNvGrpSpPr/>
              <p:nvPr/>
            </p:nvGrpSpPr>
            <p:grpSpPr>
              <a:xfrm>
                <a:off x="4216680" y="5504040"/>
                <a:ext cx="1120680" cy="779760"/>
                <a:chOff x="4216680" y="5504040"/>
                <a:chExt cx="1120680" cy="779760"/>
              </a:xfrm>
            </p:grpSpPr>
            <p:sp>
              <p:nvSpPr>
                <p:cNvPr id="241" name="Oval 28"/>
                <p:cNvSpPr/>
                <p:nvPr/>
              </p:nvSpPr>
              <p:spPr>
                <a:xfrm>
                  <a:off x="4216680" y="5504040"/>
                  <a:ext cx="1120680" cy="47808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  <p:sp>
              <p:nvSpPr>
                <p:cNvPr id="242" name="Rectangle 29"/>
                <p:cNvSpPr/>
                <p:nvPr/>
              </p:nvSpPr>
              <p:spPr>
                <a:xfrm>
                  <a:off x="4296960" y="6009120"/>
                  <a:ext cx="823680" cy="27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Cancel</a:t>
                  </a:r>
                  <a:endParaRPr b="1" lang="en-US" sz="18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43" name="Line 32"/>
              <p:cNvSpPr/>
              <p:nvPr/>
            </p:nvSpPr>
            <p:spPr>
              <a:xfrm>
                <a:off x="4078440" y="5141880"/>
                <a:ext cx="455400" cy="295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244" name="Text Box 34"/>
              <p:cNvSpPr/>
              <p:nvPr/>
            </p:nvSpPr>
            <p:spPr>
              <a:xfrm>
                <a:off x="4391280" y="5074920"/>
                <a:ext cx="1521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urier New"/>
                  </a:rPr>
                  <a:t>&lt;&lt;extends&gt;&gt;</a:t>
                </a:r>
                <a:endParaRPr b="1" lang="en-US" sz="16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  <p:grpSp>
          <p:nvGrpSpPr>
            <p:cNvPr id="245" name="Group 47"/>
            <p:cNvGrpSpPr/>
            <p:nvPr/>
          </p:nvGrpSpPr>
          <p:grpSpPr>
            <a:xfrm>
              <a:off x="2371680" y="5614920"/>
              <a:ext cx="1120680" cy="779760"/>
              <a:chOff x="2371680" y="5614920"/>
              <a:chExt cx="1120680" cy="779760"/>
            </a:xfrm>
          </p:grpSpPr>
          <p:sp>
            <p:nvSpPr>
              <p:cNvPr id="246" name="Oval 48"/>
              <p:cNvSpPr/>
              <p:nvPr/>
            </p:nvSpPr>
            <p:spPr>
              <a:xfrm>
                <a:off x="2371680" y="5614920"/>
                <a:ext cx="1120680" cy="4780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247" name="Rectangle 49"/>
              <p:cNvSpPr/>
              <p:nvPr/>
            </p:nvSpPr>
            <p:spPr>
              <a:xfrm>
                <a:off x="2451960" y="6120000"/>
                <a:ext cx="8236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Cancel</a:t>
                </a: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  <p:sp>
          <p:nvSpPr>
            <p:cNvPr id="248" name="Line 50"/>
            <p:cNvSpPr/>
            <p:nvPr/>
          </p:nvSpPr>
          <p:spPr>
            <a:xfrm flipH="1">
              <a:off x="2690280" y="5140440"/>
              <a:ext cx="135000" cy="449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249" name="Text Box 51"/>
            <p:cNvSpPr/>
            <p:nvPr/>
          </p:nvSpPr>
          <p:spPr>
            <a:xfrm>
              <a:off x="2791080" y="5208120"/>
              <a:ext cx="1521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&lt;&lt;extends&gt;&gt;</a:t>
              </a:r>
              <a:endParaRPr b="1" lang="en-US" sz="16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Class Diagrams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88520" y="1284120"/>
            <a:ext cx="8001000" cy="282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ass diagrams represent the structure of the syste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2960" indent="-2829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78600" indent="-22608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uring requirements analysis to model application domain concep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78600" indent="-22608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uring system design to model subsystem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78600" indent="-22608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uring object design to specify the detailed behavior and attributes of class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29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52" name="Group 47"/>
          <p:cNvGrpSpPr/>
          <p:nvPr/>
        </p:nvGrpSpPr>
        <p:grpSpPr>
          <a:xfrm>
            <a:off x="538200" y="4516560"/>
            <a:ext cx="8199000" cy="1419120"/>
            <a:chOff x="538200" y="4516560"/>
            <a:chExt cx="8199000" cy="1419120"/>
          </a:xfrm>
        </p:grpSpPr>
        <p:sp>
          <p:nvSpPr>
            <p:cNvPr id="253" name="Text Box 5"/>
            <p:cNvSpPr/>
            <p:nvPr/>
          </p:nvSpPr>
          <p:spPr>
            <a:xfrm>
              <a:off x="611280" y="4900680"/>
              <a:ext cx="33098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Table zone2price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Enumeration getZones()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Price getPrice(Zone)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grpSp>
          <p:nvGrpSpPr>
            <p:cNvPr id="254" name="Group 6"/>
            <p:cNvGrpSpPr/>
            <p:nvPr/>
          </p:nvGrpSpPr>
          <p:grpSpPr>
            <a:xfrm>
              <a:off x="539640" y="4516560"/>
              <a:ext cx="3336840" cy="447480"/>
              <a:chOff x="539640" y="4516560"/>
              <a:chExt cx="3336840" cy="447480"/>
            </a:xfrm>
          </p:grpSpPr>
          <p:sp>
            <p:nvSpPr>
              <p:cNvPr id="255" name="Rectangle 7"/>
              <p:cNvSpPr/>
              <p:nvPr/>
            </p:nvSpPr>
            <p:spPr>
              <a:xfrm>
                <a:off x="539640" y="4516560"/>
                <a:ext cx="3336840" cy="447480"/>
              </a:xfrm>
              <a:prstGeom prst="rect">
                <a:avLst/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256" name="Rectangle 8"/>
              <p:cNvSpPr/>
              <p:nvPr/>
            </p:nvSpPr>
            <p:spPr>
              <a:xfrm>
                <a:off x="1313280" y="4665600"/>
                <a:ext cx="1783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TarifSchedule</a:t>
                </a: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  <p:sp>
          <p:nvSpPr>
            <p:cNvPr id="257" name="Rectangle 9"/>
            <p:cNvSpPr/>
            <p:nvPr/>
          </p:nvSpPr>
          <p:spPr>
            <a:xfrm>
              <a:off x="538200" y="4968720"/>
              <a:ext cx="3338640" cy="25740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258" name="Rectangle 10"/>
            <p:cNvSpPr/>
            <p:nvPr/>
          </p:nvSpPr>
          <p:spPr>
            <a:xfrm>
              <a:off x="538200" y="5235480"/>
              <a:ext cx="3335400" cy="58752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259" name="Line 22"/>
            <p:cNvSpPr/>
            <p:nvPr/>
          </p:nvSpPr>
          <p:spPr>
            <a:xfrm>
              <a:off x="3873600" y="5168880"/>
              <a:ext cx="2247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260" name="Text Box 29"/>
            <p:cNvSpPr/>
            <p:nvPr/>
          </p:nvSpPr>
          <p:spPr>
            <a:xfrm>
              <a:off x="4003920" y="5218560"/>
              <a:ext cx="29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261" name="Text Box 31"/>
            <p:cNvSpPr/>
            <p:nvPr/>
          </p:nvSpPr>
          <p:spPr>
            <a:xfrm>
              <a:off x="5764320" y="5244120"/>
              <a:ext cx="29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grpSp>
          <p:nvGrpSpPr>
            <p:cNvPr id="262" name="Group 36"/>
            <p:cNvGrpSpPr/>
            <p:nvPr/>
          </p:nvGrpSpPr>
          <p:grpSpPr>
            <a:xfrm>
              <a:off x="6118200" y="4621320"/>
              <a:ext cx="2619000" cy="447480"/>
              <a:chOff x="6118200" y="4621320"/>
              <a:chExt cx="2619000" cy="447480"/>
            </a:xfrm>
          </p:grpSpPr>
          <p:sp>
            <p:nvSpPr>
              <p:cNvPr id="263" name="Rectangle 37"/>
              <p:cNvSpPr/>
              <p:nvPr/>
            </p:nvSpPr>
            <p:spPr>
              <a:xfrm>
                <a:off x="6118200" y="4621320"/>
                <a:ext cx="2619000" cy="447480"/>
              </a:xfrm>
              <a:prstGeom prst="rect">
                <a:avLst/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264" name="Rectangle 38"/>
              <p:cNvSpPr/>
              <p:nvPr/>
            </p:nvSpPr>
            <p:spPr>
              <a:xfrm>
                <a:off x="7152840" y="4770360"/>
                <a:ext cx="5493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Trip</a:t>
                </a: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  <p:sp>
          <p:nvSpPr>
            <p:cNvPr id="265" name="Rectangle 39"/>
            <p:cNvSpPr/>
            <p:nvPr/>
          </p:nvSpPr>
          <p:spPr>
            <a:xfrm>
              <a:off x="6118200" y="5067360"/>
              <a:ext cx="2617920" cy="57456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266" name="Rectangle 40"/>
            <p:cNvSpPr/>
            <p:nvPr/>
          </p:nvSpPr>
          <p:spPr>
            <a:xfrm>
              <a:off x="6118200" y="5640480"/>
              <a:ext cx="2617920" cy="29520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grpSp>
          <p:nvGrpSpPr>
            <p:cNvPr id="267" name="Group 41"/>
            <p:cNvGrpSpPr/>
            <p:nvPr/>
          </p:nvGrpSpPr>
          <p:grpSpPr>
            <a:xfrm>
              <a:off x="6259320" y="5038560"/>
              <a:ext cx="1646640" cy="572760"/>
              <a:chOff x="6259320" y="5038560"/>
              <a:chExt cx="1646640" cy="572760"/>
            </a:xfrm>
          </p:grpSpPr>
          <p:sp>
            <p:nvSpPr>
              <p:cNvPr id="268" name="Rectangle 42"/>
              <p:cNvSpPr/>
              <p:nvPr/>
            </p:nvSpPr>
            <p:spPr>
              <a:xfrm>
                <a:off x="6532920" y="5038560"/>
                <a:ext cx="109800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269" name="Rectangle 43"/>
              <p:cNvSpPr/>
              <p:nvPr/>
            </p:nvSpPr>
            <p:spPr>
              <a:xfrm>
                <a:off x="6259320" y="5062320"/>
                <a:ext cx="164664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zone:Zone</a:t>
                </a: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Price: Price</a:t>
                </a: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Classes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33160" y="4311720"/>
            <a:ext cx="8001000" cy="682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280080" indent="-280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clas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represents a concep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0080" indent="-280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class encapsulates state 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(attributes)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and behavior 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(operation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72" name="Group 18"/>
          <p:cNvGrpSpPr/>
          <p:nvPr/>
        </p:nvGrpSpPr>
        <p:grpSpPr>
          <a:xfrm>
            <a:off x="5187960" y="922320"/>
            <a:ext cx="3635280" cy="1306440"/>
            <a:chOff x="5187960" y="922320"/>
            <a:chExt cx="3635280" cy="1306440"/>
          </a:xfrm>
        </p:grpSpPr>
        <p:sp>
          <p:nvSpPr>
            <p:cNvPr id="273" name="Text Box 13"/>
            <p:cNvSpPr/>
            <p:nvPr/>
          </p:nvSpPr>
          <p:spPr>
            <a:xfrm>
              <a:off x="5265720" y="1306440"/>
              <a:ext cx="3557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2eff2c"/>
                  </a:solidFill>
                  <a:latin typeface="Courier New"/>
                </a:rPr>
                <a:t>Table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zone2price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2eff2c"/>
                  </a:solidFill>
                  <a:latin typeface="Courier New"/>
                </a:rPr>
                <a:t>Enumeration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getZones()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2eff2c"/>
                  </a:solidFill>
                  <a:latin typeface="Courier New"/>
                </a:rPr>
                <a:t>Price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getPrice(</a:t>
              </a:r>
              <a:r>
                <a:rPr b="1" lang="en-US" sz="1800" spc="-1" strike="noStrike">
                  <a:solidFill>
                    <a:srgbClr val="2eff2c"/>
                  </a:solidFill>
                  <a:latin typeface="Courier New"/>
                </a:rPr>
                <a:t>Zone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)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274" name="Rectangle 14"/>
            <p:cNvSpPr/>
            <p:nvPr/>
          </p:nvSpPr>
          <p:spPr>
            <a:xfrm>
              <a:off x="5187960" y="922320"/>
              <a:ext cx="3578400" cy="44748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275" name="Rectangle 15"/>
            <p:cNvSpPr/>
            <p:nvPr/>
          </p:nvSpPr>
          <p:spPr>
            <a:xfrm>
              <a:off x="6084720" y="1071360"/>
              <a:ext cx="178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TarifSchedule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276" name="Rectangle 16"/>
            <p:cNvSpPr/>
            <p:nvPr/>
          </p:nvSpPr>
          <p:spPr>
            <a:xfrm>
              <a:off x="5191200" y="1374480"/>
              <a:ext cx="3573360" cy="25740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277" name="Rectangle 17"/>
            <p:cNvSpPr/>
            <p:nvPr/>
          </p:nvSpPr>
          <p:spPr>
            <a:xfrm>
              <a:off x="5199120" y="1641240"/>
              <a:ext cx="3573360" cy="58752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278" name="Group 32"/>
          <p:cNvGrpSpPr/>
          <p:nvPr/>
        </p:nvGrpSpPr>
        <p:grpSpPr>
          <a:xfrm>
            <a:off x="873000" y="1676520"/>
            <a:ext cx="4295880" cy="2222280"/>
            <a:chOff x="873000" y="1676520"/>
            <a:chExt cx="4295880" cy="2222280"/>
          </a:xfrm>
        </p:grpSpPr>
        <p:grpSp>
          <p:nvGrpSpPr>
            <p:cNvPr id="279" name="Group 28"/>
            <p:cNvGrpSpPr/>
            <p:nvPr/>
          </p:nvGrpSpPr>
          <p:grpSpPr>
            <a:xfrm>
              <a:off x="873000" y="2243160"/>
              <a:ext cx="2248200" cy="1306440"/>
              <a:chOff x="873000" y="2243160"/>
              <a:chExt cx="2248200" cy="1306440"/>
            </a:xfrm>
          </p:grpSpPr>
          <p:sp>
            <p:nvSpPr>
              <p:cNvPr id="280" name="Text Box 6"/>
              <p:cNvSpPr/>
              <p:nvPr/>
            </p:nvSpPr>
            <p:spPr>
              <a:xfrm>
                <a:off x="927000" y="2627280"/>
                <a:ext cx="219420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zone2price</a:t>
                </a: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getZones()</a:t>
                </a: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getPrice()</a:t>
                </a: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grpSp>
            <p:nvGrpSpPr>
              <p:cNvPr id="281" name="Group 24"/>
              <p:cNvGrpSpPr/>
              <p:nvPr/>
            </p:nvGrpSpPr>
            <p:grpSpPr>
              <a:xfrm>
                <a:off x="879480" y="2243160"/>
                <a:ext cx="2206800" cy="447480"/>
                <a:chOff x="879480" y="2243160"/>
                <a:chExt cx="2206800" cy="447480"/>
              </a:xfrm>
            </p:grpSpPr>
            <p:sp>
              <p:nvSpPr>
                <p:cNvPr id="282" name="Rectangle 7"/>
                <p:cNvSpPr/>
                <p:nvPr/>
              </p:nvSpPr>
              <p:spPr>
                <a:xfrm>
                  <a:off x="879480" y="2243160"/>
                  <a:ext cx="2206800" cy="447480"/>
                </a:xfrm>
                <a:prstGeom prst="rect">
                  <a:avLst/>
                </a:prstGeom>
                <a:noFill/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  <p:sp>
              <p:nvSpPr>
                <p:cNvPr id="283" name="Rectangle 8"/>
                <p:cNvSpPr/>
                <p:nvPr/>
              </p:nvSpPr>
              <p:spPr>
                <a:xfrm>
                  <a:off x="1090080" y="2392200"/>
                  <a:ext cx="1783800" cy="27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TarifSchedule</a:t>
                  </a:r>
                  <a:endParaRPr b="1" lang="en-US" sz="18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84" name="Rectangle 9"/>
              <p:cNvSpPr/>
              <p:nvPr/>
            </p:nvSpPr>
            <p:spPr>
              <a:xfrm>
                <a:off x="873000" y="2695680"/>
                <a:ext cx="2213280" cy="257040"/>
              </a:xfrm>
              <a:prstGeom prst="rect">
                <a:avLst/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285" name="Rectangle 10"/>
              <p:cNvSpPr/>
              <p:nvPr/>
            </p:nvSpPr>
            <p:spPr>
              <a:xfrm>
                <a:off x="878040" y="2962440"/>
                <a:ext cx="2211120" cy="587160"/>
              </a:xfrm>
              <a:prstGeom prst="rect">
                <a:avLst/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  <p:sp>
          <p:nvSpPr>
            <p:cNvPr id="286" name="AutoShape 19"/>
            <p:cNvSpPr/>
            <p:nvPr/>
          </p:nvSpPr>
          <p:spPr>
            <a:xfrm>
              <a:off x="3670200" y="1676520"/>
              <a:ext cx="1244880" cy="609480"/>
            </a:xfrm>
            <a:prstGeom prst="wedgeRoundRectCallout">
              <a:avLst>
                <a:gd name="adj1" fmla="val -91328"/>
                <a:gd name="adj2" fmla="val 86717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Name</a:t>
              </a: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287" name="AutoShape 20"/>
            <p:cNvSpPr/>
            <p:nvPr/>
          </p:nvSpPr>
          <p:spPr>
            <a:xfrm>
              <a:off x="3441600" y="2489040"/>
              <a:ext cx="1689120" cy="609840"/>
            </a:xfrm>
            <a:prstGeom prst="wedgeRoundRectCallout">
              <a:avLst>
                <a:gd name="adj1" fmla="val -68421"/>
                <a:gd name="adj2" fmla="val 9634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Attributes</a:t>
              </a: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288" name="AutoShape 21"/>
            <p:cNvSpPr/>
            <p:nvPr/>
          </p:nvSpPr>
          <p:spPr>
            <a:xfrm>
              <a:off x="3479760" y="3289320"/>
              <a:ext cx="1689120" cy="609480"/>
            </a:xfrm>
            <a:prstGeom prst="wedgeRoundRectCallout">
              <a:avLst>
                <a:gd name="adj1" fmla="val -72930"/>
                <a:gd name="adj2" fmla="val -59115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Operations</a:t>
              </a: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sp>
        <p:nvSpPr>
          <p:cNvPr id="289" name="AutoShape 23"/>
          <p:cNvSpPr/>
          <p:nvPr/>
        </p:nvSpPr>
        <p:spPr>
          <a:xfrm>
            <a:off x="6210360" y="2451240"/>
            <a:ext cx="1689120" cy="609480"/>
          </a:xfrm>
          <a:prstGeom prst="wedgeRoundRectCallout">
            <a:avLst>
              <a:gd name="adj1" fmla="val -74435"/>
              <a:gd name="adj2" fmla="val -94532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ignature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grpSp>
        <p:nvGrpSpPr>
          <p:cNvPr id="290" name="Group 25"/>
          <p:cNvGrpSpPr/>
          <p:nvPr/>
        </p:nvGrpSpPr>
        <p:grpSpPr>
          <a:xfrm>
            <a:off x="6315120" y="3309840"/>
            <a:ext cx="2206440" cy="447480"/>
            <a:chOff x="6315120" y="3309840"/>
            <a:chExt cx="2206440" cy="447480"/>
          </a:xfrm>
        </p:grpSpPr>
        <p:sp>
          <p:nvSpPr>
            <p:cNvPr id="291" name="Rectangle 26"/>
            <p:cNvSpPr/>
            <p:nvPr/>
          </p:nvSpPr>
          <p:spPr>
            <a:xfrm>
              <a:off x="6315120" y="3309840"/>
              <a:ext cx="2206440" cy="44748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292" name="Rectangle 27"/>
            <p:cNvSpPr/>
            <p:nvPr/>
          </p:nvSpPr>
          <p:spPr>
            <a:xfrm>
              <a:off x="6525360" y="3458880"/>
              <a:ext cx="178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TarifSchedule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sp>
        <p:nvSpPr>
          <p:cNvPr id="293" name="Rectangle 29"/>
          <p:cNvSpPr/>
          <p:nvPr/>
        </p:nvSpPr>
        <p:spPr>
          <a:xfrm>
            <a:off x="825480" y="6014880"/>
            <a:ext cx="668808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class name is the only mandatory information</a:t>
            </a:r>
            <a:endParaRPr b="1" lang="en-US" sz="2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94" name="Rectangle 30"/>
          <p:cNvSpPr/>
          <p:nvPr/>
        </p:nvSpPr>
        <p:spPr>
          <a:xfrm>
            <a:off x="1230480" y="5191200"/>
            <a:ext cx="656568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ach attribute has a 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type</a:t>
            </a:r>
            <a:endParaRPr b="1" lang="en-US" sz="20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ach operation has a 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signature</a:t>
            </a:r>
            <a:endParaRPr b="1" lang="en-US" sz="2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95" name="AutoShape 31"/>
          <p:cNvSpPr/>
          <p:nvPr/>
        </p:nvSpPr>
        <p:spPr>
          <a:xfrm>
            <a:off x="3060720" y="403200"/>
            <a:ext cx="1689120" cy="609480"/>
          </a:xfrm>
          <a:prstGeom prst="wedgeRoundRectCallout">
            <a:avLst>
              <a:gd name="adj1" fmla="val 84023"/>
              <a:gd name="adj2" fmla="val 126300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ype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Instances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4017600"/>
            <a:ext cx="8001000" cy="987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1000"/>
          </a:bodyPr>
          <a:p>
            <a:pPr marL="202680" indent="-2026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 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instanc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represents a phenomen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02680" indent="-2026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attributes are represented with their 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val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02680" indent="-2026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name of an instance is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underlined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02680" indent="-2026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name can contain only the class name of the instance (anonymous instanc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026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98" name="Group 12"/>
          <p:cNvGrpSpPr/>
          <p:nvPr/>
        </p:nvGrpSpPr>
        <p:grpSpPr>
          <a:xfrm>
            <a:off x="1071720" y="1392120"/>
            <a:ext cx="3555360" cy="1616040"/>
            <a:chOff x="1071720" y="1392120"/>
            <a:chExt cx="3555360" cy="1616040"/>
          </a:xfrm>
        </p:grpSpPr>
        <p:sp>
          <p:nvSpPr>
            <p:cNvPr id="299" name="Text Box 6"/>
            <p:cNvSpPr/>
            <p:nvPr/>
          </p:nvSpPr>
          <p:spPr>
            <a:xfrm>
              <a:off x="1149120" y="1776240"/>
              <a:ext cx="34779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zone2price = {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{‘1’, 0.20},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{‘2’, 0.40},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{‘3’, 0.60}}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grpSp>
          <p:nvGrpSpPr>
            <p:cNvPr id="300" name="Group 7"/>
            <p:cNvGrpSpPr/>
            <p:nvPr/>
          </p:nvGrpSpPr>
          <p:grpSpPr>
            <a:xfrm>
              <a:off x="1073160" y="1392120"/>
              <a:ext cx="3498120" cy="447480"/>
              <a:chOff x="1073160" y="1392120"/>
              <a:chExt cx="3498120" cy="447480"/>
            </a:xfrm>
          </p:grpSpPr>
          <p:sp>
            <p:nvSpPr>
              <p:cNvPr id="301" name="Rectangle 8"/>
              <p:cNvSpPr/>
              <p:nvPr/>
            </p:nvSpPr>
            <p:spPr>
              <a:xfrm>
                <a:off x="1073160" y="1392120"/>
                <a:ext cx="3498120" cy="447480"/>
              </a:xfrm>
              <a:prstGeom prst="rect">
                <a:avLst/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302" name="Rectangle 9"/>
              <p:cNvSpPr/>
              <p:nvPr/>
            </p:nvSpPr>
            <p:spPr>
              <a:xfrm>
                <a:off x="1244160" y="1541160"/>
                <a:ext cx="31554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 u="sng">
                    <a:solidFill>
                      <a:srgbClr val="000000"/>
                    </a:solidFill>
                    <a:uFillTx/>
                    <a:latin typeface="Courier New"/>
                  </a:rPr>
                  <a:t>tarif2006:TarifSchedule</a:t>
                </a: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  <p:sp>
          <p:nvSpPr>
            <p:cNvPr id="303" name="Rectangle 11"/>
            <p:cNvSpPr/>
            <p:nvPr/>
          </p:nvSpPr>
          <p:spPr>
            <a:xfrm>
              <a:off x="1071720" y="1836360"/>
              <a:ext cx="3504960" cy="117180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304" name="Group 13"/>
          <p:cNvGrpSpPr/>
          <p:nvPr/>
        </p:nvGrpSpPr>
        <p:grpSpPr>
          <a:xfrm>
            <a:off x="4856040" y="1409760"/>
            <a:ext cx="3556080" cy="1616040"/>
            <a:chOff x="4856040" y="1409760"/>
            <a:chExt cx="3556080" cy="1616040"/>
          </a:xfrm>
        </p:grpSpPr>
        <p:sp>
          <p:nvSpPr>
            <p:cNvPr id="305" name="Text Box 14"/>
            <p:cNvSpPr/>
            <p:nvPr/>
          </p:nvSpPr>
          <p:spPr>
            <a:xfrm>
              <a:off x="4933800" y="1793880"/>
              <a:ext cx="3478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zone2price = {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{‘1’, 0.20},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{‘2’, 0.40},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{‘3’, 0.60}}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grpSp>
          <p:nvGrpSpPr>
            <p:cNvPr id="306" name="Group 15"/>
            <p:cNvGrpSpPr/>
            <p:nvPr/>
          </p:nvGrpSpPr>
          <p:grpSpPr>
            <a:xfrm>
              <a:off x="4857840" y="1409760"/>
              <a:ext cx="3498480" cy="447480"/>
              <a:chOff x="4857840" y="1409760"/>
              <a:chExt cx="3498480" cy="447480"/>
            </a:xfrm>
          </p:grpSpPr>
          <p:sp>
            <p:nvSpPr>
              <p:cNvPr id="307" name="Rectangle 16"/>
              <p:cNvSpPr/>
              <p:nvPr/>
            </p:nvSpPr>
            <p:spPr>
              <a:xfrm>
                <a:off x="4857840" y="1409760"/>
                <a:ext cx="3498480" cy="447480"/>
              </a:xfrm>
              <a:prstGeom prst="rect">
                <a:avLst/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308" name="Rectangle 17"/>
              <p:cNvSpPr/>
              <p:nvPr/>
            </p:nvSpPr>
            <p:spPr>
              <a:xfrm>
                <a:off x="5645880" y="1558800"/>
                <a:ext cx="19209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 u="sng">
                    <a:solidFill>
                      <a:srgbClr val="000000"/>
                    </a:solidFill>
                    <a:uFillTx/>
                    <a:latin typeface="Courier New"/>
                  </a:rPr>
                  <a:t>:TarifSchedule</a:t>
                </a: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  <p:sp>
          <p:nvSpPr>
            <p:cNvPr id="309" name="Rectangle 18"/>
            <p:cNvSpPr/>
            <p:nvPr/>
          </p:nvSpPr>
          <p:spPr>
            <a:xfrm>
              <a:off x="4856040" y="1854000"/>
              <a:ext cx="3505320" cy="117180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sp>
        <p:nvSpPr>
          <p:cNvPr id="310" name="Rectangle 19"/>
          <p:cNvSpPr/>
          <p:nvPr/>
        </p:nvSpPr>
        <p:spPr>
          <a:xfrm>
            <a:off x="380880" y="4718160"/>
            <a:ext cx="825516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11" name="Line 20"/>
          <p:cNvSpPr/>
          <p:nvPr/>
        </p:nvSpPr>
        <p:spPr>
          <a:xfrm flipH="1" flipV="1">
            <a:off x="2744640" y="2565360"/>
            <a:ext cx="3835440" cy="1803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Actor vs Class vs Object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Verdana"/>
              </a:rPr>
              <a:t>Actor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 entity outside the system to be modeled, interacting with the system (“Passenger”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Verdana"/>
              </a:rPr>
              <a:t>Clas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 abstraction modeling an entity in the application or solution domai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class is part of the system model (“User”, “Ticket distributor”, “Server”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Verdana"/>
              </a:rPr>
              <a:t>Objec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specific instance of a class (“Joe, the passenger who is purchasing a ticket from the ticket distributor”).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Associations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95360" y="3928680"/>
            <a:ext cx="8254800" cy="44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sociations denote relationships between class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16" name="Group 47"/>
          <p:cNvGrpSpPr/>
          <p:nvPr/>
        </p:nvGrpSpPr>
        <p:grpSpPr>
          <a:xfrm>
            <a:off x="568440" y="1900080"/>
            <a:ext cx="7819920" cy="1510920"/>
            <a:chOff x="568440" y="1900080"/>
            <a:chExt cx="7819920" cy="1510920"/>
          </a:xfrm>
        </p:grpSpPr>
        <p:sp>
          <p:nvSpPr>
            <p:cNvPr id="317" name="Line 19"/>
            <p:cNvSpPr/>
            <p:nvPr/>
          </p:nvSpPr>
          <p:spPr>
            <a:xfrm>
              <a:off x="3911760" y="2552760"/>
              <a:ext cx="2247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grpSp>
          <p:nvGrpSpPr>
            <p:cNvPr id="318" name="Group 46"/>
            <p:cNvGrpSpPr/>
            <p:nvPr/>
          </p:nvGrpSpPr>
          <p:grpSpPr>
            <a:xfrm>
              <a:off x="568440" y="1900080"/>
              <a:ext cx="7819920" cy="1510920"/>
              <a:chOff x="568440" y="1900080"/>
              <a:chExt cx="7819920" cy="1510920"/>
            </a:xfrm>
          </p:grpSpPr>
          <p:sp>
            <p:nvSpPr>
              <p:cNvPr id="319" name="Rectangle 38"/>
              <p:cNvSpPr/>
              <p:nvPr/>
            </p:nvSpPr>
            <p:spPr>
              <a:xfrm>
                <a:off x="6181560" y="2433600"/>
                <a:ext cx="2206800" cy="612720"/>
              </a:xfrm>
              <a:prstGeom prst="rect">
                <a:avLst/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320" name="Rectangle 39"/>
              <p:cNvSpPr/>
              <p:nvPr/>
            </p:nvSpPr>
            <p:spPr>
              <a:xfrm>
                <a:off x="6941880" y="2523960"/>
                <a:ext cx="686520" cy="82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Price</a:t>
                </a:r>
                <a:br>
                  <a:rPr sz="1800"/>
                </a:b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Zone</a:t>
                </a: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321" name="Text Box 7"/>
              <p:cNvSpPr/>
              <p:nvPr/>
            </p:nvSpPr>
            <p:spPr>
              <a:xfrm>
                <a:off x="649440" y="2284560"/>
                <a:ext cx="330984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Enumeration getZones()</a:t>
                </a: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Price getPrice(Zone)</a:t>
                </a: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grpSp>
            <p:nvGrpSpPr>
              <p:cNvPr id="322" name="Group 8"/>
              <p:cNvGrpSpPr/>
              <p:nvPr/>
            </p:nvGrpSpPr>
            <p:grpSpPr>
              <a:xfrm>
                <a:off x="577800" y="1900080"/>
                <a:ext cx="3336480" cy="447480"/>
                <a:chOff x="577800" y="1900080"/>
                <a:chExt cx="3336480" cy="447480"/>
              </a:xfrm>
            </p:grpSpPr>
            <p:sp>
              <p:nvSpPr>
                <p:cNvPr id="323" name="Rectangle 9"/>
                <p:cNvSpPr/>
                <p:nvPr/>
              </p:nvSpPr>
              <p:spPr>
                <a:xfrm>
                  <a:off x="577800" y="1900080"/>
                  <a:ext cx="3336480" cy="447480"/>
                </a:xfrm>
                <a:prstGeom prst="rect">
                  <a:avLst/>
                </a:prstGeom>
                <a:noFill/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  <p:sp>
              <p:nvSpPr>
                <p:cNvPr id="324" name="Rectangle 10"/>
                <p:cNvSpPr/>
                <p:nvPr/>
              </p:nvSpPr>
              <p:spPr>
                <a:xfrm>
                  <a:off x="1351440" y="2049120"/>
                  <a:ext cx="1783800" cy="27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TarifSchedule</a:t>
                  </a:r>
                  <a:endParaRPr b="1" lang="en-US" sz="18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25" name="Rectangle 11"/>
              <p:cNvSpPr/>
              <p:nvPr/>
            </p:nvSpPr>
            <p:spPr>
              <a:xfrm>
                <a:off x="568440" y="2352600"/>
                <a:ext cx="3338280" cy="257400"/>
              </a:xfrm>
              <a:prstGeom prst="rect">
                <a:avLst/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326" name="Rectangle 12"/>
              <p:cNvSpPr/>
              <p:nvPr/>
            </p:nvSpPr>
            <p:spPr>
              <a:xfrm>
                <a:off x="576360" y="2619360"/>
                <a:ext cx="3335400" cy="587520"/>
              </a:xfrm>
              <a:prstGeom prst="rect">
                <a:avLst/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grpSp>
            <p:nvGrpSpPr>
              <p:cNvPr id="327" name="Group 13"/>
              <p:cNvGrpSpPr/>
              <p:nvPr/>
            </p:nvGrpSpPr>
            <p:grpSpPr>
              <a:xfrm>
                <a:off x="6181560" y="1989000"/>
                <a:ext cx="2206800" cy="447480"/>
                <a:chOff x="6181560" y="1989000"/>
                <a:chExt cx="2206800" cy="447480"/>
              </a:xfrm>
            </p:grpSpPr>
            <p:sp>
              <p:nvSpPr>
                <p:cNvPr id="328" name="Rectangle 14"/>
                <p:cNvSpPr/>
                <p:nvPr/>
              </p:nvSpPr>
              <p:spPr>
                <a:xfrm>
                  <a:off x="6181560" y="1989000"/>
                  <a:ext cx="2206800" cy="447480"/>
                </a:xfrm>
                <a:prstGeom prst="rect">
                  <a:avLst/>
                </a:prstGeom>
                <a:noFill/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  <p:sp>
              <p:nvSpPr>
                <p:cNvPr id="329" name="Rectangle 15"/>
                <p:cNvSpPr/>
                <p:nvPr/>
              </p:nvSpPr>
              <p:spPr>
                <a:xfrm>
                  <a:off x="6805440" y="2138040"/>
                  <a:ext cx="960840" cy="27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TripLeg</a:t>
                  </a:r>
                  <a:endParaRPr b="1" lang="en-US" sz="18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0" name="Group 40"/>
              <p:cNvGrpSpPr/>
              <p:nvPr/>
            </p:nvGrpSpPr>
            <p:grpSpPr>
              <a:xfrm>
                <a:off x="6181560" y="3043080"/>
                <a:ext cx="2206800" cy="367920"/>
                <a:chOff x="6181560" y="3043080"/>
                <a:chExt cx="2206800" cy="367920"/>
              </a:xfrm>
            </p:grpSpPr>
            <p:sp>
              <p:nvSpPr>
                <p:cNvPr id="331" name="Rectangle 41"/>
                <p:cNvSpPr/>
                <p:nvPr/>
              </p:nvSpPr>
              <p:spPr>
                <a:xfrm>
                  <a:off x="6181560" y="3043080"/>
                  <a:ext cx="2206800" cy="281880"/>
                </a:xfrm>
                <a:prstGeom prst="rect">
                  <a:avLst/>
                </a:prstGeom>
                <a:noFill/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  <p:sp>
              <p:nvSpPr>
                <p:cNvPr id="332" name="Rectangle 42"/>
                <p:cNvSpPr/>
                <p:nvPr/>
              </p:nvSpPr>
              <p:spPr>
                <a:xfrm>
                  <a:off x="7284960" y="3135960"/>
                  <a:ext cx="36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3" name="Group 45"/>
            <p:cNvGrpSpPr/>
            <p:nvPr/>
          </p:nvGrpSpPr>
          <p:grpSpPr>
            <a:xfrm>
              <a:off x="4029120" y="2602440"/>
              <a:ext cx="1963440" cy="548640"/>
              <a:chOff x="4029120" y="2602440"/>
              <a:chExt cx="1963440" cy="548640"/>
            </a:xfrm>
          </p:grpSpPr>
          <p:sp>
            <p:nvSpPr>
              <p:cNvPr id="334" name="Text Box 26"/>
              <p:cNvSpPr/>
              <p:nvPr/>
            </p:nvSpPr>
            <p:spPr>
              <a:xfrm>
                <a:off x="4029120" y="2602440"/>
                <a:ext cx="299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*</a:t>
                </a: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335" name="Text Box 43"/>
              <p:cNvSpPr/>
              <p:nvPr/>
            </p:nvSpPr>
            <p:spPr>
              <a:xfrm>
                <a:off x="5693040" y="2691360"/>
                <a:ext cx="299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*</a:t>
                </a: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</p:grpSp>
      <p:sp>
        <p:nvSpPr>
          <p:cNvPr id="336" name="Rectangle 44"/>
          <p:cNvSpPr/>
          <p:nvPr/>
        </p:nvSpPr>
        <p:spPr>
          <a:xfrm>
            <a:off x="488880" y="4152960"/>
            <a:ext cx="825516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multiplicity of an association end denotes how many objects the instance of a class can legitimately reference.</a:t>
            </a:r>
            <a:endParaRPr b="1" lang="en-US" sz="20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Outline of this Class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274320" indent="-2743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Use case diagra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58080" indent="-21924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scribe the functional behavior of the system as seen by the us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4320" indent="-2743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Class diagra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58080" indent="-21924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scribe the static structure of the system: Objects, attributes, associa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4320" indent="-2743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Sequence diagra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58080" indent="-21924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scribe the dynamic behavior between objects of the syste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4320" indent="-2743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Statechart diagra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58080" indent="-21924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scribe the dynamic behavior of an individual objec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4320" indent="-2743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Activity diagra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58080" indent="-21924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scribe the dynamic behavior of a system, in particular the workflow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1-to-1 and 1-to-many Associations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8" name="Rectangle 17"/>
          <p:cNvSpPr/>
          <p:nvPr/>
        </p:nvSpPr>
        <p:spPr>
          <a:xfrm>
            <a:off x="3039480" y="2798640"/>
            <a:ext cx="2446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-to-1 association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39" name="Rectangle 18"/>
          <p:cNvSpPr/>
          <p:nvPr/>
        </p:nvSpPr>
        <p:spPr>
          <a:xfrm>
            <a:off x="2979000" y="5630760"/>
            <a:ext cx="3022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-to-many association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grpSp>
        <p:nvGrpSpPr>
          <p:cNvPr id="340" name="Group 38"/>
          <p:cNvGrpSpPr/>
          <p:nvPr/>
        </p:nvGrpSpPr>
        <p:grpSpPr>
          <a:xfrm>
            <a:off x="1384200" y="3314880"/>
            <a:ext cx="6197760" cy="2082600"/>
            <a:chOff x="1384200" y="3314880"/>
            <a:chExt cx="6197760" cy="2082600"/>
          </a:xfrm>
        </p:grpSpPr>
        <p:grpSp>
          <p:nvGrpSpPr>
            <p:cNvPr id="341" name="Group 34"/>
            <p:cNvGrpSpPr/>
            <p:nvPr/>
          </p:nvGrpSpPr>
          <p:grpSpPr>
            <a:xfrm>
              <a:off x="1384200" y="3314880"/>
              <a:ext cx="6197760" cy="2082600"/>
              <a:chOff x="1384200" y="3314880"/>
              <a:chExt cx="6197760" cy="2082600"/>
            </a:xfrm>
          </p:grpSpPr>
          <p:sp>
            <p:nvSpPr>
              <p:cNvPr id="342" name="Rectangle 10"/>
              <p:cNvSpPr/>
              <p:nvPr/>
            </p:nvSpPr>
            <p:spPr>
              <a:xfrm>
                <a:off x="1384200" y="3594240"/>
                <a:ext cx="1092240" cy="16761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343" name="Rectangle 11"/>
              <p:cNvSpPr/>
              <p:nvPr/>
            </p:nvSpPr>
            <p:spPr>
              <a:xfrm>
                <a:off x="1488960" y="3903840"/>
                <a:ext cx="97992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Polygon</a:t>
                </a:r>
                <a:endParaRPr b="1" lang="en-US" sz="16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344" name="Rectangle 12"/>
              <p:cNvSpPr/>
              <p:nvPr/>
            </p:nvSpPr>
            <p:spPr>
              <a:xfrm>
                <a:off x="1404720" y="4818240"/>
                <a:ext cx="75456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draw()</a:t>
                </a:r>
                <a:endParaRPr b="1" lang="en-US" sz="16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345" name="Rectangle 13"/>
              <p:cNvSpPr/>
              <p:nvPr/>
            </p:nvSpPr>
            <p:spPr>
              <a:xfrm>
                <a:off x="6337440" y="3314880"/>
                <a:ext cx="1244520" cy="2082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346" name="Rectangle 14"/>
              <p:cNvSpPr/>
              <p:nvPr/>
            </p:nvSpPr>
            <p:spPr>
              <a:xfrm>
                <a:off x="6647760" y="3611520"/>
                <a:ext cx="68724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1" lang="en-US" sz="16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347" name="Rectangle 15"/>
              <p:cNvSpPr/>
              <p:nvPr/>
            </p:nvSpPr>
            <p:spPr>
              <a:xfrm>
                <a:off x="6356880" y="4272120"/>
                <a:ext cx="102744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x: Integer</a:t>
                </a:r>
                <a:endParaRPr b="1" lang="en-US" sz="16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348" name="Rectangle 16"/>
              <p:cNvSpPr/>
              <p:nvPr/>
            </p:nvSpPr>
            <p:spPr>
              <a:xfrm>
                <a:off x="6356880" y="4691160"/>
                <a:ext cx="102744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y: Integer</a:t>
                </a:r>
                <a:endParaRPr b="1" lang="en-US" sz="16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349" name="Line 24"/>
              <p:cNvSpPr/>
              <p:nvPr/>
            </p:nvSpPr>
            <p:spPr>
              <a:xfrm>
                <a:off x="1397160" y="4248000"/>
                <a:ext cx="1073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350" name="Line 25"/>
              <p:cNvSpPr/>
              <p:nvPr/>
            </p:nvSpPr>
            <p:spPr>
              <a:xfrm>
                <a:off x="1397160" y="4629240"/>
                <a:ext cx="1091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351" name="Line 26"/>
              <p:cNvSpPr/>
              <p:nvPr/>
            </p:nvSpPr>
            <p:spPr>
              <a:xfrm flipH="1">
                <a:off x="2495520" y="4210200"/>
                <a:ext cx="3836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352" name="Line 27"/>
              <p:cNvSpPr/>
              <p:nvPr/>
            </p:nvSpPr>
            <p:spPr>
              <a:xfrm>
                <a:off x="6330960" y="4038480"/>
                <a:ext cx="12445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353" name="Line 28"/>
              <p:cNvSpPr/>
              <p:nvPr/>
            </p:nvSpPr>
            <p:spPr>
              <a:xfrm>
                <a:off x="6330960" y="5086440"/>
                <a:ext cx="12445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  <p:sp>
          <p:nvSpPr>
            <p:cNvPr id="354" name="Rectangle 29"/>
            <p:cNvSpPr/>
            <p:nvPr/>
          </p:nvSpPr>
          <p:spPr>
            <a:xfrm>
              <a:off x="5780160" y="3797280"/>
              <a:ext cx="379440" cy="69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1" lang="en-US" sz="40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355" name="Group 37"/>
          <p:cNvGrpSpPr/>
          <p:nvPr/>
        </p:nvGrpSpPr>
        <p:grpSpPr>
          <a:xfrm>
            <a:off x="2025720" y="1231920"/>
            <a:ext cx="5016240" cy="1359000"/>
            <a:chOff x="2025720" y="1231920"/>
            <a:chExt cx="5016240" cy="1359000"/>
          </a:xfrm>
        </p:grpSpPr>
        <p:grpSp>
          <p:nvGrpSpPr>
            <p:cNvPr id="356" name="Group 31"/>
            <p:cNvGrpSpPr/>
            <p:nvPr/>
          </p:nvGrpSpPr>
          <p:grpSpPr>
            <a:xfrm>
              <a:off x="2025720" y="1231920"/>
              <a:ext cx="5016240" cy="1359000"/>
              <a:chOff x="2025720" y="1231920"/>
              <a:chExt cx="5016240" cy="1359000"/>
            </a:xfrm>
          </p:grpSpPr>
          <p:sp>
            <p:nvSpPr>
              <p:cNvPr id="357" name="Rectangle 3"/>
              <p:cNvSpPr/>
              <p:nvPr/>
            </p:nvSpPr>
            <p:spPr>
              <a:xfrm>
                <a:off x="2031840" y="1231920"/>
                <a:ext cx="1194120" cy="13590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358" name="Rectangle 4"/>
              <p:cNvSpPr/>
              <p:nvPr/>
            </p:nvSpPr>
            <p:spPr>
              <a:xfrm>
                <a:off x="2212920" y="1452600"/>
                <a:ext cx="95724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Country</a:t>
                </a:r>
                <a:endParaRPr b="1" lang="en-US" sz="16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359" name="Rectangle 5"/>
              <p:cNvSpPr/>
              <p:nvPr/>
            </p:nvSpPr>
            <p:spPr>
              <a:xfrm>
                <a:off x="2036880" y="1986120"/>
                <a:ext cx="127584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name:String</a:t>
                </a:r>
                <a:endParaRPr b="1" lang="en-US" sz="16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360" name="Rectangle 6"/>
              <p:cNvSpPr/>
              <p:nvPr/>
            </p:nvSpPr>
            <p:spPr>
              <a:xfrm>
                <a:off x="5765760" y="1231920"/>
                <a:ext cx="1193760" cy="13590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361" name="Rectangle 7"/>
              <p:cNvSpPr/>
              <p:nvPr/>
            </p:nvSpPr>
            <p:spPr>
              <a:xfrm>
                <a:off x="6112080" y="1452600"/>
                <a:ext cx="56412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City</a:t>
                </a:r>
                <a:endParaRPr b="1" lang="en-US" sz="16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362" name="Rectangle 8"/>
              <p:cNvSpPr/>
              <p:nvPr/>
            </p:nvSpPr>
            <p:spPr>
              <a:xfrm>
                <a:off x="5766120" y="1986120"/>
                <a:ext cx="127584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name:String</a:t>
                </a:r>
                <a:endParaRPr b="1" lang="en-US" sz="16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363" name="Line 19"/>
              <p:cNvSpPr/>
              <p:nvPr/>
            </p:nvSpPr>
            <p:spPr>
              <a:xfrm>
                <a:off x="2025720" y="1771560"/>
                <a:ext cx="1206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364" name="Line 20"/>
              <p:cNvSpPr/>
              <p:nvPr/>
            </p:nvSpPr>
            <p:spPr>
              <a:xfrm>
                <a:off x="2025720" y="2362320"/>
                <a:ext cx="1225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365" name="Line 21"/>
              <p:cNvSpPr/>
              <p:nvPr/>
            </p:nvSpPr>
            <p:spPr>
              <a:xfrm>
                <a:off x="3244680" y="1924200"/>
                <a:ext cx="2521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366" name="Line 22"/>
              <p:cNvSpPr/>
              <p:nvPr/>
            </p:nvSpPr>
            <p:spPr>
              <a:xfrm>
                <a:off x="5778360" y="1752480"/>
                <a:ext cx="1206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367" name="Line 23"/>
              <p:cNvSpPr/>
              <p:nvPr/>
            </p:nvSpPr>
            <p:spPr>
              <a:xfrm>
                <a:off x="5759280" y="2324160"/>
                <a:ext cx="1206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  <p:sp>
          <p:nvSpPr>
            <p:cNvPr id="368" name="Rectangle 35"/>
            <p:cNvSpPr/>
            <p:nvPr/>
          </p:nvSpPr>
          <p:spPr>
            <a:xfrm>
              <a:off x="5381640" y="1425600"/>
              <a:ext cx="2941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1" lang="en-US" sz="16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369" name="Rectangle 36"/>
            <p:cNvSpPr/>
            <p:nvPr/>
          </p:nvSpPr>
          <p:spPr>
            <a:xfrm>
              <a:off x="3305160" y="1519200"/>
              <a:ext cx="2941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1" lang="en-US" sz="16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</p:spTree>
  </p:cSld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Many-to-Many Associations 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1" name="Rectangle 3"/>
          <p:cNvSpPr/>
          <p:nvPr/>
        </p:nvSpPr>
        <p:spPr>
          <a:xfrm>
            <a:off x="685800" y="2017800"/>
            <a:ext cx="2341440" cy="1803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72" name="Rectangle 4"/>
          <p:cNvSpPr/>
          <p:nvPr/>
        </p:nvSpPr>
        <p:spPr>
          <a:xfrm>
            <a:off x="882720" y="2306520"/>
            <a:ext cx="2179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ockExchange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73" name="Rectangle 5"/>
          <p:cNvSpPr/>
          <p:nvPr/>
        </p:nvSpPr>
        <p:spPr>
          <a:xfrm>
            <a:off x="5964120" y="1441440"/>
            <a:ext cx="2013120" cy="2397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74" name="Rectangle 6"/>
          <p:cNvSpPr/>
          <p:nvPr/>
        </p:nvSpPr>
        <p:spPr>
          <a:xfrm>
            <a:off x="6332400" y="1523880"/>
            <a:ext cx="14508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75" name="Rectangle 7"/>
          <p:cNvSpPr/>
          <p:nvPr/>
        </p:nvSpPr>
        <p:spPr>
          <a:xfrm>
            <a:off x="5999760" y="2262240"/>
            <a:ext cx="19278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ickerSymbol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76" name="Line 9"/>
          <p:cNvSpPr/>
          <p:nvPr/>
        </p:nvSpPr>
        <p:spPr>
          <a:xfrm>
            <a:off x="685800" y="2867040"/>
            <a:ext cx="2332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77" name="Line 10"/>
          <p:cNvSpPr/>
          <p:nvPr/>
        </p:nvSpPr>
        <p:spPr>
          <a:xfrm>
            <a:off x="685800" y="3495600"/>
            <a:ext cx="2359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78" name="Line 11"/>
          <p:cNvSpPr/>
          <p:nvPr/>
        </p:nvSpPr>
        <p:spPr>
          <a:xfrm>
            <a:off x="5972040" y="2143080"/>
            <a:ext cx="1997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79" name="Line 12"/>
          <p:cNvSpPr/>
          <p:nvPr/>
        </p:nvSpPr>
        <p:spPr>
          <a:xfrm>
            <a:off x="5972040" y="3033720"/>
            <a:ext cx="1997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80" name="Line 13"/>
          <p:cNvSpPr/>
          <p:nvPr/>
        </p:nvSpPr>
        <p:spPr>
          <a:xfrm>
            <a:off x="3041640" y="2604960"/>
            <a:ext cx="2919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81" name="Rectangle 14"/>
          <p:cNvSpPr/>
          <p:nvPr/>
        </p:nvSpPr>
        <p:spPr>
          <a:xfrm>
            <a:off x="5492880" y="2004840"/>
            <a:ext cx="37944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*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82" name="Rectangle 15"/>
          <p:cNvSpPr/>
          <p:nvPr/>
        </p:nvSpPr>
        <p:spPr>
          <a:xfrm>
            <a:off x="3108240" y="1957320"/>
            <a:ext cx="37944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*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From Problem Statement To  Object Model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4" name="Rectangle 6"/>
          <p:cNvSpPr/>
          <p:nvPr/>
        </p:nvSpPr>
        <p:spPr>
          <a:xfrm>
            <a:off x="3190680" y="1865160"/>
            <a:ext cx="257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85" name="Rectangle 7"/>
          <p:cNvSpPr/>
          <p:nvPr/>
        </p:nvSpPr>
        <p:spPr>
          <a:xfrm>
            <a:off x="744480" y="1457280"/>
            <a:ext cx="750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grpSp>
        <p:nvGrpSpPr>
          <p:cNvPr id="386" name="Group 25"/>
          <p:cNvGrpSpPr/>
          <p:nvPr/>
        </p:nvGrpSpPr>
        <p:grpSpPr>
          <a:xfrm>
            <a:off x="694080" y="3333600"/>
            <a:ext cx="7176240" cy="2527560"/>
            <a:chOff x="694080" y="3333600"/>
            <a:chExt cx="7176240" cy="2527560"/>
          </a:xfrm>
        </p:grpSpPr>
        <p:sp>
          <p:nvSpPr>
            <p:cNvPr id="387" name="Rectangle 8"/>
            <p:cNvSpPr/>
            <p:nvPr/>
          </p:nvSpPr>
          <p:spPr>
            <a:xfrm>
              <a:off x="694080" y="3333600"/>
              <a:ext cx="1923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Class Diagram:</a:t>
              </a:r>
              <a:endParaRPr b="1" lang="en-US" sz="2000" spc="-1" strike="noStrike">
                <a:solidFill>
                  <a:srgbClr val="ff0000"/>
                </a:solidFill>
                <a:latin typeface="Arial"/>
              </a:endParaRPr>
            </a:p>
          </p:txBody>
        </p:sp>
        <p:grpSp>
          <p:nvGrpSpPr>
            <p:cNvPr id="388" name="Group 22"/>
            <p:cNvGrpSpPr/>
            <p:nvPr/>
          </p:nvGrpSpPr>
          <p:grpSpPr>
            <a:xfrm>
              <a:off x="1325520" y="4222800"/>
              <a:ext cx="6544800" cy="1638360"/>
              <a:chOff x="1325520" y="4222800"/>
              <a:chExt cx="6544800" cy="1638360"/>
            </a:xfrm>
          </p:grpSpPr>
          <p:sp>
            <p:nvSpPr>
              <p:cNvPr id="389" name="Rectangle 9"/>
              <p:cNvSpPr/>
              <p:nvPr/>
            </p:nvSpPr>
            <p:spPr>
              <a:xfrm>
                <a:off x="1371600" y="4317840"/>
                <a:ext cx="2117880" cy="1231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390" name="Rectangle 10"/>
              <p:cNvSpPr/>
              <p:nvPr/>
            </p:nvSpPr>
            <p:spPr>
              <a:xfrm>
                <a:off x="1325520" y="4410000"/>
                <a:ext cx="217944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cc"/>
                    </a:solidFill>
                    <a:latin typeface="Times New Roman"/>
                  </a:rPr>
                  <a:t>StockExchange</a:t>
                </a: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391" name="Rectangle 11"/>
              <p:cNvSpPr/>
              <p:nvPr/>
            </p:nvSpPr>
            <p:spPr>
              <a:xfrm>
                <a:off x="5962680" y="4222800"/>
                <a:ext cx="1886040" cy="1638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392" name="Rectangle 12"/>
              <p:cNvSpPr/>
              <p:nvPr/>
            </p:nvSpPr>
            <p:spPr>
              <a:xfrm>
                <a:off x="6095880" y="4314960"/>
                <a:ext cx="145080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cc"/>
                    </a:solidFill>
                    <a:latin typeface="Times New Roman"/>
                  </a:rPr>
                  <a:t>Company</a:t>
                </a: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393" name="Rectangle 13"/>
              <p:cNvSpPr/>
              <p:nvPr/>
            </p:nvSpPr>
            <p:spPr>
              <a:xfrm>
                <a:off x="5942520" y="4984920"/>
                <a:ext cx="192780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cc"/>
                    </a:solidFill>
                    <a:latin typeface="Times New Roman"/>
                  </a:rPr>
                  <a:t>tickerSymbol</a:t>
                </a: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394" name="Rectangle 14"/>
              <p:cNvSpPr/>
              <p:nvPr/>
            </p:nvSpPr>
            <p:spPr>
              <a:xfrm>
                <a:off x="4281840" y="4727520"/>
                <a:ext cx="85212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3333ff"/>
                    </a:solidFill>
                    <a:latin typeface="Times New Roman"/>
                  </a:rPr>
                  <a:t>Lists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395" name="Line 15"/>
              <p:cNvSpPr/>
              <p:nvPr/>
            </p:nvSpPr>
            <p:spPr>
              <a:xfrm>
                <a:off x="1371600" y="4898880"/>
                <a:ext cx="2109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396" name="Line 16"/>
              <p:cNvSpPr/>
              <p:nvPr/>
            </p:nvSpPr>
            <p:spPr>
              <a:xfrm flipV="1">
                <a:off x="1371600" y="5329080"/>
                <a:ext cx="2131920" cy="5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397" name="Line 17"/>
              <p:cNvSpPr/>
              <p:nvPr/>
            </p:nvSpPr>
            <p:spPr>
              <a:xfrm>
                <a:off x="5970600" y="5005440"/>
                <a:ext cx="18781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398" name="Line 18"/>
              <p:cNvSpPr/>
              <p:nvPr/>
            </p:nvSpPr>
            <p:spPr>
              <a:xfrm>
                <a:off x="5970600" y="5616720"/>
                <a:ext cx="18781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399" name="Line 19"/>
              <p:cNvSpPr/>
              <p:nvPr/>
            </p:nvSpPr>
            <p:spPr>
              <a:xfrm>
                <a:off x="3495600" y="4719600"/>
                <a:ext cx="2460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400" name="Rectangle 20"/>
              <p:cNvSpPr/>
              <p:nvPr/>
            </p:nvSpPr>
            <p:spPr>
              <a:xfrm>
                <a:off x="5518080" y="4368960"/>
                <a:ext cx="30024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*</a:t>
                </a: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401" name="Rectangle 21"/>
              <p:cNvSpPr/>
              <p:nvPr/>
            </p:nvSpPr>
            <p:spPr>
              <a:xfrm>
                <a:off x="3548160" y="4368960"/>
                <a:ext cx="30024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*</a:t>
                </a: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</p:grpSp>
      <p:sp>
        <p:nvSpPr>
          <p:cNvPr id="402" name="Rectangle 23"/>
          <p:cNvSpPr/>
          <p:nvPr/>
        </p:nvSpPr>
        <p:spPr>
          <a:xfrm>
            <a:off x="843120" y="1384200"/>
            <a:ext cx="802620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oblem Statement: A </a:t>
            </a:r>
            <a:r>
              <a:rPr b="0" i="1" lang="en-US" sz="2400" spc="-1" strike="noStrike">
                <a:solidFill>
                  <a:srgbClr val="0033cc"/>
                </a:solidFill>
                <a:latin typeface="Times New Roman"/>
              </a:rPr>
              <a:t>stock exchange list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any </a:t>
            </a:r>
            <a:r>
              <a:rPr b="0" i="1" lang="en-US" sz="2400" spc="-1" strike="noStrike">
                <a:solidFill>
                  <a:srgbClr val="0033cc"/>
                </a:solidFill>
                <a:latin typeface="Times New Roman"/>
              </a:rPr>
              <a:t>compani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 Each company is uniquely identified by a </a:t>
            </a:r>
            <a:r>
              <a:rPr b="0" i="1" lang="en-US" sz="2400" spc="-1" strike="noStrike">
                <a:solidFill>
                  <a:srgbClr val="0033cc"/>
                </a:solidFill>
                <a:latin typeface="Times New Roman"/>
              </a:rPr>
              <a:t>ticker symbol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From Problem Statement to Code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4" name="Rectangle 12"/>
          <p:cNvSpPr/>
          <p:nvPr/>
        </p:nvSpPr>
        <p:spPr>
          <a:xfrm>
            <a:off x="669600" y="1185840"/>
            <a:ext cx="486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05" name="Rectangle 13"/>
          <p:cNvSpPr/>
          <p:nvPr/>
        </p:nvSpPr>
        <p:spPr>
          <a:xfrm>
            <a:off x="924120" y="1185840"/>
            <a:ext cx="22068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blem Statement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06" name="Rectangle 14"/>
          <p:cNvSpPr/>
          <p:nvPr/>
        </p:nvSpPr>
        <p:spPr>
          <a:xfrm>
            <a:off x="3020400" y="1185840"/>
            <a:ext cx="3430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07" name="Rectangle 15"/>
          <p:cNvSpPr/>
          <p:nvPr/>
        </p:nvSpPr>
        <p:spPr>
          <a:xfrm>
            <a:off x="3168720" y="1185840"/>
            <a:ext cx="401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08" name="Rectangle 16"/>
          <p:cNvSpPr/>
          <p:nvPr/>
        </p:nvSpPr>
        <p:spPr>
          <a:xfrm>
            <a:off x="3363840" y="1185840"/>
            <a:ext cx="49899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ck exchange lists many companies. 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09" name="Rectangle 17"/>
          <p:cNvSpPr/>
          <p:nvPr/>
        </p:nvSpPr>
        <p:spPr>
          <a:xfrm>
            <a:off x="656280" y="1515960"/>
            <a:ext cx="5855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ompany is identified by a ticker symbol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10" name="Rectangle 18"/>
          <p:cNvSpPr/>
          <p:nvPr/>
        </p:nvSpPr>
        <p:spPr>
          <a:xfrm>
            <a:off x="682200" y="2260440"/>
            <a:ext cx="20347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lass Diagram:</a:t>
            </a:r>
            <a:endParaRPr b="1" lang="en-US" sz="2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11" name="Rectangle 5"/>
          <p:cNvSpPr/>
          <p:nvPr/>
        </p:nvSpPr>
        <p:spPr>
          <a:xfrm>
            <a:off x="2101680" y="4281480"/>
            <a:ext cx="455832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Times New Roman"/>
              </a:rPr>
              <a:t>private Vector m_Company = new Vector();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12" name="Rectangle 9"/>
          <p:cNvSpPr/>
          <p:nvPr/>
        </p:nvSpPr>
        <p:spPr>
          <a:xfrm>
            <a:off x="2103120" y="5500800"/>
            <a:ext cx="292176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public int m_tickerSymbol;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13" name="Rectangle 10"/>
          <p:cNvSpPr/>
          <p:nvPr/>
        </p:nvSpPr>
        <p:spPr>
          <a:xfrm>
            <a:off x="2100960" y="5724360"/>
            <a:ext cx="510552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Times New Roman"/>
              </a:rPr>
              <a:t>private Vector m_StockExchange = new Vector();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grpSp>
        <p:nvGrpSpPr>
          <p:cNvPr id="414" name="Group 35"/>
          <p:cNvGrpSpPr/>
          <p:nvPr/>
        </p:nvGrpSpPr>
        <p:grpSpPr>
          <a:xfrm>
            <a:off x="618480" y="3492360"/>
            <a:ext cx="4348080" cy="2950200"/>
            <a:chOff x="618480" y="3492360"/>
            <a:chExt cx="4348080" cy="2950200"/>
          </a:xfrm>
        </p:grpSpPr>
        <p:sp>
          <p:nvSpPr>
            <p:cNvPr id="415" name="Rectangle 3"/>
            <p:cNvSpPr/>
            <p:nvPr/>
          </p:nvSpPr>
          <p:spPr>
            <a:xfrm>
              <a:off x="2104560" y="3789360"/>
              <a:ext cx="2862000" cy="41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public class StockExchange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416" name="Rectangle 4"/>
            <p:cNvSpPr/>
            <p:nvPr/>
          </p:nvSpPr>
          <p:spPr>
            <a:xfrm>
              <a:off x="2104920" y="3992400"/>
              <a:ext cx="271440" cy="41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417" name="Rectangle 6"/>
            <p:cNvSpPr/>
            <p:nvPr/>
          </p:nvSpPr>
          <p:spPr>
            <a:xfrm>
              <a:off x="2104920" y="4602240"/>
              <a:ext cx="347400" cy="41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};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418" name="Rectangle 7"/>
            <p:cNvSpPr/>
            <p:nvPr/>
          </p:nvSpPr>
          <p:spPr>
            <a:xfrm>
              <a:off x="2104920" y="5008680"/>
              <a:ext cx="2315160" cy="41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public class Company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419" name="Rectangle 8"/>
            <p:cNvSpPr/>
            <p:nvPr/>
          </p:nvSpPr>
          <p:spPr>
            <a:xfrm>
              <a:off x="2104920" y="5211720"/>
              <a:ext cx="271440" cy="41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420" name="Rectangle 11"/>
            <p:cNvSpPr/>
            <p:nvPr/>
          </p:nvSpPr>
          <p:spPr>
            <a:xfrm>
              <a:off x="2104920" y="6024600"/>
              <a:ext cx="347400" cy="41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};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421" name="Rectangle 19"/>
            <p:cNvSpPr/>
            <p:nvPr/>
          </p:nvSpPr>
          <p:spPr>
            <a:xfrm>
              <a:off x="618480" y="3492360"/>
              <a:ext cx="14554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Java Code</a:t>
              </a:r>
              <a:endParaRPr b="1" lang="en-US" sz="20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sp>
        <p:nvSpPr>
          <p:cNvPr id="422" name="Rectangle 20"/>
          <p:cNvSpPr/>
          <p:nvPr/>
        </p:nvSpPr>
        <p:spPr>
          <a:xfrm>
            <a:off x="1625760" y="2629080"/>
            <a:ext cx="1726920" cy="647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23" name="Rectangle 21"/>
          <p:cNvSpPr/>
          <p:nvPr/>
        </p:nvSpPr>
        <p:spPr>
          <a:xfrm>
            <a:off x="1750680" y="2697120"/>
            <a:ext cx="13532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tockExchange</a:t>
            </a:r>
            <a:endParaRPr b="1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24" name="Rectangle 22"/>
          <p:cNvSpPr/>
          <p:nvPr/>
        </p:nvSpPr>
        <p:spPr>
          <a:xfrm>
            <a:off x="5524560" y="2577960"/>
            <a:ext cx="1485720" cy="863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25" name="Rectangle 23"/>
          <p:cNvSpPr/>
          <p:nvPr/>
        </p:nvSpPr>
        <p:spPr>
          <a:xfrm>
            <a:off x="5778720" y="2646360"/>
            <a:ext cx="925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1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26" name="Rectangle 24"/>
          <p:cNvSpPr/>
          <p:nvPr/>
        </p:nvSpPr>
        <p:spPr>
          <a:xfrm>
            <a:off x="5524560" y="3006720"/>
            <a:ext cx="291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27" name="Rectangle 25"/>
          <p:cNvSpPr/>
          <p:nvPr/>
        </p:nvSpPr>
        <p:spPr>
          <a:xfrm>
            <a:off x="5620320" y="3002040"/>
            <a:ext cx="120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tickerSymbol</a:t>
            </a:r>
            <a:endParaRPr b="1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28" name="Rectangle 26"/>
          <p:cNvSpPr/>
          <p:nvPr/>
        </p:nvSpPr>
        <p:spPr>
          <a:xfrm>
            <a:off x="4037760" y="2867040"/>
            <a:ext cx="6843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ff"/>
                </a:solidFill>
                <a:latin typeface="Times New Roman"/>
              </a:rPr>
              <a:t>Lists 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29" name="Line 27"/>
          <p:cNvSpPr/>
          <p:nvPr/>
        </p:nvSpPr>
        <p:spPr>
          <a:xfrm>
            <a:off x="1625760" y="2933640"/>
            <a:ext cx="1720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30" name="Line 28"/>
          <p:cNvSpPr/>
          <p:nvPr/>
        </p:nvSpPr>
        <p:spPr>
          <a:xfrm>
            <a:off x="1625760" y="3162240"/>
            <a:ext cx="1720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31" name="Line 29"/>
          <p:cNvSpPr/>
          <p:nvPr/>
        </p:nvSpPr>
        <p:spPr>
          <a:xfrm>
            <a:off x="5530680" y="2990880"/>
            <a:ext cx="1473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32" name="Line 30"/>
          <p:cNvSpPr/>
          <p:nvPr/>
        </p:nvSpPr>
        <p:spPr>
          <a:xfrm>
            <a:off x="5530680" y="3314880"/>
            <a:ext cx="1473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33" name="Line 31"/>
          <p:cNvSpPr/>
          <p:nvPr/>
        </p:nvSpPr>
        <p:spPr>
          <a:xfrm>
            <a:off x="3359160" y="2838600"/>
            <a:ext cx="2154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34" name="Rectangle 32"/>
          <p:cNvSpPr/>
          <p:nvPr/>
        </p:nvSpPr>
        <p:spPr>
          <a:xfrm>
            <a:off x="5170320" y="2546280"/>
            <a:ext cx="3002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*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35" name="Rectangle 33"/>
          <p:cNvSpPr/>
          <p:nvPr/>
        </p:nvSpPr>
        <p:spPr>
          <a:xfrm>
            <a:off x="3375000" y="2544840"/>
            <a:ext cx="3002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*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36" name="Oval 34"/>
          <p:cNvSpPr/>
          <p:nvPr/>
        </p:nvSpPr>
        <p:spPr>
          <a:xfrm>
            <a:off x="3187800" y="2349360"/>
            <a:ext cx="609480" cy="6480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37" name="Oval 37"/>
          <p:cNvSpPr/>
          <p:nvPr/>
        </p:nvSpPr>
        <p:spPr>
          <a:xfrm>
            <a:off x="2994120" y="5678640"/>
            <a:ext cx="760320" cy="5443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38" name="Oval 38"/>
          <p:cNvSpPr/>
          <p:nvPr/>
        </p:nvSpPr>
        <p:spPr>
          <a:xfrm>
            <a:off x="4940280" y="2419200"/>
            <a:ext cx="609480" cy="64800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39" name="Oval 39"/>
          <p:cNvSpPr/>
          <p:nvPr/>
        </p:nvSpPr>
        <p:spPr>
          <a:xfrm>
            <a:off x="2981160" y="4221000"/>
            <a:ext cx="760680" cy="54468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40" name="Text Box 40"/>
          <p:cNvSpPr/>
          <p:nvPr/>
        </p:nvSpPr>
        <p:spPr>
          <a:xfrm>
            <a:off x="6588000" y="4397040"/>
            <a:ext cx="234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sociations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re mapped to 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ttributes!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584280" y="266400"/>
            <a:ext cx="793728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Aggregation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33080" y="963360"/>
            <a:ext cx="78231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 </a:t>
            </a:r>
            <a:r>
              <a:rPr b="0" i="1" lang="en-US" sz="2000" spc="-1" strike="noStrike">
                <a:solidFill>
                  <a:srgbClr val="1615b1"/>
                </a:solidFill>
                <a:latin typeface="Verdana"/>
              </a:rPr>
              <a:t>aggregatio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is a special case of association denoting a “consists-of” hierarch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aggregat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is the parent class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components are the children class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43" name="Group 130"/>
          <p:cNvGrpSpPr/>
          <p:nvPr/>
        </p:nvGrpSpPr>
        <p:grpSpPr>
          <a:xfrm>
            <a:off x="5432040" y="1353960"/>
            <a:ext cx="3034800" cy="2295360"/>
            <a:chOff x="5432040" y="1353960"/>
            <a:chExt cx="3034800" cy="2295360"/>
          </a:xfrm>
        </p:grpSpPr>
        <p:sp>
          <p:nvSpPr>
            <p:cNvPr id="444" name="Rectangle 110"/>
            <p:cNvSpPr/>
            <p:nvPr/>
          </p:nvSpPr>
          <p:spPr>
            <a:xfrm>
              <a:off x="6214680" y="1353960"/>
              <a:ext cx="1846080" cy="627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445" name="Rectangle 111"/>
            <p:cNvSpPr/>
            <p:nvPr/>
          </p:nvSpPr>
          <p:spPr>
            <a:xfrm>
              <a:off x="6246000" y="1436040"/>
              <a:ext cx="1828800" cy="34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Exhaust system</a:t>
              </a:r>
              <a:endParaRPr b="1" lang="en-US" sz="17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446" name="Rectangle 112"/>
            <p:cNvSpPr/>
            <p:nvPr/>
          </p:nvSpPr>
          <p:spPr>
            <a:xfrm>
              <a:off x="5484240" y="2806920"/>
              <a:ext cx="1014480" cy="825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447" name="Rectangle 113"/>
            <p:cNvSpPr/>
            <p:nvPr/>
          </p:nvSpPr>
          <p:spPr>
            <a:xfrm>
              <a:off x="5529600" y="2890080"/>
              <a:ext cx="900720" cy="34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Muffler</a:t>
              </a:r>
              <a:endParaRPr b="1" lang="en-US" sz="17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448" name="Rectangle 114"/>
            <p:cNvSpPr/>
            <p:nvPr/>
          </p:nvSpPr>
          <p:spPr>
            <a:xfrm>
              <a:off x="5432040" y="3220200"/>
              <a:ext cx="1022760" cy="34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diameter</a:t>
              </a:r>
              <a:endParaRPr b="1" lang="en-US" sz="17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449" name="Rectangle 115"/>
            <p:cNvSpPr/>
            <p:nvPr/>
          </p:nvSpPr>
          <p:spPr>
            <a:xfrm>
              <a:off x="7472520" y="2823480"/>
              <a:ext cx="994320" cy="825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450" name="Rectangle 116"/>
            <p:cNvSpPr/>
            <p:nvPr/>
          </p:nvSpPr>
          <p:spPr>
            <a:xfrm>
              <a:off x="7457040" y="2906280"/>
              <a:ext cx="998280" cy="34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Tailpipe</a:t>
              </a:r>
              <a:endParaRPr b="1" lang="en-US" sz="17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451" name="Rectangle 117"/>
            <p:cNvSpPr/>
            <p:nvPr/>
          </p:nvSpPr>
          <p:spPr>
            <a:xfrm>
              <a:off x="7403760" y="3236400"/>
              <a:ext cx="1022760" cy="34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diameter</a:t>
              </a:r>
              <a:endParaRPr b="1" lang="en-US" sz="17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452" name="Line 118"/>
            <p:cNvSpPr/>
            <p:nvPr/>
          </p:nvSpPr>
          <p:spPr>
            <a:xfrm>
              <a:off x="6224400" y="1717200"/>
              <a:ext cx="1836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453" name="Line 119"/>
            <p:cNvSpPr/>
            <p:nvPr/>
          </p:nvSpPr>
          <p:spPr>
            <a:xfrm>
              <a:off x="6224400" y="1865520"/>
              <a:ext cx="1836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454" name="Line 120"/>
            <p:cNvSpPr/>
            <p:nvPr/>
          </p:nvSpPr>
          <p:spPr>
            <a:xfrm>
              <a:off x="5524560" y="3178800"/>
              <a:ext cx="983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455" name="Line 121"/>
            <p:cNvSpPr/>
            <p:nvPr/>
          </p:nvSpPr>
          <p:spPr>
            <a:xfrm>
              <a:off x="5493960" y="3550680"/>
              <a:ext cx="1045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456" name="Line 122"/>
            <p:cNvSpPr/>
            <p:nvPr/>
          </p:nvSpPr>
          <p:spPr>
            <a:xfrm>
              <a:off x="7472520" y="3203640"/>
              <a:ext cx="983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457" name="Line 123"/>
            <p:cNvSpPr/>
            <p:nvPr/>
          </p:nvSpPr>
          <p:spPr>
            <a:xfrm>
              <a:off x="7472520" y="3550680"/>
              <a:ext cx="983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458" name="AutoShape 124"/>
            <p:cNvSpPr/>
            <p:nvPr/>
          </p:nvSpPr>
          <p:spPr>
            <a:xfrm>
              <a:off x="6346440" y="2022480"/>
              <a:ext cx="192600" cy="132480"/>
            </a:xfrm>
            <a:prstGeom prst="diamond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459" name="AutoShape 125"/>
            <p:cNvSpPr/>
            <p:nvPr/>
          </p:nvSpPr>
          <p:spPr>
            <a:xfrm>
              <a:off x="7472520" y="2022480"/>
              <a:ext cx="192600" cy="132480"/>
            </a:xfrm>
            <a:prstGeom prst="diamond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460" name="Line 126"/>
            <p:cNvSpPr/>
            <p:nvPr/>
          </p:nvSpPr>
          <p:spPr>
            <a:xfrm>
              <a:off x="7584120" y="2146320"/>
              <a:ext cx="0" cy="64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461" name="Line 127"/>
            <p:cNvSpPr/>
            <p:nvPr/>
          </p:nvSpPr>
          <p:spPr>
            <a:xfrm>
              <a:off x="6458040" y="2146320"/>
              <a:ext cx="0" cy="64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462" name="Rectangle 128"/>
            <p:cNvSpPr/>
            <p:nvPr/>
          </p:nvSpPr>
          <p:spPr>
            <a:xfrm>
              <a:off x="5819040" y="2396520"/>
              <a:ext cx="8064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463" name="Rectangle 129"/>
            <p:cNvSpPr/>
            <p:nvPr/>
          </p:nvSpPr>
          <p:spPr>
            <a:xfrm>
              <a:off x="7584120" y="2363400"/>
              <a:ext cx="8064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..2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464" name="Group 155"/>
          <p:cNvGrpSpPr/>
          <p:nvPr/>
        </p:nvGrpSpPr>
        <p:grpSpPr>
          <a:xfrm>
            <a:off x="2222640" y="4919760"/>
            <a:ext cx="5178240" cy="1379160"/>
            <a:chOff x="2222640" y="4919760"/>
            <a:chExt cx="5178240" cy="1379160"/>
          </a:xfrm>
        </p:grpSpPr>
        <p:grpSp>
          <p:nvGrpSpPr>
            <p:cNvPr id="465" name="Group 15"/>
            <p:cNvGrpSpPr/>
            <p:nvPr/>
          </p:nvGrpSpPr>
          <p:grpSpPr>
            <a:xfrm>
              <a:off x="2222640" y="4919760"/>
              <a:ext cx="2206440" cy="447480"/>
              <a:chOff x="2222640" y="4919760"/>
              <a:chExt cx="2206440" cy="447480"/>
            </a:xfrm>
          </p:grpSpPr>
          <p:sp>
            <p:nvSpPr>
              <p:cNvPr id="466" name="Rectangle 16"/>
              <p:cNvSpPr/>
              <p:nvPr/>
            </p:nvSpPr>
            <p:spPr>
              <a:xfrm>
                <a:off x="2222640" y="4919760"/>
                <a:ext cx="2206440" cy="447480"/>
              </a:xfrm>
              <a:prstGeom prst="rect">
                <a:avLst/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467" name="Rectangle 17"/>
              <p:cNvSpPr/>
              <p:nvPr/>
            </p:nvSpPr>
            <p:spPr>
              <a:xfrm>
                <a:off x="2432880" y="5035320"/>
                <a:ext cx="1783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TicketMachine</a:t>
                </a: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  <p:grpSp>
          <p:nvGrpSpPr>
            <p:cNvPr id="468" name="Group 18"/>
            <p:cNvGrpSpPr/>
            <p:nvPr/>
          </p:nvGrpSpPr>
          <p:grpSpPr>
            <a:xfrm>
              <a:off x="5194440" y="5851440"/>
              <a:ext cx="2206440" cy="447480"/>
              <a:chOff x="5194440" y="5851440"/>
              <a:chExt cx="2206440" cy="447480"/>
            </a:xfrm>
          </p:grpSpPr>
          <p:sp>
            <p:nvSpPr>
              <p:cNvPr id="469" name="Rectangle 19"/>
              <p:cNvSpPr/>
              <p:nvPr/>
            </p:nvSpPr>
            <p:spPr>
              <a:xfrm>
                <a:off x="5194440" y="5851440"/>
                <a:ext cx="2206440" cy="447480"/>
              </a:xfrm>
              <a:prstGeom prst="rect">
                <a:avLst/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470" name="Rectangle 20"/>
              <p:cNvSpPr/>
              <p:nvPr/>
            </p:nvSpPr>
            <p:spPr>
              <a:xfrm>
                <a:off x="5611320" y="6000480"/>
                <a:ext cx="137232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ZoneButton</a:t>
                </a: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  <p:cxnSp>
          <p:nvCxnSpPr>
            <p:cNvPr id="471" name="AutoShape 21"/>
            <p:cNvCxnSpPr>
              <a:stCxn id="466" idx="2"/>
              <a:endCxn id="469" idx="1"/>
            </p:cNvCxnSpPr>
            <p:nvPr/>
          </p:nvCxnSpPr>
          <p:spPr>
            <a:xfrm flipH="1" rot="16200000">
              <a:off x="3904920" y="4788360"/>
              <a:ext cx="708840" cy="18694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472" name="AutoShape 22"/>
            <p:cNvSpPr/>
            <p:nvPr/>
          </p:nvSpPr>
          <p:spPr>
            <a:xfrm>
              <a:off x="3213000" y="5365800"/>
              <a:ext cx="239760" cy="281160"/>
            </a:xfrm>
            <a:prstGeom prst="diamond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473" name="Text Box 23"/>
            <p:cNvSpPr/>
            <p:nvPr/>
          </p:nvSpPr>
          <p:spPr>
            <a:xfrm>
              <a:off x="4789800" y="56332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sp>
        <p:nvSpPr>
          <p:cNvPr id="474" name="Rectangle 157"/>
          <p:cNvSpPr/>
          <p:nvPr/>
        </p:nvSpPr>
        <p:spPr>
          <a:xfrm>
            <a:off x="496800" y="3654360"/>
            <a:ext cx="782316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Verdana"/>
              </a:rPr>
              <a:t>A solid diamond denotes </a:t>
            </a:r>
            <a:r>
              <a:rPr b="0" i="1" lang="en-US" sz="2000" spc="-1" strike="noStrike">
                <a:solidFill>
                  <a:srgbClr val="1615b1"/>
                </a:solidFill>
                <a:latin typeface="Verdana"/>
                <a:ea typeface="Verdana"/>
              </a:rPr>
              <a:t>compositio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Verdana"/>
              </a:rPr>
              <a:t>: A strong form of aggregation where the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  <a:ea typeface="Verdana"/>
              </a:rPr>
              <a:t>life time of the component instance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Verdana"/>
              </a:rPr>
              <a:t>  is controlled by the aggregate. That is, the parts don’t exist on their won (“the whole controls/destroys the parts”)  </a:t>
            </a:r>
            <a:endParaRPr b="1" lang="en-US" sz="20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Qualifiers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15600" y="4457520"/>
            <a:ext cx="8001000" cy="842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Qualifiers can be used to reduce the multiplicity of an associ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77" name="Group 97"/>
          <p:cNvGrpSpPr/>
          <p:nvPr/>
        </p:nvGrpSpPr>
        <p:grpSpPr>
          <a:xfrm>
            <a:off x="438120" y="1292400"/>
            <a:ext cx="8413560" cy="1323720"/>
            <a:chOff x="438120" y="1292400"/>
            <a:chExt cx="8413560" cy="1323720"/>
          </a:xfrm>
        </p:grpSpPr>
        <p:grpSp>
          <p:nvGrpSpPr>
            <p:cNvPr id="478" name="Group 54"/>
            <p:cNvGrpSpPr/>
            <p:nvPr/>
          </p:nvGrpSpPr>
          <p:grpSpPr>
            <a:xfrm>
              <a:off x="623880" y="1847880"/>
              <a:ext cx="2476440" cy="517320"/>
              <a:chOff x="623880" y="1847880"/>
              <a:chExt cx="2476440" cy="517320"/>
            </a:xfrm>
          </p:grpSpPr>
          <p:sp>
            <p:nvSpPr>
              <p:cNvPr id="479" name="Rectangle 13"/>
              <p:cNvSpPr/>
              <p:nvPr/>
            </p:nvSpPr>
            <p:spPr>
              <a:xfrm>
                <a:off x="623880" y="1847880"/>
                <a:ext cx="2476440" cy="517320"/>
              </a:xfrm>
              <a:prstGeom prst="rect">
                <a:avLst/>
              </a:prstGeom>
              <a:noFill/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480" name="Rectangle 14"/>
              <p:cNvSpPr/>
              <p:nvPr/>
            </p:nvSpPr>
            <p:spPr>
              <a:xfrm>
                <a:off x="1234800" y="2014200"/>
                <a:ext cx="137232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Courier New"/>
                  </a:rPr>
                  <a:t>Directory</a:t>
                </a:r>
                <a:endParaRPr b="1" lang="en-US" sz="20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  <p:grpSp>
          <p:nvGrpSpPr>
            <p:cNvPr id="481" name="Group 53"/>
            <p:cNvGrpSpPr/>
            <p:nvPr/>
          </p:nvGrpSpPr>
          <p:grpSpPr>
            <a:xfrm>
              <a:off x="6375240" y="1577880"/>
              <a:ext cx="2476440" cy="1038240"/>
              <a:chOff x="6375240" y="1577880"/>
              <a:chExt cx="2476440" cy="1038240"/>
            </a:xfrm>
          </p:grpSpPr>
          <p:sp>
            <p:nvSpPr>
              <p:cNvPr id="482" name="Rectangle 15"/>
              <p:cNvSpPr/>
              <p:nvPr/>
            </p:nvSpPr>
            <p:spPr>
              <a:xfrm>
                <a:off x="6375240" y="1577880"/>
                <a:ext cx="2476440" cy="517680"/>
              </a:xfrm>
              <a:prstGeom prst="rect">
                <a:avLst/>
              </a:prstGeom>
              <a:noFill/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483" name="Rectangle 16"/>
              <p:cNvSpPr/>
              <p:nvPr/>
            </p:nvSpPr>
            <p:spPr>
              <a:xfrm>
                <a:off x="7367040" y="1744560"/>
                <a:ext cx="61020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Courier New"/>
                  </a:rPr>
                  <a:t>File</a:t>
                </a:r>
                <a:endParaRPr b="1" lang="en-US" sz="20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484" name="Rectangle 18"/>
              <p:cNvSpPr/>
              <p:nvPr/>
            </p:nvSpPr>
            <p:spPr>
              <a:xfrm>
                <a:off x="6375240" y="2098800"/>
                <a:ext cx="2476440" cy="517320"/>
              </a:xfrm>
              <a:prstGeom prst="rect">
                <a:avLst/>
              </a:prstGeom>
              <a:noFill/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485" name="Rectangle 19"/>
              <p:cNvSpPr/>
              <p:nvPr/>
            </p:nvSpPr>
            <p:spPr>
              <a:xfrm>
                <a:off x="7062120" y="2171880"/>
                <a:ext cx="122004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Courier New"/>
                  </a:rPr>
                  <a:t>filename</a:t>
                </a:r>
                <a:endParaRPr b="1" lang="en-US" sz="20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  <p:sp>
          <p:nvSpPr>
            <p:cNvPr id="486" name="Rectangle 22"/>
            <p:cNvSpPr/>
            <p:nvPr/>
          </p:nvSpPr>
          <p:spPr>
            <a:xfrm>
              <a:off x="438120" y="1292400"/>
              <a:ext cx="2992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Without qualification</a:t>
              </a: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487" name="Line 17"/>
            <p:cNvSpPr/>
            <p:nvPr/>
          </p:nvSpPr>
          <p:spPr>
            <a:xfrm>
              <a:off x="3087720" y="2095560"/>
              <a:ext cx="3279600" cy="14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488" name="Rectangle 21"/>
            <p:cNvSpPr/>
            <p:nvPr/>
          </p:nvSpPr>
          <p:spPr>
            <a:xfrm>
              <a:off x="3234960" y="1800360"/>
              <a:ext cx="153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1</a:t>
              </a:r>
              <a:endParaRPr b="1" lang="en-US" sz="20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489" name="Rectangle 28"/>
            <p:cNvSpPr/>
            <p:nvPr/>
          </p:nvSpPr>
          <p:spPr>
            <a:xfrm>
              <a:off x="6213240" y="1800360"/>
              <a:ext cx="153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*</a:t>
              </a:r>
              <a:endParaRPr b="1" lang="en-US" sz="20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sp>
        <p:nvSpPr>
          <p:cNvPr id="490" name="Rectangle 25"/>
          <p:cNvSpPr/>
          <p:nvPr/>
        </p:nvSpPr>
        <p:spPr>
          <a:xfrm>
            <a:off x="446400" y="2736720"/>
            <a:ext cx="2509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ith qualification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91" name="Rectangle 29"/>
          <p:cNvSpPr/>
          <p:nvPr/>
        </p:nvSpPr>
        <p:spPr>
          <a:xfrm>
            <a:off x="5719680" y="3279600"/>
            <a:ext cx="610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0..1</a:t>
            </a:r>
            <a:endParaRPr b="1" lang="en-US" sz="2000" spc="-1" strike="noStrike">
              <a:solidFill>
                <a:srgbClr val="ff0000"/>
              </a:solidFill>
              <a:latin typeface="Arial"/>
            </a:endParaRPr>
          </a:p>
        </p:txBody>
      </p:sp>
      <p:grpSp>
        <p:nvGrpSpPr>
          <p:cNvPr id="492" name="Group 101"/>
          <p:cNvGrpSpPr/>
          <p:nvPr/>
        </p:nvGrpSpPr>
        <p:grpSpPr>
          <a:xfrm>
            <a:off x="623880" y="3324240"/>
            <a:ext cx="8194680" cy="552600"/>
            <a:chOff x="623880" y="3324240"/>
            <a:chExt cx="8194680" cy="552600"/>
          </a:xfrm>
        </p:grpSpPr>
        <p:sp>
          <p:nvSpPr>
            <p:cNvPr id="493" name="Rectangle 6"/>
            <p:cNvSpPr/>
            <p:nvPr/>
          </p:nvSpPr>
          <p:spPr>
            <a:xfrm>
              <a:off x="623880" y="3359160"/>
              <a:ext cx="2476440" cy="51768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494" name="Rectangle 7"/>
            <p:cNvSpPr/>
            <p:nvPr/>
          </p:nvSpPr>
          <p:spPr>
            <a:xfrm>
              <a:off x="1234800" y="3527280"/>
              <a:ext cx="13723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Directory</a:t>
              </a:r>
              <a:endParaRPr b="1" lang="en-US" sz="20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495" name="Rectangle 8"/>
            <p:cNvSpPr/>
            <p:nvPr/>
          </p:nvSpPr>
          <p:spPr>
            <a:xfrm>
              <a:off x="6342120" y="3359160"/>
              <a:ext cx="2476440" cy="51768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496" name="Rectangle 9"/>
            <p:cNvSpPr/>
            <p:nvPr/>
          </p:nvSpPr>
          <p:spPr>
            <a:xfrm>
              <a:off x="7333920" y="3527280"/>
              <a:ext cx="6102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File</a:t>
              </a:r>
              <a:endParaRPr b="1" lang="en-US" sz="20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497" name="Line 10"/>
            <p:cNvSpPr/>
            <p:nvPr/>
          </p:nvSpPr>
          <p:spPr>
            <a:xfrm>
              <a:off x="4946760" y="3584520"/>
              <a:ext cx="1373040" cy="18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498" name="Rectangle 30"/>
            <p:cNvSpPr/>
            <p:nvPr/>
          </p:nvSpPr>
          <p:spPr>
            <a:xfrm>
              <a:off x="5109840" y="3324240"/>
              <a:ext cx="153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1</a:t>
              </a:r>
              <a:endParaRPr b="1" lang="en-US" sz="20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499" name="Rectangle 12"/>
            <p:cNvSpPr/>
            <p:nvPr/>
          </p:nvSpPr>
          <p:spPr>
            <a:xfrm>
              <a:off x="3102120" y="3449520"/>
              <a:ext cx="1892160" cy="338400"/>
            </a:xfrm>
            <a:prstGeom prst="rect">
              <a:avLst/>
            </a:prstGeom>
            <a:solidFill>
              <a:srgbClr val="ffffff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500" name="Rectangle 11"/>
            <p:cNvSpPr/>
            <p:nvPr/>
          </p:nvSpPr>
          <p:spPr>
            <a:xfrm>
              <a:off x="3485880" y="3527280"/>
              <a:ext cx="1220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filename</a:t>
              </a:r>
              <a:endParaRPr b="1" lang="en-US" sz="20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9" dur="indefinite" restart="never" nodeType="tmRoot">
          <p:childTnLst>
            <p:seq>
              <p:cTn id="600" dur="indefinite" nodeType="mainSeq">
                <p:childTnLst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0" dur="500"/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Qualification: Another Example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502" name="Group 35"/>
          <p:cNvGrpSpPr/>
          <p:nvPr/>
        </p:nvGrpSpPr>
        <p:grpSpPr>
          <a:xfrm>
            <a:off x="838080" y="4078440"/>
            <a:ext cx="7246800" cy="2153880"/>
            <a:chOff x="838080" y="4078440"/>
            <a:chExt cx="7246800" cy="2153880"/>
          </a:xfrm>
        </p:grpSpPr>
        <p:grpSp>
          <p:nvGrpSpPr>
            <p:cNvPr id="503" name="Group 6"/>
            <p:cNvGrpSpPr/>
            <p:nvPr/>
          </p:nvGrpSpPr>
          <p:grpSpPr>
            <a:xfrm>
              <a:off x="838080" y="4114800"/>
              <a:ext cx="7246800" cy="2117520"/>
              <a:chOff x="838080" y="4114800"/>
              <a:chExt cx="7246800" cy="2117520"/>
            </a:xfrm>
          </p:grpSpPr>
          <p:sp>
            <p:nvSpPr>
              <p:cNvPr id="504" name="Rectangle 7"/>
              <p:cNvSpPr/>
              <p:nvPr/>
            </p:nvSpPr>
            <p:spPr>
              <a:xfrm>
                <a:off x="5639040" y="4246920"/>
                <a:ext cx="379440" cy="69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000000"/>
                    </a:solidFill>
                    <a:latin typeface="Arial"/>
                  </a:rPr>
                  <a:t>*</a:t>
                </a:r>
                <a:endParaRPr b="1" lang="en-US" sz="40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505" name="Rectangle 8"/>
              <p:cNvSpPr/>
              <p:nvPr/>
            </p:nvSpPr>
            <p:spPr>
              <a:xfrm>
                <a:off x="838080" y="4249800"/>
                <a:ext cx="2327400" cy="15832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506" name="Rectangle 9"/>
              <p:cNvSpPr/>
              <p:nvPr/>
            </p:nvSpPr>
            <p:spPr>
              <a:xfrm>
                <a:off x="1033560" y="4503960"/>
                <a:ext cx="217944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StockExchange</a:t>
                </a: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507" name="Rectangle 10"/>
              <p:cNvSpPr/>
              <p:nvPr/>
            </p:nvSpPr>
            <p:spPr>
              <a:xfrm>
                <a:off x="6084360" y="4127400"/>
                <a:ext cx="2000520" cy="2104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508" name="Rectangle 11"/>
              <p:cNvSpPr/>
              <p:nvPr/>
            </p:nvSpPr>
            <p:spPr>
              <a:xfrm>
                <a:off x="6450120" y="4262760"/>
                <a:ext cx="145080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Company</a:t>
                </a: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509" name="Rectangle 12"/>
              <p:cNvSpPr/>
              <p:nvPr/>
            </p:nvSpPr>
            <p:spPr>
              <a:xfrm>
                <a:off x="4517640" y="4114800"/>
                <a:ext cx="85212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3333ff"/>
                    </a:solidFill>
                    <a:latin typeface="Times New Roman"/>
                  </a:rPr>
                  <a:t>Lists </a:t>
                </a: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510" name="Line 13"/>
              <p:cNvSpPr/>
              <p:nvPr/>
            </p:nvSpPr>
            <p:spPr>
              <a:xfrm>
                <a:off x="838080" y="4995720"/>
                <a:ext cx="2317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511" name="Line 14"/>
              <p:cNvSpPr/>
              <p:nvPr/>
            </p:nvSpPr>
            <p:spPr>
              <a:xfrm>
                <a:off x="838080" y="5547600"/>
                <a:ext cx="2344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512" name="Line 15"/>
              <p:cNvSpPr/>
              <p:nvPr/>
            </p:nvSpPr>
            <p:spPr>
              <a:xfrm>
                <a:off x="6092280" y="5133960"/>
                <a:ext cx="1984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513" name="Line 16"/>
              <p:cNvSpPr/>
              <p:nvPr/>
            </p:nvSpPr>
            <p:spPr>
              <a:xfrm>
                <a:off x="6092280" y="5916240"/>
                <a:ext cx="1984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514" name="Line 17"/>
              <p:cNvSpPr/>
              <p:nvPr/>
            </p:nvSpPr>
            <p:spPr>
              <a:xfrm>
                <a:off x="3179520" y="4647240"/>
                <a:ext cx="2901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  <p:sp>
          <p:nvSpPr>
            <p:cNvPr id="515" name="Rectangle 18"/>
            <p:cNvSpPr/>
            <p:nvPr/>
          </p:nvSpPr>
          <p:spPr>
            <a:xfrm>
              <a:off x="3246480" y="4078440"/>
              <a:ext cx="379440" cy="69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1" lang="en-US" sz="40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sp>
        <p:nvSpPr>
          <p:cNvPr id="516" name="Rectangle 20"/>
          <p:cNvSpPr/>
          <p:nvPr/>
        </p:nvSpPr>
        <p:spPr>
          <a:xfrm>
            <a:off x="3187800" y="4468680"/>
            <a:ext cx="1342800" cy="332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ickerSymbol</a:t>
            </a:r>
            <a:endParaRPr b="1" lang="en-US" sz="1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17" name="Rectangle 19"/>
          <p:cNvSpPr/>
          <p:nvPr/>
        </p:nvSpPr>
        <p:spPr>
          <a:xfrm>
            <a:off x="5645160" y="4245120"/>
            <a:ext cx="307800" cy="363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18" name="Rectangle 21"/>
          <p:cNvSpPr/>
          <p:nvPr/>
        </p:nvSpPr>
        <p:spPr>
          <a:xfrm>
            <a:off x="685800" y="1935000"/>
            <a:ext cx="2341440" cy="1803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19" name="Rectangle 22"/>
          <p:cNvSpPr/>
          <p:nvPr/>
        </p:nvSpPr>
        <p:spPr>
          <a:xfrm>
            <a:off x="882720" y="2224080"/>
            <a:ext cx="2179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ockExchange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20" name="Rectangle 23"/>
          <p:cNvSpPr/>
          <p:nvPr/>
        </p:nvSpPr>
        <p:spPr>
          <a:xfrm>
            <a:off x="5964120" y="1359000"/>
            <a:ext cx="2013120" cy="2396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21" name="Rectangle 24"/>
          <p:cNvSpPr/>
          <p:nvPr/>
        </p:nvSpPr>
        <p:spPr>
          <a:xfrm>
            <a:off x="6332400" y="1441440"/>
            <a:ext cx="14508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22" name="Rectangle 25"/>
          <p:cNvSpPr/>
          <p:nvPr/>
        </p:nvSpPr>
        <p:spPr>
          <a:xfrm>
            <a:off x="5999760" y="2179800"/>
            <a:ext cx="19278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ickerSymbol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23" name="Rectangle 26"/>
          <p:cNvSpPr/>
          <p:nvPr/>
        </p:nvSpPr>
        <p:spPr>
          <a:xfrm>
            <a:off x="4187880" y="1925640"/>
            <a:ext cx="8521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ff"/>
                </a:solidFill>
                <a:latin typeface="Times New Roman"/>
              </a:rPr>
              <a:t>Lists 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24" name="Line 27"/>
          <p:cNvSpPr/>
          <p:nvPr/>
        </p:nvSpPr>
        <p:spPr>
          <a:xfrm>
            <a:off x="685800" y="2784600"/>
            <a:ext cx="2332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25" name="Line 28"/>
          <p:cNvSpPr/>
          <p:nvPr/>
        </p:nvSpPr>
        <p:spPr>
          <a:xfrm>
            <a:off x="685800" y="3413160"/>
            <a:ext cx="2359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26" name="Line 29"/>
          <p:cNvSpPr/>
          <p:nvPr/>
        </p:nvSpPr>
        <p:spPr>
          <a:xfrm>
            <a:off x="5972040" y="2060640"/>
            <a:ext cx="1997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27" name="Line 30"/>
          <p:cNvSpPr/>
          <p:nvPr/>
        </p:nvSpPr>
        <p:spPr>
          <a:xfrm>
            <a:off x="5972040" y="2951280"/>
            <a:ext cx="1997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28" name="Line 31"/>
          <p:cNvSpPr/>
          <p:nvPr/>
        </p:nvSpPr>
        <p:spPr>
          <a:xfrm>
            <a:off x="3041640" y="2522520"/>
            <a:ext cx="2919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29" name="Rectangle 32"/>
          <p:cNvSpPr/>
          <p:nvPr/>
        </p:nvSpPr>
        <p:spPr>
          <a:xfrm>
            <a:off x="5492880" y="1922400"/>
            <a:ext cx="37944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*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30" name="Rectangle 33"/>
          <p:cNvSpPr/>
          <p:nvPr/>
        </p:nvSpPr>
        <p:spPr>
          <a:xfrm>
            <a:off x="3108240" y="1874880"/>
            <a:ext cx="37944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*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1" dur="indefinite" restart="never" nodeType="tmRoot">
          <p:childTnLst>
            <p:seq>
              <p:cTn id="622" dur="indefinite" nodeType="mainSeq">
                <p:childTnLst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7" dur="10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3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6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Inheritance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533160" y="3966840"/>
            <a:ext cx="8001000" cy="212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262800" indent="-2628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615b1"/>
                </a:solidFill>
                <a:latin typeface="Verdana"/>
              </a:rPr>
              <a:t>Inheritance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s another special case of an association denoting a “kind-of” hierarchy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2800" indent="-2628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heritance simplifies the analysis model by introducing a taxonom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2800" indent="-2628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hildren classe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nherit the attributes and operations of the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arent clas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2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33" name="Group 19"/>
          <p:cNvGrpSpPr/>
          <p:nvPr/>
        </p:nvGrpSpPr>
        <p:grpSpPr>
          <a:xfrm>
            <a:off x="974880" y="1620720"/>
            <a:ext cx="6930720" cy="1895400"/>
            <a:chOff x="974880" y="1620720"/>
            <a:chExt cx="6930720" cy="1895400"/>
          </a:xfrm>
        </p:grpSpPr>
        <p:grpSp>
          <p:nvGrpSpPr>
            <p:cNvPr id="534" name="Group 5"/>
            <p:cNvGrpSpPr/>
            <p:nvPr/>
          </p:nvGrpSpPr>
          <p:grpSpPr>
            <a:xfrm>
              <a:off x="3260880" y="1620720"/>
              <a:ext cx="2206440" cy="447480"/>
              <a:chOff x="3260880" y="1620720"/>
              <a:chExt cx="2206440" cy="447480"/>
            </a:xfrm>
          </p:grpSpPr>
          <p:sp>
            <p:nvSpPr>
              <p:cNvPr id="535" name="Rectangle 6"/>
              <p:cNvSpPr/>
              <p:nvPr/>
            </p:nvSpPr>
            <p:spPr>
              <a:xfrm>
                <a:off x="3260880" y="1620720"/>
                <a:ext cx="2206440" cy="447480"/>
              </a:xfrm>
              <a:prstGeom prst="rect">
                <a:avLst/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536" name="Rectangle 7"/>
              <p:cNvSpPr/>
              <p:nvPr/>
            </p:nvSpPr>
            <p:spPr>
              <a:xfrm>
                <a:off x="3952080" y="1769760"/>
                <a:ext cx="8236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Button</a:t>
                </a: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  <p:grpSp>
          <p:nvGrpSpPr>
            <p:cNvPr id="537" name="Group 8"/>
            <p:cNvGrpSpPr/>
            <p:nvPr/>
          </p:nvGrpSpPr>
          <p:grpSpPr>
            <a:xfrm>
              <a:off x="5699160" y="3068640"/>
              <a:ext cx="2206440" cy="447480"/>
              <a:chOff x="5699160" y="3068640"/>
              <a:chExt cx="2206440" cy="447480"/>
            </a:xfrm>
          </p:grpSpPr>
          <p:sp>
            <p:nvSpPr>
              <p:cNvPr id="538" name="Rectangle 9"/>
              <p:cNvSpPr/>
              <p:nvPr/>
            </p:nvSpPr>
            <p:spPr>
              <a:xfrm>
                <a:off x="5699160" y="3068640"/>
                <a:ext cx="2206440" cy="447480"/>
              </a:xfrm>
              <a:prstGeom prst="rect">
                <a:avLst/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539" name="Rectangle 10"/>
              <p:cNvSpPr/>
              <p:nvPr/>
            </p:nvSpPr>
            <p:spPr>
              <a:xfrm>
                <a:off x="6116040" y="3217680"/>
                <a:ext cx="137232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ZoneButton</a:t>
                </a: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  <p:cxnSp>
          <p:nvCxnSpPr>
            <p:cNvPr id="540" name="AutoShape 11"/>
            <p:cNvCxnSpPr>
              <a:stCxn id="535" idx="2"/>
              <a:endCxn id="538" idx="1"/>
            </p:cNvCxnSpPr>
            <p:nvPr/>
          </p:nvCxnSpPr>
          <p:spPr>
            <a:xfrm flipH="1" rot="16200000">
              <a:off x="4418640" y="2020680"/>
              <a:ext cx="1216800" cy="1328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grpSp>
          <p:nvGrpSpPr>
            <p:cNvPr id="541" name="Group 14"/>
            <p:cNvGrpSpPr/>
            <p:nvPr/>
          </p:nvGrpSpPr>
          <p:grpSpPr>
            <a:xfrm>
              <a:off x="974880" y="3068640"/>
              <a:ext cx="2206440" cy="447480"/>
              <a:chOff x="974880" y="3068640"/>
              <a:chExt cx="2206440" cy="447480"/>
            </a:xfrm>
          </p:grpSpPr>
          <p:sp>
            <p:nvSpPr>
              <p:cNvPr id="542" name="Rectangle 15"/>
              <p:cNvSpPr/>
              <p:nvPr/>
            </p:nvSpPr>
            <p:spPr>
              <a:xfrm>
                <a:off x="974880" y="3068640"/>
                <a:ext cx="2206440" cy="447480"/>
              </a:xfrm>
              <a:prstGeom prst="rect">
                <a:avLst/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543" name="Rectangle 16"/>
              <p:cNvSpPr/>
              <p:nvPr/>
            </p:nvSpPr>
            <p:spPr>
              <a:xfrm>
                <a:off x="1255320" y="3217680"/>
                <a:ext cx="16466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CancelButton</a:t>
                </a: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  <p:cxnSp>
          <p:nvCxnSpPr>
            <p:cNvPr id="544" name="AutoShape 17"/>
            <p:cNvCxnSpPr>
              <a:stCxn id="542" idx="3"/>
              <a:endCxn id="535" idx="2"/>
            </p:cNvCxnSpPr>
            <p:nvPr/>
          </p:nvCxnSpPr>
          <p:spPr>
            <a:xfrm flipV="1">
              <a:off x="3188880" y="2076120"/>
              <a:ext cx="1175400" cy="1216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545" name="AutoShape 18"/>
            <p:cNvSpPr/>
            <p:nvPr/>
          </p:nvSpPr>
          <p:spPr>
            <a:xfrm>
              <a:off x="4152960" y="2095560"/>
              <a:ext cx="441360" cy="3808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7" dur="indefinite" restart="never" nodeType="tmRoot">
          <p:childTnLst>
            <p:seq>
              <p:cTn id="648" dur="indefinite" nodeType="mainSeq">
                <p:childTnLst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Packages</a:t>
            </a: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	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74840" y="1133280"/>
            <a:ext cx="82548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265680" indent="-2656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ckages help  you to organize UML models to increase their readability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5680" indent="-2656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e can use the UML package mechanism to organize classes into subsystems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56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56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56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56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56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56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5680" indent="-2656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y complex system can be decomposed into subsystems, where each subsystem is modeled as a packag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56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48" name="Group 132"/>
          <p:cNvGrpSpPr/>
          <p:nvPr/>
        </p:nvGrpSpPr>
        <p:grpSpPr>
          <a:xfrm>
            <a:off x="4311720" y="2676600"/>
            <a:ext cx="3311280" cy="1336680"/>
            <a:chOff x="4311720" y="2676600"/>
            <a:chExt cx="3311280" cy="1336680"/>
          </a:xfrm>
        </p:grpSpPr>
        <p:sp>
          <p:nvSpPr>
            <p:cNvPr id="549" name="Rectangle 8"/>
            <p:cNvSpPr/>
            <p:nvPr/>
          </p:nvSpPr>
          <p:spPr>
            <a:xfrm>
              <a:off x="4311720" y="2930400"/>
              <a:ext cx="3311280" cy="1082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550" name="Rectangle 9"/>
            <p:cNvSpPr/>
            <p:nvPr/>
          </p:nvSpPr>
          <p:spPr>
            <a:xfrm>
              <a:off x="5314680" y="3236760"/>
              <a:ext cx="1067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Account</a:t>
              </a:r>
              <a:endParaRPr b="1" lang="en-US" sz="20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551" name="Freeform 42"/>
            <p:cNvSpPr/>
            <p:nvPr/>
          </p:nvSpPr>
          <p:spPr>
            <a:xfrm>
              <a:off x="4324320" y="2676600"/>
              <a:ext cx="622440" cy="25380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grpSp>
          <p:nvGrpSpPr>
            <p:cNvPr id="552" name="Group 88"/>
            <p:cNvGrpSpPr/>
            <p:nvPr/>
          </p:nvGrpSpPr>
          <p:grpSpPr>
            <a:xfrm>
              <a:off x="6364440" y="2948040"/>
              <a:ext cx="1026720" cy="1028520"/>
              <a:chOff x="6364440" y="2948040"/>
              <a:chExt cx="1026720" cy="1028520"/>
            </a:xfrm>
          </p:grpSpPr>
          <p:sp>
            <p:nvSpPr>
              <p:cNvPr id="553" name="Rectangle 89"/>
              <p:cNvSpPr/>
              <p:nvPr/>
            </p:nvSpPr>
            <p:spPr>
              <a:xfrm>
                <a:off x="6364440" y="3532320"/>
                <a:ext cx="279360" cy="4417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554" name="Line 90"/>
              <p:cNvSpPr/>
              <p:nvPr/>
            </p:nvSpPr>
            <p:spPr>
              <a:xfrm>
                <a:off x="6364440" y="3667320"/>
                <a:ext cx="279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555" name="Line 91"/>
              <p:cNvSpPr/>
              <p:nvPr/>
            </p:nvSpPr>
            <p:spPr>
              <a:xfrm>
                <a:off x="6364440" y="3822120"/>
                <a:ext cx="279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556" name="AutoShape 92"/>
              <p:cNvSpPr/>
              <p:nvPr/>
            </p:nvSpPr>
            <p:spPr>
              <a:xfrm rot="2722200">
                <a:off x="6734520" y="3380040"/>
                <a:ext cx="62280" cy="536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557" name="Line 93"/>
              <p:cNvSpPr/>
              <p:nvPr/>
            </p:nvSpPr>
            <p:spPr>
              <a:xfrm flipV="1">
                <a:off x="6500880" y="3424320"/>
                <a:ext cx="245160" cy="11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558" name="Rectangle 94"/>
              <p:cNvSpPr/>
              <p:nvPr/>
            </p:nvSpPr>
            <p:spPr>
              <a:xfrm>
                <a:off x="6729120" y="3534840"/>
                <a:ext cx="279360" cy="4417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559" name="Line 95"/>
              <p:cNvSpPr/>
              <p:nvPr/>
            </p:nvSpPr>
            <p:spPr>
              <a:xfrm>
                <a:off x="6729120" y="3667320"/>
                <a:ext cx="279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560" name="Line 96"/>
              <p:cNvSpPr/>
              <p:nvPr/>
            </p:nvSpPr>
            <p:spPr>
              <a:xfrm>
                <a:off x="6729120" y="3822120"/>
                <a:ext cx="279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561" name="AutoShape 97"/>
              <p:cNvSpPr/>
              <p:nvPr/>
            </p:nvSpPr>
            <p:spPr>
              <a:xfrm rot="21593400">
                <a:off x="6828120" y="3379680"/>
                <a:ext cx="62280" cy="536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562" name="Line 98"/>
              <p:cNvSpPr/>
              <p:nvPr/>
            </p:nvSpPr>
            <p:spPr>
              <a:xfrm>
                <a:off x="6864120" y="3434040"/>
                <a:ext cx="0" cy="10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563" name="Rectangle 99"/>
              <p:cNvSpPr/>
              <p:nvPr/>
            </p:nvSpPr>
            <p:spPr>
              <a:xfrm>
                <a:off x="7111800" y="3534840"/>
                <a:ext cx="279360" cy="4417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564" name="Line 100"/>
              <p:cNvSpPr/>
              <p:nvPr/>
            </p:nvSpPr>
            <p:spPr>
              <a:xfrm>
                <a:off x="7111800" y="3667320"/>
                <a:ext cx="279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565" name="Line 101"/>
              <p:cNvSpPr/>
              <p:nvPr/>
            </p:nvSpPr>
            <p:spPr>
              <a:xfrm>
                <a:off x="7111800" y="3822120"/>
                <a:ext cx="279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566" name="AutoShape 102"/>
              <p:cNvSpPr/>
              <p:nvPr/>
            </p:nvSpPr>
            <p:spPr>
              <a:xfrm rot="18274800">
                <a:off x="6920640" y="3375000"/>
                <a:ext cx="62280" cy="536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567" name="Line 103"/>
              <p:cNvSpPr/>
              <p:nvPr/>
            </p:nvSpPr>
            <p:spPr>
              <a:xfrm>
                <a:off x="6972120" y="3417120"/>
                <a:ext cx="277200" cy="117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568" name="Rectangle 104"/>
              <p:cNvSpPr/>
              <p:nvPr/>
            </p:nvSpPr>
            <p:spPr>
              <a:xfrm>
                <a:off x="6732360" y="2948040"/>
                <a:ext cx="279360" cy="4417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569" name="Line 105"/>
              <p:cNvSpPr/>
              <p:nvPr/>
            </p:nvSpPr>
            <p:spPr>
              <a:xfrm>
                <a:off x="6732360" y="3080520"/>
                <a:ext cx="279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570" name="Line 106"/>
              <p:cNvSpPr/>
              <p:nvPr/>
            </p:nvSpPr>
            <p:spPr>
              <a:xfrm>
                <a:off x="6732360" y="3234960"/>
                <a:ext cx="279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71" name="Group 134"/>
          <p:cNvGrpSpPr/>
          <p:nvPr/>
        </p:nvGrpSpPr>
        <p:grpSpPr>
          <a:xfrm>
            <a:off x="4870440" y="4102200"/>
            <a:ext cx="2881440" cy="1066680"/>
            <a:chOff x="4870440" y="4102200"/>
            <a:chExt cx="2881440" cy="1066680"/>
          </a:xfrm>
        </p:grpSpPr>
        <p:sp>
          <p:nvSpPr>
            <p:cNvPr id="572" name="Rectangle 12"/>
            <p:cNvSpPr/>
            <p:nvPr/>
          </p:nvSpPr>
          <p:spPr>
            <a:xfrm>
              <a:off x="4870440" y="4356000"/>
              <a:ext cx="2881440" cy="812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573" name="Rectangle 13"/>
            <p:cNvSpPr/>
            <p:nvPr/>
          </p:nvSpPr>
          <p:spPr>
            <a:xfrm>
              <a:off x="5732280" y="4616280"/>
              <a:ext cx="1220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Customer</a:t>
              </a:r>
              <a:endParaRPr b="1" lang="en-US" sz="20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574" name="Freeform 41"/>
            <p:cNvSpPr/>
            <p:nvPr/>
          </p:nvSpPr>
          <p:spPr>
            <a:xfrm>
              <a:off x="4870440" y="4102200"/>
              <a:ext cx="622440" cy="25380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grpSp>
          <p:nvGrpSpPr>
            <p:cNvPr id="575" name="Group 127"/>
            <p:cNvGrpSpPr/>
            <p:nvPr/>
          </p:nvGrpSpPr>
          <p:grpSpPr>
            <a:xfrm>
              <a:off x="7151760" y="4535640"/>
              <a:ext cx="279360" cy="441000"/>
              <a:chOff x="7151760" y="4535640"/>
              <a:chExt cx="279360" cy="441000"/>
            </a:xfrm>
          </p:grpSpPr>
          <p:sp>
            <p:nvSpPr>
              <p:cNvPr id="576" name="Rectangle 123"/>
              <p:cNvSpPr/>
              <p:nvPr/>
            </p:nvSpPr>
            <p:spPr>
              <a:xfrm>
                <a:off x="7151760" y="4535640"/>
                <a:ext cx="279360" cy="441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577" name="Line 124"/>
              <p:cNvSpPr/>
              <p:nvPr/>
            </p:nvSpPr>
            <p:spPr>
              <a:xfrm>
                <a:off x="7151760" y="4667040"/>
                <a:ext cx="279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578" name="Line 125"/>
              <p:cNvSpPr/>
              <p:nvPr/>
            </p:nvSpPr>
            <p:spPr>
              <a:xfrm>
                <a:off x="7151760" y="4822920"/>
                <a:ext cx="279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79" name="Group 133"/>
          <p:cNvGrpSpPr/>
          <p:nvPr/>
        </p:nvGrpSpPr>
        <p:grpSpPr>
          <a:xfrm>
            <a:off x="1805040" y="4038480"/>
            <a:ext cx="2520720" cy="1141560"/>
            <a:chOff x="1805040" y="4038480"/>
            <a:chExt cx="2520720" cy="1141560"/>
          </a:xfrm>
        </p:grpSpPr>
        <p:sp>
          <p:nvSpPr>
            <p:cNvPr id="580" name="Rectangle 10"/>
            <p:cNvSpPr/>
            <p:nvPr/>
          </p:nvSpPr>
          <p:spPr>
            <a:xfrm>
              <a:off x="1805040" y="4292640"/>
              <a:ext cx="2520720" cy="88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581" name="Rectangle 11"/>
            <p:cNvSpPr/>
            <p:nvPr/>
          </p:nvSpPr>
          <p:spPr>
            <a:xfrm>
              <a:off x="2930400" y="4581360"/>
              <a:ext cx="6102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Bank</a:t>
              </a:r>
              <a:endParaRPr b="1" lang="en-US" sz="20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582" name="Freeform 45"/>
            <p:cNvSpPr/>
            <p:nvPr/>
          </p:nvSpPr>
          <p:spPr>
            <a:xfrm>
              <a:off x="1835280" y="4038480"/>
              <a:ext cx="622080" cy="25416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grpSp>
          <p:nvGrpSpPr>
            <p:cNvPr id="583" name="Group 128"/>
            <p:cNvGrpSpPr/>
            <p:nvPr/>
          </p:nvGrpSpPr>
          <p:grpSpPr>
            <a:xfrm>
              <a:off x="3736800" y="4541760"/>
              <a:ext cx="279360" cy="441360"/>
              <a:chOff x="3736800" y="4541760"/>
              <a:chExt cx="279360" cy="441360"/>
            </a:xfrm>
          </p:grpSpPr>
          <p:sp>
            <p:nvSpPr>
              <p:cNvPr id="584" name="Rectangle 129"/>
              <p:cNvSpPr/>
              <p:nvPr/>
            </p:nvSpPr>
            <p:spPr>
              <a:xfrm>
                <a:off x="3736800" y="4541760"/>
                <a:ext cx="279360" cy="441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585" name="Line 130"/>
              <p:cNvSpPr/>
              <p:nvPr/>
            </p:nvSpPr>
            <p:spPr>
              <a:xfrm>
                <a:off x="3736800" y="4673520"/>
                <a:ext cx="279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586" name="Line 131"/>
              <p:cNvSpPr/>
              <p:nvPr/>
            </p:nvSpPr>
            <p:spPr>
              <a:xfrm>
                <a:off x="3736800" y="4829400"/>
                <a:ext cx="279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5" dur="indefinite" restart="never" nodeType="tmRoot">
          <p:childTnLst>
            <p:seq>
              <p:cTn id="666" dur="indefinite" nodeType="mainSeq">
                <p:childTnLst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Object Modeling in Practice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8" name="Text Box 13"/>
          <p:cNvSpPr/>
          <p:nvPr/>
        </p:nvSpPr>
        <p:spPr>
          <a:xfrm>
            <a:off x="804240" y="4956120"/>
            <a:ext cx="773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lass Identification: Name of Class, Attributes and Methods</a:t>
            </a:r>
            <a:endParaRPr b="1" lang="en-US" sz="2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89" name="Text Box 14"/>
          <p:cNvSpPr/>
          <p:nvPr/>
        </p:nvSpPr>
        <p:spPr>
          <a:xfrm>
            <a:off x="1193040" y="5124600"/>
            <a:ext cx="274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Is </a:t>
            </a:r>
            <a:r>
              <a:rPr b="1" lang="en-US" sz="1800" spc="-1" strike="noStrike">
                <a:solidFill>
                  <a:srgbClr val="3333ff"/>
                </a:solidFill>
                <a:latin typeface="Verdana"/>
              </a:rPr>
              <a:t>Foo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the right name?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grpSp>
        <p:nvGrpSpPr>
          <p:cNvPr id="590" name="Group 15"/>
          <p:cNvGrpSpPr/>
          <p:nvPr/>
        </p:nvGrpSpPr>
        <p:grpSpPr>
          <a:xfrm>
            <a:off x="3492720" y="1371600"/>
            <a:ext cx="1675800" cy="2327400"/>
            <a:chOff x="3492720" y="1371600"/>
            <a:chExt cx="1675800" cy="2327400"/>
          </a:xfrm>
        </p:grpSpPr>
        <p:grpSp>
          <p:nvGrpSpPr>
            <p:cNvPr id="591" name="Group 16"/>
            <p:cNvGrpSpPr/>
            <p:nvPr/>
          </p:nvGrpSpPr>
          <p:grpSpPr>
            <a:xfrm>
              <a:off x="3581280" y="1371600"/>
              <a:ext cx="1447200" cy="2285640"/>
              <a:chOff x="3581280" y="1371600"/>
              <a:chExt cx="1447200" cy="2285640"/>
            </a:xfrm>
          </p:grpSpPr>
          <p:sp>
            <p:nvSpPr>
              <p:cNvPr id="592" name="Rectangle 17"/>
              <p:cNvSpPr/>
              <p:nvPr/>
            </p:nvSpPr>
            <p:spPr>
              <a:xfrm>
                <a:off x="3581280" y="1371600"/>
                <a:ext cx="1447200" cy="22856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593" name="Line 18"/>
              <p:cNvSpPr/>
              <p:nvPr/>
            </p:nvSpPr>
            <p:spPr>
              <a:xfrm>
                <a:off x="3581280" y="2057400"/>
                <a:ext cx="144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594" name="Line 19"/>
              <p:cNvSpPr/>
              <p:nvPr/>
            </p:nvSpPr>
            <p:spPr>
              <a:xfrm>
                <a:off x="3581280" y="2857680"/>
                <a:ext cx="144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  <p:sp>
          <p:nvSpPr>
            <p:cNvPr id="595" name="Text Box 20"/>
            <p:cNvSpPr/>
            <p:nvPr/>
          </p:nvSpPr>
          <p:spPr>
            <a:xfrm>
              <a:off x="4079880" y="1501920"/>
              <a:ext cx="60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ff"/>
                  </a:solidFill>
                  <a:latin typeface="Palatino"/>
                </a:rPr>
                <a:t>Foo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596" name="Text Box 21"/>
            <p:cNvSpPr/>
            <p:nvPr/>
          </p:nvSpPr>
          <p:spPr>
            <a:xfrm>
              <a:off x="3531240" y="2035080"/>
              <a:ext cx="111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Palatino"/>
                </a:rPr>
                <a:t>Amount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597" name="Text Box 22"/>
            <p:cNvSpPr/>
            <p:nvPr/>
          </p:nvSpPr>
          <p:spPr>
            <a:xfrm>
              <a:off x="3507480" y="2416320"/>
              <a:ext cx="1544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Palatino"/>
                </a:rPr>
                <a:t>CustomerId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598" name="Text Box 23"/>
            <p:cNvSpPr/>
            <p:nvPr/>
          </p:nvSpPr>
          <p:spPr>
            <a:xfrm>
              <a:off x="3524760" y="2873520"/>
              <a:ext cx="1243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Palatino"/>
                </a:rPr>
                <a:t>Deposit()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599" name="Text Box 24"/>
            <p:cNvSpPr/>
            <p:nvPr/>
          </p:nvSpPr>
          <p:spPr>
            <a:xfrm>
              <a:off x="3494520" y="3102120"/>
              <a:ext cx="1532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Palatino"/>
                </a:rPr>
                <a:t>Withdraw()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600" name="Text Box 25"/>
            <p:cNvSpPr/>
            <p:nvPr/>
          </p:nvSpPr>
          <p:spPr>
            <a:xfrm>
              <a:off x="3492720" y="3330720"/>
              <a:ext cx="167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Palatino"/>
                </a:rPr>
                <a:t>GetBalance()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1" dur="indefinite" restart="never" nodeType="tmRoot">
          <p:childTnLst>
            <p:seq>
              <p:cTn id="692" dur="indefinite" nodeType="mainSeq">
                <p:childTnLst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What is UML? 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entury Gothic"/>
              </a:rPr>
              <a:t>U</a:t>
            </a: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nified 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entury Gothic"/>
              </a:rPr>
              <a:t>M</a:t>
            </a: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odeling 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entury Gothic"/>
              </a:rPr>
              <a:t>L</a:t>
            </a: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anguage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98080" y="947520"/>
            <a:ext cx="884556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vergence of different notations used in object-oriented methods, mainl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MT (James Rumbaugh and collegues), OOSE (Ivar Jacobson), Booch (Grady Booch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y also developed the Rational Unified Process, which became the Unified Process in 1999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4" name="Group 13"/>
          <p:cNvGrpSpPr/>
          <p:nvPr/>
        </p:nvGrpSpPr>
        <p:grpSpPr>
          <a:xfrm>
            <a:off x="0" y="3193920"/>
            <a:ext cx="3292560" cy="3346200"/>
            <a:chOff x="0" y="3193920"/>
            <a:chExt cx="3292560" cy="3346200"/>
          </a:xfrm>
        </p:grpSpPr>
        <p:pic>
          <p:nvPicPr>
            <p:cNvPr id="95" name="Picture 4" descr=""/>
            <p:cNvPicPr/>
            <p:nvPr/>
          </p:nvPicPr>
          <p:blipFill>
            <a:blip r:embed="rId1"/>
            <a:stretch/>
          </p:blipFill>
          <p:spPr>
            <a:xfrm>
              <a:off x="903240" y="3193920"/>
              <a:ext cx="1531800" cy="191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Text Box 7"/>
            <p:cNvSpPr/>
            <p:nvPr/>
          </p:nvSpPr>
          <p:spPr>
            <a:xfrm>
              <a:off x="0" y="5226480"/>
              <a:ext cx="329256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5 year at GE Research, where he developed OMT, joined (IBM) Rational in 1994, CASE tool OMTool</a:t>
              </a:r>
              <a:endParaRPr b="1" lang="en-US" sz="20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97" name="Group 14"/>
          <p:cNvGrpSpPr/>
          <p:nvPr/>
        </p:nvGrpSpPr>
        <p:grpSpPr>
          <a:xfrm>
            <a:off x="3451320" y="3029040"/>
            <a:ext cx="3368520" cy="3755520"/>
            <a:chOff x="3451320" y="3029040"/>
            <a:chExt cx="3368520" cy="3755520"/>
          </a:xfrm>
        </p:grpSpPr>
        <p:pic>
          <p:nvPicPr>
            <p:cNvPr id="98" name="Picture 8" descr=""/>
            <p:cNvPicPr/>
            <p:nvPr/>
          </p:nvPicPr>
          <p:blipFill>
            <a:blip r:embed="rId2"/>
            <a:stretch/>
          </p:blipFill>
          <p:spPr>
            <a:xfrm>
              <a:off x="3751200" y="3029040"/>
              <a:ext cx="1519560" cy="201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Text Box 9"/>
            <p:cNvSpPr/>
            <p:nvPr/>
          </p:nvSpPr>
          <p:spPr>
            <a:xfrm>
              <a:off x="3451320" y="5166000"/>
              <a:ext cx="3368520" cy="161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t Ericsson until 1994, developed use cases and  the CASE tool Objectory,  at  IBM Rational since 1995, http://www.ivarjacobson.com</a:t>
              </a:r>
              <a:endParaRPr b="1" lang="en-US" sz="20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100" name="Group 16"/>
          <p:cNvGrpSpPr/>
          <p:nvPr/>
        </p:nvGrpSpPr>
        <p:grpSpPr>
          <a:xfrm>
            <a:off x="6996240" y="3224160"/>
            <a:ext cx="2147760" cy="3573360"/>
            <a:chOff x="6996240" y="3224160"/>
            <a:chExt cx="2147760" cy="3573360"/>
          </a:xfrm>
        </p:grpSpPr>
        <p:pic>
          <p:nvPicPr>
            <p:cNvPr id="101" name="Picture 10" descr=""/>
            <p:cNvPicPr/>
            <p:nvPr/>
          </p:nvPicPr>
          <p:blipFill>
            <a:blip r:embed="rId3"/>
            <a:stretch/>
          </p:blipFill>
          <p:spPr>
            <a:xfrm>
              <a:off x="7219800" y="3224160"/>
              <a:ext cx="964800" cy="130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Text Box 15"/>
            <p:cNvSpPr/>
            <p:nvPr/>
          </p:nvSpPr>
          <p:spPr>
            <a:xfrm>
              <a:off x="6996240" y="4569120"/>
              <a:ext cx="2147760" cy="22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eveloped the Booch method (“clouds”), ACM Fellow 1995,  and IBM Fellow 2003</a:t>
              </a:r>
              <a:endParaRPr b="1" lang="en-US" sz="2000" spc="-1" strike="noStrike">
                <a:solidFill>
                  <a:srgbClr val="ff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http://www.booch.com/</a:t>
              </a:r>
              <a:endParaRPr b="1" lang="en-US" sz="20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pic>
        <p:nvPicPr>
          <p:cNvPr id="103" name="Picture 12" descr=""/>
          <p:cNvPicPr/>
          <p:nvPr/>
        </p:nvPicPr>
        <p:blipFill>
          <a:blip r:embed="rId4"/>
          <a:stretch/>
        </p:blipFill>
        <p:spPr>
          <a:xfrm>
            <a:off x="7016760" y="3035160"/>
            <a:ext cx="1650960" cy="158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04920" y="222120"/>
            <a:ext cx="861048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Object Modeling in Practice:  Brainstorming 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602" name="Group 3"/>
          <p:cNvGrpSpPr/>
          <p:nvPr/>
        </p:nvGrpSpPr>
        <p:grpSpPr>
          <a:xfrm>
            <a:off x="3492720" y="1371600"/>
            <a:ext cx="1675800" cy="2327400"/>
            <a:chOff x="3492720" y="1371600"/>
            <a:chExt cx="1675800" cy="2327400"/>
          </a:xfrm>
        </p:grpSpPr>
        <p:grpSp>
          <p:nvGrpSpPr>
            <p:cNvPr id="603" name="Group 4"/>
            <p:cNvGrpSpPr/>
            <p:nvPr/>
          </p:nvGrpSpPr>
          <p:grpSpPr>
            <a:xfrm>
              <a:off x="3581280" y="1371600"/>
              <a:ext cx="1447200" cy="2285640"/>
              <a:chOff x="3581280" y="1371600"/>
              <a:chExt cx="1447200" cy="2285640"/>
            </a:xfrm>
          </p:grpSpPr>
          <p:sp>
            <p:nvSpPr>
              <p:cNvPr id="604" name="Rectangle 5"/>
              <p:cNvSpPr/>
              <p:nvPr/>
            </p:nvSpPr>
            <p:spPr>
              <a:xfrm>
                <a:off x="3581280" y="1371600"/>
                <a:ext cx="1447200" cy="22856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605" name="Line 6"/>
              <p:cNvSpPr/>
              <p:nvPr/>
            </p:nvSpPr>
            <p:spPr>
              <a:xfrm>
                <a:off x="3581280" y="2057400"/>
                <a:ext cx="144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606" name="Line 7"/>
              <p:cNvSpPr/>
              <p:nvPr/>
            </p:nvSpPr>
            <p:spPr>
              <a:xfrm>
                <a:off x="3581280" y="2857680"/>
                <a:ext cx="144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  <p:sp>
          <p:nvSpPr>
            <p:cNvPr id="607" name="Text Box 8"/>
            <p:cNvSpPr/>
            <p:nvPr/>
          </p:nvSpPr>
          <p:spPr>
            <a:xfrm>
              <a:off x="4079880" y="1501920"/>
              <a:ext cx="60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ff"/>
                  </a:solidFill>
                  <a:latin typeface="Palatino"/>
                </a:rPr>
                <a:t>Foo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608" name="Text Box 9"/>
            <p:cNvSpPr/>
            <p:nvPr/>
          </p:nvSpPr>
          <p:spPr>
            <a:xfrm>
              <a:off x="3531240" y="2035080"/>
              <a:ext cx="111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Palatino"/>
                </a:rPr>
                <a:t>Amount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609" name="Text Box 10"/>
            <p:cNvSpPr/>
            <p:nvPr/>
          </p:nvSpPr>
          <p:spPr>
            <a:xfrm>
              <a:off x="3507480" y="2416320"/>
              <a:ext cx="1544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Palatino"/>
                </a:rPr>
                <a:t>CustomerId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610" name="Text Box 11"/>
            <p:cNvSpPr/>
            <p:nvPr/>
          </p:nvSpPr>
          <p:spPr>
            <a:xfrm>
              <a:off x="3524760" y="2873520"/>
              <a:ext cx="1243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Palatino"/>
                </a:rPr>
                <a:t>Deposit()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611" name="Text Box 12"/>
            <p:cNvSpPr/>
            <p:nvPr/>
          </p:nvSpPr>
          <p:spPr>
            <a:xfrm>
              <a:off x="3494520" y="3102120"/>
              <a:ext cx="1532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Palatino"/>
                </a:rPr>
                <a:t>Withdraw()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612" name="Text Box 13"/>
            <p:cNvSpPr/>
            <p:nvPr/>
          </p:nvSpPr>
          <p:spPr>
            <a:xfrm>
              <a:off x="3492720" y="3330720"/>
              <a:ext cx="167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Palatino"/>
                </a:rPr>
                <a:t>GetBalance()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aphicFrame>
        <p:nvGraphicFramePr>
          <p:cNvPr id="613" name=""/>
          <p:cNvGraphicFramePr/>
          <p:nvPr/>
        </p:nvGraphicFramePr>
        <p:xfrm>
          <a:off x="6629400" y="1219320"/>
          <a:ext cx="1932120" cy="241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29400" y="1219320"/>
                    <a:ext cx="1932120" cy="241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15" name="Group 15"/>
          <p:cNvGrpSpPr/>
          <p:nvPr/>
        </p:nvGrpSpPr>
        <p:grpSpPr>
          <a:xfrm>
            <a:off x="3429000" y="1371600"/>
            <a:ext cx="1904760" cy="685800"/>
            <a:chOff x="3429000" y="1371600"/>
            <a:chExt cx="1904760" cy="685800"/>
          </a:xfrm>
        </p:grpSpPr>
        <p:sp>
          <p:nvSpPr>
            <p:cNvPr id="616" name="Line 16"/>
            <p:cNvSpPr/>
            <p:nvPr/>
          </p:nvSpPr>
          <p:spPr>
            <a:xfrm flipH="1">
              <a:off x="3580920" y="1371600"/>
              <a:ext cx="1676520" cy="646560"/>
            </a:xfrm>
            <a:prstGeom prst="line">
              <a:avLst/>
            </a:prstGeom>
            <a:ln w="5724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617" name="Line 17"/>
            <p:cNvSpPr/>
            <p:nvPr/>
          </p:nvSpPr>
          <p:spPr>
            <a:xfrm>
              <a:off x="3429000" y="1371600"/>
              <a:ext cx="1904760" cy="685800"/>
            </a:xfrm>
            <a:prstGeom prst="line">
              <a:avLst/>
            </a:prstGeom>
            <a:ln w="5724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618" name="Group 18"/>
          <p:cNvGrpSpPr/>
          <p:nvPr/>
        </p:nvGrpSpPr>
        <p:grpSpPr>
          <a:xfrm>
            <a:off x="5642280" y="3429000"/>
            <a:ext cx="1675800" cy="2327040"/>
            <a:chOff x="5642280" y="3429000"/>
            <a:chExt cx="1675800" cy="2327040"/>
          </a:xfrm>
        </p:grpSpPr>
        <p:grpSp>
          <p:nvGrpSpPr>
            <p:cNvPr id="619" name="Group 19"/>
            <p:cNvGrpSpPr/>
            <p:nvPr/>
          </p:nvGrpSpPr>
          <p:grpSpPr>
            <a:xfrm>
              <a:off x="5730840" y="3429000"/>
              <a:ext cx="1447200" cy="2285640"/>
              <a:chOff x="5730840" y="3429000"/>
              <a:chExt cx="1447200" cy="2285640"/>
            </a:xfrm>
          </p:grpSpPr>
          <p:sp>
            <p:nvSpPr>
              <p:cNvPr id="620" name="Rectangle 20"/>
              <p:cNvSpPr/>
              <p:nvPr/>
            </p:nvSpPr>
            <p:spPr>
              <a:xfrm>
                <a:off x="5730840" y="3429000"/>
                <a:ext cx="1447200" cy="22856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621" name="Line 21"/>
              <p:cNvSpPr/>
              <p:nvPr/>
            </p:nvSpPr>
            <p:spPr>
              <a:xfrm>
                <a:off x="5730840" y="4114800"/>
                <a:ext cx="144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622" name="Line 22"/>
              <p:cNvSpPr/>
              <p:nvPr/>
            </p:nvSpPr>
            <p:spPr>
              <a:xfrm>
                <a:off x="5730840" y="4915080"/>
                <a:ext cx="144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  <p:sp>
          <p:nvSpPr>
            <p:cNvPr id="623" name="Text Box 23"/>
            <p:cNvSpPr/>
            <p:nvPr/>
          </p:nvSpPr>
          <p:spPr>
            <a:xfrm>
              <a:off x="5993640" y="3581280"/>
              <a:ext cx="1131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ff"/>
                  </a:solidFill>
                  <a:latin typeface="Palatino"/>
                </a:rPr>
                <a:t>Account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624" name="Text Box 24"/>
            <p:cNvSpPr/>
            <p:nvPr/>
          </p:nvSpPr>
          <p:spPr>
            <a:xfrm>
              <a:off x="5680800" y="4092480"/>
              <a:ext cx="111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Palatino"/>
                </a:rPr>
                <a:t>Amount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625" name="Text Box 25"/>
            <p:cNvSpPr/>
            <p:nvPr/>
          </p:nvSpPr>
          <p:spPr>
            <a:xfrm>
              <a:off x="5657040" y="4473360"/>
              <a:ext cx="1544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Palatino"/>
                </a:rPr>
                <a:t>CustomerId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626" name="Text Box 26"/>
            <p:cNvSpPr/>
            <p:nvPr/>
          </p:nvSpPr>
          <p:spPr>
            <a:xfrm>
              <a:off x="5674680" y="4930560"/>
              <a:ext cx="1243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Palatino"/>
                </a:rPr>
                <a:t>Deposit()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627" name="Text Box 27"/>
            <p:cNvSpPr/>
            <p:nvPr/>
          </p:nvSpPr>
          <p:spPr>
            <a:xfrm>
              <a:off x="5644080" y="5159160"/>
              <a:ext cx="1532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Palatino"/>
                </a:rPr>
                <a:t>Withdraw()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628" name="Text Box 28"/>
            <p:cNvSpPr/>
            <p:nvPr/>
          </p:nvSpPr>
          <p:spPr>
            <a:xfrm>
              <a:off x="5642280" y="5387760"/>
              <a:ext cx="167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Palatino"/>
                </a:rPr>
                <a:t>GetBalance()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sp>
        <p:nvSpPr>
          <p:cNvPr id="629" name="Text Box 29"/>
          <p:cNvSpPr/>
          <p:nvPr/>
        </p:nvSpPr>
        <p:spPr>
          <a:xfrm>
            <a:off x="1193040" y="5083200"/>
            <a:ext cx="274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Is </a:t>
            </a:r>
            <a:r>
              <a:rPr b="1" lang="en-US" sz="1800" spc="-1" strike="noStrike">
                <a:solidFill>
                  <a:srgbClr val="3333ff"/>
                </a:solidFill>
                <a:latin typeface="Verdana"/>
              </a:rPr>
              <a:t>Foo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the right name?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grpSp>
        <p:nvGrpSpPr>
          <p:cNvPr id="630" name="Group 30"/>
          <p:cNvGrpSpPr/>
          <p:nvPr/>
        </p:nvGrpSpPr>
        <p:grpSpPr>
          <a:xfrm>
            <a:off x="304920" y="1371600"/>
            <a:ext cx="2501640" cy="2327400"/>
            <a:chOff x="304920" y="1371600"/>
            <a:chExt cx="2501640" cy="2327400"/>
          </a:xfrm>
        </p:grpSpPr>
        <p:grpSp>
          <p:nvGrpSpPr>
            <p:cNvPr id="631" name="Group 31"/>
            <p:cNvGrpSpPr/>
            <p:nvPr/>
          </p:nvGrpSpPr>
          <p:grpSpPr>
            <a:xfrm>
              <a:off x="1130760" y="1371600"/>
              <a:ext cx="1675800" cy="2327400"/>
              <a:chOff x="1130760" y="1371600"/>
              <a:chExt cx="1675800" cy="2327400"/>
            </a:xfrm>
          </p:grpSpPr>
          <p:grpSp>
            <p:nvGrpSpPr>
              <p:cNvPr id="632" name="Group 32"/>
              <p:cNvGrpSpPr/>
              <p:nvPr/>
            </p:nvGrpSpPr>
            <p:grpSpPr>
              <a:xfrm>
                <a:off x="1219320" y="1371600"/>
                <a:ext cx="1447560" cy="2285640"/>
                <a:chOff x="1219320" y="1371600"/>
                <a:chExt cx="1447560" cy="2285640"/>
              </a:xfrm>
            </p:grpSpPr>
            <p:sp>
              <p:nvSpPr>
                <p:cNvPr id="633" name="Rectangle 33"/>
                <p:cNvSpPr/>
                <p:nvPr/>
              </p:nvSpPr>
              <p:spPr>
                <a:xfrm>
                  <a:off x="1219320" y="1371600"/>
                  <a:ext cx="1447560" cy="228564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  <p:sp>
              <p:nvSpPr>
                <p:cNvPr id="634" name="Line 34"/>
                <p:cNvSpPr/>
                <p:nvPr/>
              </p:nvSpPr>
              <p:spPr>
                <a:xfrm>
                  <a:off x="1219320" y="2057400"/>
                  <a:ext cx="1447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  <p:sp>
              <p:nvSpPr>
                <p:cNvPr id="635" name="Line 35"/>
                <p:cNvSpPr/>
                <p:nvPr/>
              </p:nvSpPr>
              <p:spPr>
                <a:xfrm>
                  <a:off x="1219320" y="2857680"/>
                  <a:ext cx="1447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6" name="Text Box 36"/>
              <p:cNvSpPr/>
              <p:nvPr/>
            </p:nvSpPr>
            <p:spPr>
              <a:xfrm>
                <a:off x="1509480" y="1523880"/>
                <a:ext cx="1000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ff"/>
                    </a:solidFill>
                    <a:latin typeface="Palatino"/>
                  </a:rPr>
                  <a:t>“</a:t>
                </a:r>
                <a:r>
                  <a:rPr b="1" lang="en-US" sz="1800" spc="-1" strike="noStrike">
                    <a:solidFill>
                      <a:srgbClr val="3333ff"/>
                    </a:solidFill>
                    <a:latin typeface="Palatino"/>
                  </a:rPr>
                  <a:t>Dada”</a:t>
                </a: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637" name="Text Box 37"/>
              <p:cNvSpPr/>
              <p:nvPr/>
            </p:nvSpPr>
            <p:spPr>
              <a:xfrm>
                <a:off x="1169280" y="2035080"/>
                <a:ext cx="1116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Palatino"/>
                  </a:rPr>
                  <a:t>Amount</a:t>
                </a: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638" name="Text Box 38"/>
              <p:cNvSpPr/>
              <p:nvPr/>
            </p:nvSpPr>
            <p:spPr>
              <a:xfrm>
                <a:off x="1145520" y="2416320"/>
                <a:ext cx="1544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Palatino"/>
                  </a:rPr>
                  <a:t>CustomerId</a:t>
                </a: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639" name="Text Box 39"/>
              <p:cNvSpPr/>
              <p:nvPr/>
            </p:nvSpPr>
            <p:spPr>
              <a:xfrm>
                <a:off x="1163160" y="2873520"/>
                <a:ext cx="1243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Palatino"/>
                  </a:rPr>
                  <a:t>Deposit()</a:t>
                </a: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640" name="Text Box 40"/>
              <p:cNvSpPr/>
              <p:nvPr/>
            </p:nvSpPr>
            <p:spPr>
              <a:xfrm>
                <a:off x="1132560" y="3102120"/>
                <a:ext cx="1532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Palatino"/>
                  </a:rPr>
                  <a:t>Withdraw()</a:t>
                </a: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641" name="Text Box 41"/>
              <p:cNvSpPr/>
              <p:nvPr/>
            </p:nvSpPr>
            <p:spPr>
              <a:xfrm>
                <a:off x="1130760" y="3330720"/>
                <a:ext cx="1675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Palatino"/>
                  </a:rPr>
                  <a:t>GetBalance()</a:t>
                </a: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  <p:graphicFrame>
          <p:nvGraphicFramePr>
            <p:cNvPr id="642" name=""/>
            <p:cNvGraphicFramePr/>
            <p:nvPr/>
          </p:nvGraphicFramePr>
          <p:xfrm>
            <a:off x="304920" y="1752480"/>
            <a:ext cx="861840" cy="13892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64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04920" y="1752480"/>
                      <a:ext cx="861840" cy="1389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644" name="Group 43"/>
          <p:cNvGrpSpPr/>
          <p:nvPr/>
        </p:nvGrpSpPr>
        <p:grpSpPr>
          <a:xfrm>
            <a:off x="1066680" y="1295280"/>
            <a:ext cx="1752840" cy="762120"/>
            <a:chOff x="1066680" y="1295280"/>
            <a:chExt cx="1752840" cy="762120"/>
          </a:xfrm>
        </p:grpSpPr>
        <p:sp>
          <p:nvSpPr>
            <p:cNvPr id="645" name="Line 44"/>
            <p:cNvSpPr/>
            <p:nvPr/>
          </p:nvSpPr>
          <p:spPr>
            <a:xfrm flipH="1">
              <a:off x="1206360" y="1295280"/>
              <a:ext cx="1542600" cy="718560"/>
            </a:xfrm>
            <a:prstGeom prst="line">
              <a:avLst/>
            </a:prstGeom>
            <a:ln w="5724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646" name="Line 45"/>
            <p:cNvSpPr/>
            <p:nvPr/>
          </p:nvSpPr>
          <p:spPr>
            <a:xfrm>
              <a:off x="1066680" y="1295280"/>
              <a:ext cx="1752840" cy="762120"/>
            </a:xfrm>
            <a:prstGeom prst="line">
              <a:avLst/>
            </a:prstGeom>
            <a:ln w="5724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1" dur="indefinite" restart="never" nodeType="tmRoot">
          <p:childTnLst>
            <p:seq>
              <p:cTn id="702" dur="indefinite" nodeType="mainSeq">
                <p:childTnLst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Object Modeling in Practice: More classes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648" name="Group 3"/>
          <p:cNvGrpSpPr/>
          <p:nvPr/>
        </p:nvGrpSpPr>
        <p:grpSpPr>
          <a:xfrm>
            <a:off x="3584880" y="1219320"/>
            <a:ext cx="1675800" cy="2327040"/>
            <a:chOff x="3584880" y="1219320"/>
            <a:chExt cx="1675800" cy="2327040"/>
          </a:xfrm>
        </p:grpSpPr>
        <p:grpSp>
          <p:nvGrpSpPr>
            <p:cNvPr id="649" name="Group 4"/>
            <p:cNvGrpSpPr/>
            <p:nvPr/>
          </p:nvGrpSpPr>
          <p:grpSpPr>
            <a:xfrm>
              <a:off x="3673440" y="1219320"/>
              <a:ext cx="1447560" cy="2285640"/>
              <a:chOff x="3673440" y="1219320"/>
              <a:chExt cx="1447560" cy="2285640"/>
            </a:xfrm>
          </p:grpSpPr>
          <p:sp>
            <p:nvSpPr>
              <p:cNvPr id="650" name="Rectangle 5"/>
              <p:cNvSpPr/>
              <p:nvPr/>
            </p:nvSpPr>
            <p:spPr>
              <a:xfrm>
                <a:off x="3673440" y="1219320"/>
                <a:ext cx="1447560" cy="22856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651" name="Line 6"/>
              <p:cNvSpPr/>
              <p:nvPr/>
            </p:nvSpPr>
            <p:spPr>
              <a:xfrm>
                <a:off x="3673440" y="1905120"/>
                <a:ext cx="1447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652" name="Line 7"/>
              <p:cNvSpPr/>
              <p:nvPr/>
            </p:nvSpPr>
            <p:spPr>
              <a:xfrm>
                <a:off x="3673440" y="2705400"/>
                <a:ext cx="1447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  <p:sp>
          <p:nvSpPr>
            <p:cNvPr id="653" name="Text Box 8"/>
            <p:cNvSpPr/>
            <p:nvPr/>
          </p:nvSpPr>
          <p:spPr>
            <a:xfrm>
              <a:off x="3936240" y="1371600"/>
              <a:ext cx="1131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ff"/>
                  </a:solidFill>
                  <a:latin typeface="Palatino"/>
                </a:rPr>
                <a:t>Account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654" name="Text Box 9"/>
            <p:cNvSpPr/>
            <p:nvPr/>
          </p:nvSpPr>
          <p:spPr>
            <a:xfrm>
              <a:off x="3623400" y="1882800"/>
              <a:ext cx="111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Palatino"/>
                </a:rPr>
                <a:t>Amount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655" name="Text Box 10"/>
            <p:cNvSpPr/>
            <p:nvPr/>
          </p:nvSpPr>
          <p:spPr>
            <a:xfrm>
              <a:off x="3617280" y="2720880"/>
              <a:ext cx="1243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Palatino"/>
                </a:rPr>
                <a:t>Deposit()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656" name="Text Box 11"/>
            <p:cNvSpPr/>
            <p:nvPr/>
          </p:nvSpPr>
          <p:spPr>
            <a:xfrm>
              <a:off x="3586680" y="2949480"/>
              <a:ext cx="1532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Palatino"/>
                </a:rPr>
                <a:t>Withdraw()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657" name="Text Box 12"/>
            <p:cNvSpPr/>
            <p:nvPr/>
          </p:nvSpPr>
          <p:spPr>
            <a:xfrm>
              <a:off x="3584880" y="3178080"/>
              <a:ext cx="167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Palatino"/>
                </a:rPr>
                <a:t>GetBalance()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658" name="Group 13"/>
          <p:cNvGrpSpPr/>
          <p:nvPr/>
        </p:nvGrpSpPr>
        <p:grpSpPr>
          <a:xfrm>
            <a:off x="6834240" y="1828800"/>
            <a:ext cx="1486800" cy="2285640"/>
            <a:chOff x="6834240" y="1828800"/>
            <a:chExt cx="1486800" cy="2285640"/>
          </a:xfrm>
        </p:grpSpPr>
        <p:grpSp>
          <p:nvGrpSpPr>
            <p:cNvPr id="659" name="Group 14"/>
            <p:cNvGrpSpPr/>
            <p:nvPr/>
          </p:nvGrpSpPr>
          <p:grpSpPr>
            <a:xfrm>
              <a:off x="6873840" y="1828800"/>
              <a:ext cx="1447200" cy="2285640"/>
              <a:chOff x="6873840" y="1828800"/>
              <a:chExt cx="1447200" cy="2285640"/>
            </a:xfrm>
          </p:grpSpPr>
          <p:sp>
            <p:nvSpPr>
              <p:cNvPr id="660" name="Rectangle 15"/>
              <p:cNvSpPr/>
              <p:nvPr/>
            </p:nvSpPr>
            <p:spPr>
              <a:xfrm>
                <a:off x="6873840" y="1828800"/>
                <a:ext cx="1447200" cy="22856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661" name="Line 16"/>
              <p:cNvSpPr/>
              <p:nvPr/>
            </p:nvSpPr>
            <p:spPr>
              <a:xfrm>
                <a:off x="6873840" y="2514600"/>
                <a:ext cx="144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662" name="Line 17"/>
              <p:cNvSpPr/>
              <p:nvPr/>
            </p:nvSpPr>
            <p:spPr>
              <a:xfrm>
                <a:off x="6873840" y="3314880"/>
                <a:ext cx="144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  <p:sp>
          <p:nvSpPr>
            <p:cNvPr id="663" name="Text Box 18"/>
            <p:cNvSpPr/>
            <p:nvPr/>
          </p:nvSpPr>
          <p:spPr>
            <a:xfrm>
              <a:off x="6957720" y="1981440"/>
              <a:ext cx="1305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ff"/>
                  </a:solidFill>
                  <a:latin typeface="Palatino"/>
                </a:rPr>
                <a:t>Customer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664" name="Text Box 19"/>
            <p:cNvSpPr/>
            <p:nvPr/>
          </p:nvSpPr>
          <p:spPr>
            <a:xfrm>
              <a:off x="6834240" y="2492640"/>
              <a:ext cx="854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Palatino"/>
                </a:rPr>
                <a:t>Name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sp>
        <p:nvSpPr>
          <p:cNvPr id="665" name="Text Box 20"/>
          <p:cNvSpPr/>
          <p:nvPr/>
        </p:nvSpPr>
        <p:spPr>
          <a:xfrm>
            <a:off x="6800040" y="2819520"/>
            <a:ext cx="154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Palatino"/>
              </a:rPr>
              <a:t>CustomerId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66" name="Text Box 22"/>
          <p:cNvSpPr/>
          <p:nvPr/>
        </p:nvSpPr>
        <p:spPr>
          <a:xfrm>
            <a:off x="3599640" y="2286000"/>
            <a:ext cx="154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"/>
              </a:rPr>
              <a:t>CustomerId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grpSp>
        <p:nvGrpSpPr>
          <p:cNvPr id="667" name="Group 23"/>
          <p:cNvGrpSpPr/>
          <p:nvPr/>
        </p:nvGrpSpPr>
        <p:grpSpPr>
          <a:xfrm>
            <a:off x="3705840" y="2243160"/>
            <a:ext cx="1370880" cy="444240"/>
            <a:chOff x="3705840" y="2243160"/>
            <a:chExt cx="1370880" cy="444240"/>
          </a:xfrm>
        </p:grpSpPr>
        <p:sp>
          <p:nvSpPr>
            <p:cNvPr id="668" name="Text Box 24"/>
            <p:cNvSpPr/>
            <p:nvPr/>
          </p:nvSpPr>
          <p:spPr>
            <a:xfrm>
              <a:off x="3753000" y="2376360"/>
              <a:ext cx="1211040" cy="311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669" name="Text Box 25"/>
            <p:cNvSpPr/>
            <p:nvPr/>
          </p:nvSpPr>
          <p:spPr>
            <a:xfrm>
              <a:off x="3705840" y="2243160"/>
              <a:ext cx="1370880" cy="313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c0128"/>
                  </a:solidFill>
                  <a:latin typeface="Palatino"/>
                </a:rPr>
                <a:t>AccountId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670" name="Group 27"/>
          <p:cNvGrpSpPr/>
          <p:nvPr/>
        </p:nvGrpSpPr>
        <p:grpSpPr>
          <a:xfrm>
            <a:off x="890640" y="2133720"/>
            <a:ext cx="1486800" cy="2285640"/>
            <a:chOff x="890640" y="2133720"/>
            <a:chExt cx="1486800" cy="2285640"/>
          </a:xfrm>
        </p:grpSpPr>
        <p:grpSp>
          <p:nvGrpSpPr>
            <p:cNvPr id="671" name="Group 28"/>
            <p:cNvGrpSpPr/>
            <p:nvPr/>
          </p:nvGrpSpPr>
          <p:grpSpPr>
            <a:xfrm>
              <a:off x="930240" y="2133720"/>
              <a:ext cx="1447200" cy="2285640"/>
              <a:chOff x="930240" y="2133720"/>
              <a:chExt cx="1447200" cy="2285640"/>
            </a:xfrm>
          </p:grpSpPr>
          <p:sp>
            <p:nvSpPr>
              <p:cNvPr id="672" name="Rectangle 29"/>
              <p:cNvSpPr/>
              <p:nvPr/>
            </p:nvSpPr>
            <p:spPr>
              <a:xfrm>
                <a:off x="930240" y="2133720"/>
                <a:ext cx="1447200" cy="22856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673" name="Line 30"/>
              <p:cNvSpPr/>
              <p:nvPr/>
            </p:nvSpPr>
            <p:spPr>
              <a:xfrm>
                <a:off x="930240" y="2819520"/>
                <a:ext cx="144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674" name="Line 31"/>
              <p:cNvSpPr/>
              <p:nvPr/>
            </p:nvSpPr>
            <p:spPr>
              <a:xfrm>
                <a:off x="930240" y="3619800"/>
                <a:ext cx="144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  <p:sp>
          <p:nvSpPr>
            <p:cNvPr id="675" name="Text Box 32"/>
            <p:cNvSpPr/>
            <p:nvPr/>
          </p:nvSpPr>
          <p:spPr>
            <a:xfrm>
              <a:off x="1047240" y="2286360"/>
              <a:ext cx="76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ff"/>
                  </a:solidFill>
                  <a:latin typeface="Palatino"/>
                </a:rPr>
                <a:t>Bank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676" name="Text Box 33"/>
            <p:cNvSpPr/>
            <p:nvPr/>
          </p:nvSpPr>
          <p:spPr>
            <a:xfrm>
              <a:off x="890640" y="2797560"/>
              <a:ext cx="854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Palatino"/>
                </a:rPr>
                <a:t>Name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sp>
        <p:nvSpPr>
          <p:cNvPr id="677" name="Text Box 34"/>
          <p:cNvSpPr/>
          <p:nvPr/>
        </p:nvSpPr>
        <p:spPr>
          <a:xfrm>
            <a:off x="3391200" y="3886200"/>
            <a:ext cx="31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Palatino"/>
              </a:rPr>
              <a:t>1) Find New Classes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78" name="Text Box 35"/>
          <p:cNvSpPr/>
          <p:nvPr/>
        </p:nvSpPr>
        <p:spPr>
          <a:xfrm>
            <a:off x="1679760" y="4356000"/>
            <a:ext cx="661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Palatino"/>
              </a:rPr>
              <a:t>2) Review Names, Attributes and Methods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5" dur="indefinite" restart="never" nodeType="tmRoot">
          <p:childTnLst>
            <p:seq>
              <p:cTn id="726" dur="indefinite" nodeType="mainSeq">
                <p:childTnLst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fill="hold">
                            <p:stCondLst>
                              <p:cond delay="500"/>
                            </p:stCondLst>
                            <p:childTnLst>
                              <p:par>
                                <p:cTn id="74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Object Modeling in Practice: Associations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680" name="Group 3"/>
          <p:cNvGrpSpPr/>
          <p:nvPr/>
        </p:nvGrpSpPr>
        <p:grpSpPr>
          <a:xfrm>
            <a:off x="865080" y="1219320"/>
            <a:ext cx="7454160" cy="3200040"/>
            <a:chOff x="865080" y="1219320"/>
            <a:chExt cx="7454160" cy="3200040"/>
          </a:xfrm>
        </p:grpSpPr>
        <p:grpSp>
          <p:nvGrpSpPr>
            <p:cNvPr id="681" name="Group 4"/>
            <p:cNvGrpSpPr/>
            <p:nvPr/>
          </p:nvGrpSpPr>
          <p:grpSpPr>
            <a:xfrm>
              <a:off x="3559320" y="1219320"/>
              <a:ext cx="1675800" cy="2327040"/>
              <a:chOff x="3559320" y="1219320"/>
              <a:chExt cx="1675800" cy="2327040"/>
            </a:xfrm>
          </p:grpSpPr>
          <p:grpSp>
            <p:nvGrpSpPr>
              <p:cNvPr id="682" name="Group 5"/>
              <p:cNvGrpSpPr/>
              <p:nvPr/>
            </p:nvGrpSpPr>
            <p:grpSpPr>
              <a:xfrm>
                <a:off x="3647880" y="1219320"/>
                <a:ext cx="1447560" cy="2285640"/>
                <a:chOff x="3647880" y="1219320"/>
                <a:chExt cx="1447560" cy="2285640"/>
              </a:xfrm>
            </p:grpSpPr>
            <p:sp>
              <p:nvSpPr>
                <p:cNvPr id="683" name="Rectangle 6"/>
                <p:cNvSpPr/>
                <p:nvPr/>
              </p:nvSpPr>
              <p:spPr>
                <a:xfrm>
                  <a:off x="3647880" y="1219320"/>
                  <a:ext cx="1447560" cy="228564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  <p:sp>
              <p:nvSpPr>
                <p:cNvPr id="684" name="Line 7"/>
                <p:cNvSpPr/>
                <p:nvPr/>
              </p:nvSpPr>
              <p:spPr>
                <a:xfrm>
                  <a:off x="3647880" y="1905120"/>
                  <a:ext cx="1447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  <p:sp>
              <p:nvSpPr>
                <p:cNvPr id="685" name="Line 8"/>
                <p:cNvSpPr/>
                <p:nvPr/>
              </p:nvSpPr>
              <p:spPr>
                <a:xfrm>
                  <a:off x="3647880" y="2705400"/>
                  <a:ext cx="1447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86" name="Text Box 9"/>
              <p:cNvSpPr/>
              <p:nvPr/>
            </p:nvSpPr>
            <p:spPr>
              <a:xfrm>
                <a:off x="3910680" y="1371600"/>
                <a:ext cx="11318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ff"/>
                    </a:solidFill>
                    <a:latin typeface="Palatino"/>
                  </a:rPr>
                  <a:t>Account</a:t>
                </a: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687" name="Text Box 10"/>
              <p:cNvSpPr/>
              <p:nvPr/>
            </p:nvSpPr>
            <p:spPr>
              <a:xfrm>
                <a:off x="3597840" y="1882800"/>
                <a:ext cx="1116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Palatino"/>
                  </a:rPr>
                  <a:t>Amount</a:t>
                </a: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688" name="Text Box 11"/>
              <p:cNvSpPr/>
              <p:nvPr/>
            </p:nvSpPr>
            <p:spPr>
              <a:xfrm>
                <a:off x="3591720" y="2720880"/>
                <a:ext cx="1243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Palatino"/>
                  </a:rPr>
                  <a:t>Deposit()</a:t>
                </a: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689" name="Text Box 12"/>
              <p:cNvSpPr/>
              <p:nvPr/>
            </p:nvSpPr>
            <p:spPr>
              <a:xfrm>
                <a:off x="3561120" y="2949480"/>
                <a:ext cx="1532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Palatino"/>
                  </a:rPr>
                  <a:t>Withdraw()</a:t>
                </a: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690" name="Text Box 13"/>
              <p:cNvSpPr/>
              <p:nvPr/>
            </p:nvSpPr>
            <p:spPr>
              <a:xfrm>
                <a:off x="3559320" y="3178080"/>
                <a:ext cx="1675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Palatino"/>
                  </a:rPr>
                  <a:t>GetBalance()</a:t>
                </a: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  <p:grpSp>
          <p:nvGrpSpPr>
            <p:cNvPr id="691" name="Group 14"/>
            <p:cNvGrpSpPr/>
            <p:nvPr/>
          </p:nvGrpSpPr>
          <p:grpSpPr>
            <a:xfrm>
              <a:off x="6808680" y="1828800"/>
              <a:ext cx="1486800" cy="2285640"/>
              <a:chOff x="6808680" y="1828800"/>
              <a:chExt cx="1486800" cy="2285640"/>
            </a:xfrm>
          </p:grpSpPr>
          <p:grpSp>
            <p:nvGrpSpPr>
              <p:cNvPr id="692" name="Group 15"/>
              <p:cNvGrpSpPr/>
              <p:nvPr/>
            </p:nvGrpSpPr>
            <p:grpSpPr>
              <a:xfrm>
                <a:off x="6848280" y="1828800"/>
                <a:ext cx="1447200" cy="2285640"/>
                <a:chOff x="6848280" y="1828800"/>
                <a:chExt cx="1447200" cy="2285640"/>
              </a:xfrm>
            </p:grpSpPr>
            <p:sp>
              <p:nvSpPr>
                <p:cNvPr id="693" name="Rectangle 16"/>
                <p:cNvSpPr/>
                <p:nvPr/>
              </p:nvSpPr>
              <p:spPr>
                <a:xfrm>
                  <a:off x="6848280" y="1828800"/>
                  <a:ext cx="1447200" cy="228564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  <p:sp>
              <p:nvSpPr>
                <p:cNvPr id="694" name="Line 17"/>
                <p:cNvSpPr/>
                <p:nvPr/>
              </p:nvSpPr>
              <p:spPr>
                <a:xfrm>
                  <a:off x="6848280" y="2514600"/>
                  <a:ext cx="14472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  <p:sp>
              <p:nvSpPr>
                <p:cNvPr id="695" name="Line 18"/>
                <p:cNvSpPr/>
                <p:nvPr/>
              </p:nvSpPr>
              <p:spPr>
                <a:xfrm>
                  <a:off x="6848280" y="3314880"/>
                  <a:ext cx="14472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96" name="Text Box 19"/>
              <p:cNvSpPr/>
              <p:nvPr/>
            </p:nvSpPr>
            <p:spPr>
              <a:xfrm>
                <a:off x="6932160" y="1981440"/>
                <a:ext cx="1305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ff"/>
                    </a:solidFill>
                    <a:latin typeface="Palatino"/>
                  </a:rPr>
                  <a:t>Customer</a:t>
                </a: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697" name="Text Box 20"/>
              <p:cNvSpPr/>
              <p:nvPr/>
            </p:nvSpPr>
            <p:spPr>
              <a:xfrm>
                <a:off x="6808680" y="2492640"/>
                <a:ext cx="854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Palatino"/>
                  </a:rPr>
                  <a:t>Name</a:t>
                </a: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  <p:sp>
          <p:nvSpPr>
            <p:cNvPr id="698" name="Text Box 21"/>
            <p:cNvSpPr/>
            <p:nvPr/>
          </p:nvSpPr>
          <p:spPr>
            <a:xfrm>
              <a:off x="6774480" y="2819520"/>
              <a:ext cx="1544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Palatino"/>
                </a:rPr>
                <a:t>CustomerId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699" name="Text Box 22"/>
            <p:cNvSpPr/>
            <p:nvPr/>
          </p:nvSpPr>
          <p:spPr>
            <a:xfrm>
              <a:off x="3574080" y="2286000"/>
              <a:ext cx="1544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Palatino"/>
                </a:rPr>
                <a:t>CustomerId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grpSp>
          <p:nvGrpSpPr>
            <p:cNvPr id="700" name="Group 23"/>
            <p:cNvGrpSpPr/>
            <p:nvPr/>
          </p:nvGrpSpPr>
          <p:grpSpPr>
            <a:xfrm>
              <a:off x="3680280" y="2243160"/>
              <a:ext cx="1370880" cy="665640"/>
              <a:chOff x="3680280" y="2243160"/>
              <a:chExt cx="1370880" cy="665640"/>
            </a:xfrm>
          </p:grpSpPr>
          <p:sp>
            <p:nvSpPr>
              <p:cNvPr id="701" name="Text Box 24"/>
              <p:cNvSpPr/>
              <p:nvPr/>
            </p:nvSpPr>
            <p:spPr>
              <a:xfrm>
                <a:off x="3727440" y="2376360"/>
                <a:ext cx="1276200" cy="532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Palatino"/>
                  </a:rPr>
                  <a:t>AccountId</a:t>
                </a: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702" name="Text Box 25"/>
              <p:cNvSpPr/>
              <p:nvPr/>
            </p:nvSpPr>
            <p:spPr>
              <a:xfrm>
                <a:off x="3680280" y="2243160"/>
                <a:ext cx="1370880" cy="313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Palatino"/>
                  </a:rPr>
                  <a:t>AccountId</a:t>
                </a: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  <p:grpSp>
          <p:nvGrpSpPr>
            <p:cNvPr id="703" name="Group 26"/>
            <p:cNvGrpSpPr/>
            <p:nvPr/>
          </p:nvGrpSpPr>
          <p:grpSpPr>
            <a:xfrm>
              <a:off x="865080" y="2133720"/>
              <a:ext cx="1486800" cy="2285640"/>
              <a:chOff x="865080" y="2133720"/>
              <a:chExt cx="1486800" cy="2285640"/>
            </a:xfrm>
          </p:grpSpPr>
          <p:grpSp>
            <p:nvGrpSpPr>
              <p:cNvPr id="704" name="Group 27"/>
              <p:cNvGrpSpPr/>
              <p:nvPr/>
            </p:nvGrpSpPr>
            <p:grpSpPr>
              <a:xfrm>
                <a:off x="904680" y="2133720"/>
                <a:ext cx="1447200" cy="2285640"/>
                <a:chOff x="904680" y="2133720"/>
                <a:chExt cx="1447200" cy="2285640"/>
              </a:xfrm>
            </p:grpSpPr>
            <p:sp>
              <p:nvSpPr>
                <p:cNvPr id="705" name="Rectangle 28"/>
                <p:cNvSpPr/>
                <p:nvPr/>
              </p:nvSpPr>
              <p:spPr>
                <a:xfrm>
                  <a:off x="904680" y="2133720"/>
                  <a:ext cx="1447200" cy="228564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  <p:sp>
              <p:nvSpPr>
                <p:cNvPr id="706" name="Line 29"/>
                <p:cNvSpPr/>
                <p:nvPr/>
              </p:nvSpPr>
              <p:spPr>
                <a:xfrm>
                  <a:off x="904680" y="2819520"/>
                  <a:ext cx="14472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  <p:sp>
              <p:nvSpPr>
                <p:cNvPr id="707" name="Line 30"/>
                <p:cNvSpPr/>
                <p:nvPr/>
              </p:nvSpPr>
              <p:spPr>
                <a:xfrm>
                  <a:off x="904680" y="3619800"/>
                  <a:ext cx="14472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08" name="Text Box 31"/>
              <p:cNvSpPr/>
              <p:nvPr/>
            </p:nvSpPr>
            <p:spPr>
              <a:xfrm>
                <a:off x="1021680" y="2286360"/>
                <a:ext cx="768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ff"/>
                    </a:solidFill>
                    <a:latin typeface="Palatino"/>
                  </a:rPr>
                  <a:t>Bank</a:t>
                </a: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709" name="Text Box 32"/>
              <p:cNvSpPr/>
              <p:nvPr/>
            </p:nvSpPr>
            <p:spPr>
              <a:xfrm>
                <a:off x="865080" y="2797560"/>
                <a:ext cx="854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Palatino"/>
                  </a:rPr>
                  <a:t>Name</a:t>
                </a: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</p:grpSp>
      <p:sp>
        <p:nvSpPr>
          <p:cNvPr id="710" name="Line 33"/>
          <p:cNvSpPr/>
          <p:nvPr/>
        </p:nvSpPr>
        <p:spPr>
          <a:xfrm>
            <a:off x="5105520" y="2222640"/>
            <a:ext cx="1752480" cy="838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11" name="Text Box 34"/>
          <p:cNvSpPr/>
          <p:nvPr/>
        </p:nvSpPr>
        <p:spPr>
          <a:xfrm>
            <a:off x="3391200" y="3886200"/>
            <a:ext cx="31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Palatino"/>
              </a:rPr>
              <a:t>1) Find New Classes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12" name="Text Box 35"/>
          <p:cNvSpPr/>
          <p:nvPr/>
        </p:nvSpPr>
        <p:spPr>
          <a:xfrm>
            <a:off x="1679760" y="4356000"/>
            <a:ext cx="661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Palatino"/>
              </a:rPr>
              <a:t>2) Review Names, Attributes and Methods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13" name="Text Box 36"/>
          <p:cNvSpPr/>
          <p:nvPr/>
        </p:nvSpPr>
        <p:spPr>
          <a:xfrm>
            <a:off x="2457360" y="4838760"/>
            <a:ext cx="58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15b1"/>
                </a:solidFill>
                <a:latin typeface="Palatino"/>
              </a:rPr>
              <a:t>3) Find Associations between Classes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14" name="Text Box 37"/>
          <p:cNvSpPr/>
          <p:nvPr/>
        </p:nvSpPr>
        <p:spPr>
          <a:xfrm>
            <a:off x="5792040" y="2224080"/>
            <a:ext cx="77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"/>
              </a:rPr>
              <a:t>owns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15" name="Text Box 38"/>
          <p:cNvSpPr/>
          <p:nvPr/>
        </p:nvSpPr>
        <p:spPr>
          <a:xfrm>
            <a:off x="2446920" y="5308560"/>
            <a:ext cx="508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15b1"/>
                </a:solidFill>
                <a:latin typeface="Palatino"/>
              </a:rPr>
              <a:t>4) Label the generic assocations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16" name="Text Box 39"/>
          <p:cNvSpPr/>
          <p:nvPr/>
        </p:nvSpPr>
        <p:spPr>
          <a:xfrm>
            <a:off x="3324240" y="6043680"/>
            <a:ext cx="3316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15b1"/>
                </a:solidFill>
                <a:latin typeface="Palatino"/>
              </a:rPr>
              <a:t>6) Review associations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17" name="Text Box 40"/>
          <p:cNvSpPr/>
          <p:nvPr/>
        </p:nvSpPr>
        <p:spPr>
          <a:xfrm>
            <a:off x="5171760" y="19810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alatino"/>
              </a:rPr>
              <a:t>*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18" name="Text Box 41"/>
          <p:cNvSpPr/>
          <p:nvPr/>
        </p:nvSpPr>
        <p:spPr>
          <a:xfrm>
            <a:off x="6518160" y="262908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"/>
              </a:rPr>
              <a:t>2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19" name="Text Box 42"/>
          <p:cNvSpPr/>
          <p:nvPr/>
        </p:nvSpPr>
        <p:spPr>
          <a:xfrm>
            <a:off x="3327480" y="1852560"/>
            <a:ext cx="36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alatino"/>
              </a:rPr>
              <a:t>*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20" name="Line 43"/>
          <p:cNvSpPr/>
          <p:nvPr/>
        </p:nvSpPr>
        <p:spPr>
          <a:xfrm flipH="1">
            <a:off x="2425680" y="2190600"/>
            <a:ext cx="12096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21" name="AutoShape 44"/>
          <p:cNvSpPr/>
          <p:nvPr/>
        </p:nvSpPr>
        <p:spPr>
          <a:xfrm>
            <a:off x="2338560" y="2279520"/>
            <a:ext cx="239400" cy="254160"/>
          </a:xfrm>
          <a:prstGeom prst="diamond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22" name="Text Box 45"/>
          <p:cNvSpPr/>
          <p:nvPr/>
        </p:nvSpPr>
        <p:spPr>
          <a:xfrm>
            <a:off x="2263680" y="18817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?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23" name="Text Box 46"/>
          <p:cNvSpPr/>
          <p:nvPr/>
        </p:nvSpPr>
        <p:spPr>
          <a:xfrm>
            <a:off x="2724120" y="232884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"/>
              </a:rPr>
              <a:t>has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24" name="Text Box 47"/>
          <p:cNvSpPr/>
          <p:nvPr/>
        </p:nvSpPr>
        <p:spPr>
          <a:xfrm>
            <a:off x="1390320" y="5651640"/>
            <a:ext cx="75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15b1"/>
                </a:solidFill>
                <a:latin typeface="Palatino"/>
              </a:rPr>
              <a:t>5) Determine the multiplicity of the assocations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25" name="Line 48"/>
          <p:cNvSpPr/>
          <p:nvPr/>
        </p:nvSpPr>
        <p:spPr>
          <a:xfrm flipV="1">
            <a:off x="2394000" y="2182320"/>
            <a:ext cx="1268280" cy="225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26" name="AutoShape 49"/>
          <p:cNvSpPr/>
          <p:nvPr/>
        </p:nvSpPr>
        <p:spPr>
          <a:xfrm>
            <a:off x="2355840" y="2287440"/>
            <a:ext cx="239760" cy="241560"/>
          </a:xfrm>
          <a:prstGeom prst="diamond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2" dur="indefinite" restart="never" nodeType="tmRoot">
          <p:childTnLst>
            <p:seq>
              <p:cTn id="753" dur="indefinite" nodeType="mainSeq">
                <p:childTnLst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62" dur="5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7" dur="10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10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5" dur="10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10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10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10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10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19" dur="500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500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33" dur="500"/>
                                        <p:tgtEl>
                                          <p:spTgt spid="7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45820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Practice Object Modeling: Find Taxonomies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728" name="Group 70"/>
          <p:cNvGrpSpPr/>
          <p:nvPr/>
        </p:nvGrpSpPr>
        <p:grpSpPr>
          <a:xfrm>
            <a:off x="1681560" y="3088440"/>
            <a:ext cx="2379600" cy="3159720"/>
            <a:chOff x="1681560" y="3088440"/>
            <a:chExt cx="2379600" cy="3159720"/>
          </a:xfrm>
        </p:grpSpPr>
        <p:grpSp>
          <p:nvGrpSpPr>
            <p:cNvPr id="729" name="Group 3"/>
            <p:cNvGrpSpPr/>
            <p:nvPr/>
          </p:nvGrpSpPr>
          <p:grpSpPr>
            <a:xfrm>
              <a:off x="1768320" y="3962520"/>
              <a:ext cx="1447560" cy="2285640"/>
              <a:chOff x="1768320" y="3962520"/>
              <a:chExt cx="1447560" cy="2285640"/>
            </a:xfrm>
          </p:grpSpPr>
          <p:sp>
            <p:nvSpPr>
              <p:cNvPr id="730" name="Rectangle 4"/>
              <p:cNvSpPr/>
              <p:nvPr/>
            </p:nvSpPr>
            <p:spPr>
              <a:xfrm>
                <a:off x="1768320" y="3962520"/>
                <a:ext cx="1447560" cy="22856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731" name="Line 5"/>
              <p:cNvSpPr/>
              <p:nvPr/>
            </p:nvSpPr>
            <p:spPr>
              <a:xfrm>
                <a:off x="1768320" y="4648320"/>
                <a:ext cx="1447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732" name="Line 6"/>
              <p:cNvSpPr/>
              <p:nvPr/>
            </p:nvSpPr>
            <p:spPr>
              <a:xfrm>
                <a:off x="1768320" y="5448600"/>
                <a:ext cx="1447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  <p:sp>
          <p:nvSpPr>
            <p:cNvPr id="733" name="Text Box 7"/>
            <p:cNvSpPr/>
            <p:nvPr/>
          </p:nvSpPr>
          <p:spPr>
            <a:xfrm>
              <a:off x="1939320" y="4038480"/>
              <a:ext cx="1131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ff"/>
                  </a:solidFill>
                  <a:latin typeface="Palatino"/>
                </a:rPr>
                <a:t>Savings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ff"/>
                  </a:solidFill>
                  <a:latin typeface="Palatino"/>
                </a:rPr>
                <a:t>Account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734" name="Text Box 8"/>
            <p:cNvSpPr/>
            <p:nvPr/>
          </p:nvSpPr>
          <p:spPr>
            <a:xfrm>
              <a:off x="1681560" y="5692680"/>
              <a:ext cx="1532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Palatino"/>
                </a:rPr>
                <a:t>Withdraw()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735" name="AutoShape 61"/>
            <p:cNvSpPr/>
            <p:nvPr/>
          </p:nvSpPr>
          <p:spPr>
            <a:xfrm rot="2722200">
              <a:off x="3686040" y="3161880"/>
              <a:ext cx="324000" cy="2793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736" name="Line 64"/>
            <p:cNvSpPr/>
            <p:nvPr/>
          </p:nvSpPr>
          <p:spPr>
            <a:xfrm flipV="1">
              <a:off x="2476440" y="3390840"/>
              <a:ext cx="1270080" cy="571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737" name="Group 71"/>
          <p:cNvGrpSpPr/>
          <p:nvPr/>
        </p:nvGrpSpPr>
        <p:grpSpPr>
          <a:xfrm>
            <a:off x="3570840" y="3161880"/>
            <a:ext cx="1534320" cy="3086280"/>
            <a:chOff x="3570840" y="3161880"/>
            <a:chExt cx="1534320" cy="3086280"/>
          </a:xfrm>
        </p:grpSpPr>
        <p:grpSp>
          <p:nvGrpSpPr>
            <p:cNvPr id="738" name="Group 9"/>
            <p:cNvGrpSpPr/>
            <p:nvPr/>
          </p:nvGrpSpPr>
          <p:grpSpPr>
            <a:xfrm>
              <a:off x="3657600" y="3962520"/>
              <a:ext cx="1447560" cy="2285640"/>
              <a:chOff x="3657600" y="3962520"/>
              <a:chExt cx="1447560" cy="2285640"/>
            </a:xfrm>
          </p:grpSpPr>
          <p:sp>
            <p:nvSpPr>
              <p:cNvPr id="739" name="Rectangle 10"/>
              <p:cNvSpPr/>
              <p:nvPr/>
            </p:nvSpPr>
            <p:spPr>
              <a:xfrm>
                <a:off x="3657600" y="3962520"/>
                <a:ext cx="1447560" cy="22856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740" name="Line 11"/>
              <p:cNvSpPr/>
              <p:nvPr/>
            </p:nvSpPr>
            <p:spPr>
              <a:xfrm>
                <a:off x="3657600" y="4648320"/>
                <a:ext cx="1447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741" name="Line 12"/>
              <p:cNvSpPr/>
              <p:nvPr/>
            </p:nvSpPr>
            <p:spPr>
              <a:xfrm>
                <a:off x="3657600" y="5448600"/>
                <a:ext cx="1447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  <p:sp>
          <p:nvSpPr>
            <p:cNvPr id="742" name="Text Box 13"/>
            <p:cNvSpPr/>
            <p:nvPr/>
          </p:nvSpPr>
          <p:spPr>
            <a:xfrm>
              <a:off x="3842640" y="4038480"/>
              <a:ext cx="1243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ff"/>
                  </a:solidFill>
                  <a:latin typeface="Palatino"/>
                </a:rPr>
                <a:t>Checking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ff"/>
                  </a:solidFill>
                  <a:latin typeface="Palatino"/>
                </a:rPr>
                <a:t>Account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743" name="Text Box 14"/>
            <p:cNvSpPr/>
            <p:nvPr/>
          </p:nvSpPr>
          <p:spPr>
            <a:xfrm>
              <a:off x="3570840" y="5692680"/>
              <a:ext cx="1532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Palatino"/>
                </a:rPr>
                <a:t>Withdraw()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744" name="AutoShape 65"/>
            <p:cNvSpPr/>
            <p:nvPr/>
          </p:nvSpPr>
          <p:spPr>
            <a:xfrm rot="21593400">
              <a:off x="4168440" y="3162240"/>
              <a:ext cx="324000" cy="2793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745" name="Line 67"/>
            <p:cNvSpPr/>
            <p:nvPr/>
          </p:nvSpPr>
          <p:spPr>
            <a:xfrm>
              <a:off x="4356000" y="3441600"/>
              <a:ext cx="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746" name="Group 72"/>
          <p:cNvGrpSpPr/>
          <p:nvPr/>
        </p:nvGrpSpPr>
        <p:grpSpPr>
          <a:xfrm>
            <a:off x="4606560" y="3063600"/>
            <a:ext cx="2479680" cy="3184560"/>
            <a:chOff x="4606560" y="3063600"/>
            <a:chExt cx="2479680" cy="3184560"/>
          </a:xfrm>
        </p:grpSpPr>
        <p:grpSp>
          <p:nvGrpSpPr>
            <p:cNvPr id="747" name="Group 15"/>
            <p:cNvGrpSpPr/>
            <p:nvPr/>
          </p:nvGrpSpPr>
          <p:grpSpPr>
            <a:xfrm>
              <a:off x="5638680" y="3962520"/>
              <a:ext cx="1447560" cy="2285640"/>
              <a:chOff x="5638680" y="3962520"/>
              <a:chExt cx="1447560" cy="2285640"/>
            </a:xfrm>
          </p:grpSpPr>
          <p:sp>
            <p:nvSpPr>
              <p:cNvPr id="748" name="Rectangle 16"/>
              <p:cNvSpPr/>
              <p:nvPr/>
            </p:nvSpPr>
            <p:spPr>
              <a:xfrm>
                <a:off x="5638680" y="3962520"/>
                <a:ext cx="1447560" cy="22856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749" name="Line 17"/>
              <p:cNvSpPr/>
              <p:nvPr/>
            </p:nvSpPr>
            <p:spPr>
              <a:xfrm>
                <a:off x="5638680" y="4648320"/>
                <a:ext cx="1447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750" name="Line 18"/>
              <p:cNvSpPr/>
              <p:nvPr/>
            </p:nvSpPr>
            <p:spPr>
              <a:xfrm>
                <a:off x="5638680" y="5448600"/>
                <a:ext cx="1447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  <p:sp>
          <p:nvSpPr>
            <p:cNvPr id="751" name="Text Box 19"/>
            <p:cNvSpPr/>
            <p:nvPr/>
          </p:nvSpPr>
          <p:spPr>
            <a:xfrm>
              <a:off x="5807880" y="4038480"/>
              <a:ext cx="127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ff"/>
                  </a:solidFill>
                  <a:latin typeface="Palatino"/>
                </a:rPr>
                <a:t>Mortgage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ff"/>
                  </a:solidFill>
                  <a:latin typeface="Palatino"/>
                </a:rPr>
                <a:t>Account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752" name="Text Box 20"/>
            <p:cNvSpPr/>
            <p:nvPr/>
          </p:nvSpPr>
          <p:spPr>
            <a:xfrm>
              <a:off x="5551920" y="5692680"/>
              <a:ext cx="1532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Palatino"/>
                </a:rPr>
                <a:t>Withdraw()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753" name="AutoShape 66"/>
            <p:cNvSpPr/>
            <p:nvPr/>
          </p:nvSpPr>
          <p:spPr>
            <a:xfrm rot="18274800">
              <a:off x="4651560" y="3136320"/>
              <a:ext cx="323640" cy="2793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754" name="Line 68"/>
            <p:cNvSpPr/>
            <p:nvPr/>
          </p:nvSpPr>
          <p:spPr>
            <a:xfrm>
              <a:off x="4915080" y="3352680"/>
              <a:ext cx="143496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755" name="Group 33"/>
          <p:cNvGrpSpPr/>
          <p:nvPr/>
        </p:nvGrpSpPr>
        <p:grpSpPr>
          <a:xfrm>
            <a:off x="3584880" y="925560"/>
            <a:ext cx="1675800" cy="2327040"/>
            <a:chOff x="3584880" y="925560"/>
            <a:chExt cx="1675800" cy="2327040"/>
          </a:xfrm>
        </p:grpSpPr>
        <p:grpSp>
          <p:nvGrpSpPr>
            <p:cNvPr id="756" name="Group 34"/>
            <p:cNvGrpSpPr/>
            <p:nvPr/>
          </p:nvGrpSpPr>
          <p:grpSpPr>
            <a:xfrm>
              <a:off x="3584880" y="925560"/>
              <a:ext cx="1675800" cy="2327040"/>
              <a:chOff x="3584880" y="925560"/>
              <a:chExt cx="1675800" cy="2327040"/>
            </a:xfrm>
          </p:grpSpPr>
          <p:grpSp>
            <p:nvGrpSpPr>
              <p:cNvPr id="757" name="Group 35"/>
              <p:cNvGrpSpPr/>
              <p:nvPr/>
            </p:nvGrpSpPr>
            <p:grpSpPr>
              <a:xfrm>
                <a:off x="3673440" y="925560"/>
                <a:ext cx="1447560" cy="2285640"/>
                <a:chOff x="3673440" y="925560"/>
                <a:chExt cx="1447560" cy="2285640"/>
              </a:xfrm>
            </p:grpSpPr>
            <p:sp>
              <p:nvSpPr>
                <p:cNvPr id="758" name="Rectangle 36"/>
                <p:cNvSpPr/>
                <p:nvPr/>
              </p:nvSpPr>
              <p:spPr>
                <a:xfrm>
                  <a:off x="3673440" y="925560"/>
                  <a:ext cx="1447560" cy="228564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  <p:sp>
              <p:nvSpPr>
                <p:cNvPr id="759" name="Line 37"/>
                <p:cNvSpPr/>
                <p:nvPr/>
              </p:nvSpPr>
              <p:spPr>
                <a:xfrm>
                  <a:off x="3673440" y="1611360"/>
                  <a:ext cx="1447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  <p:sp>
              <p:nvSpPr>
                <p:cNvPr id="760" name="Line 38"/>
                <p:cNvSpPr/>
                <p:nvPr/>
              </p:nvSpPr>
              <p:spPr>
                <a:xfrm>
                  <a:off x="3673440" y="2411640"/>
                  <a:ext cx="1447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61" name="Text Box 39"/>
              <p:cNvSpPr/>
              <p:nvPr/>
            </p:nvSpPr>
            <p:spPr>
              <a:xfrm>
                <a:off x="3936240" y="1077840"/>
                <a:ext cx="11318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ff"/>
                    </a:solidFill>
                    <a:latin typeface="Palatino"/>
                  </a:rPr>
                  <a:t>Account</a:t>
                </a: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762" name="Text Box 40"/>
              <p:cNvSpPr/>
              <p:nvPr/>
            </p:nvSpPr>
            <p:spPr>
              <a:xfrm>
                <a:off x="3623400" y="1589040"/>
                <a:ext cx="1116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Palatino"/>
                  </a:rPr>
                  <a:t>Amount</a:t>
                </a: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763" name="Text Box 41"/>
              <p:cNvSpPr/>
              <p:nvPr/>
            </p:nvSpPr>
            <p:spPr>
              <a:xfrm>
                <a:off x="3617280" y="2427120"/>
                <a:ext cx="1243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Palatino"/>
                  </a:rPr>
                  <a:t>Deposit()</a:t>
                </a: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764" name="Text Box 42"/>
              <p:cNvSpPr/>
              <p:nvPr/>
            </p:nvSpPr>
            <p:spPr>
              <a:xfrm>
                <a:off x="3586680" y="2655720"/>
                <a:ext cx="1532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Palatino"/>
                  </a:rPr>
                  <a:t>Withdraw()</a:t>
                </a: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765" name="Text Box 43"/>
              <p:cNvSpPr/>
              <p:nvPr/>
            </p:nvSpPr>
            <p:spPr>
              <a:xfrm>
                <a:off x="3584880" y="2884320"/>
                <a:ext cx="1675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Palatino"/>
                  </a:rPr>
                  <a:t>GetBalance()</a:t>
                </a: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  <p:sp>
          <p:nvSpPr>
            <p:cNvPr id="766" name="Text Box 44"/>
            <p:cNvSpPr/>
            <p:nvPr/>
          </p:nvSpPr>
          <p:spPr>
            <a:xfrm>
              <a:off x="3599640" y="1992240"/>
              <a:ext cx="1544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Palatino"/>
                </a:rPr>
                <a:t>CustomerId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grpSp>
          <p:nvGrpSpPr>
            <p:cNvPr id="767" name="Group 45"/>
            <p:cNvGrpSpPr/>
            <p:nvPr/>
          </p:nvGrpSpPr>
          <p:grpSpPr>
            <a:xfrm>
              <a:off x="3705840" y="1949400"/>
              <a:ext cx="1370880" cy="665640"/>
              <a:chOff x="3705840" y="1949400"/>
              <a:chExt cx="1370880" cy="665640"/>
            </a:xfrm>
          </p:grpSpPr>
          <p:sp>
            <p:nvSpPr>
              <p:cNvPr id="768" name="Text Box 46"/>
              <p:cNvSpPr/>
              <p:nvPr/>
            </p:nvSpPr>
            <p:spPr>
              <a:xfrm>
                <a:off x="3753000" y="2082600"/>
                <a:ext cx="1276200" cy="532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Palatino"/>
                  </a:rPr>
                  <a:t>AccountId</a:t>
                </a: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769" name="Text Box 47"/>
              <p:cNvSpPr/>
              <p:nvPr/>
            </p:nvSpPr>
            <p:spPr>
              <a:xfrm>
                <a:off x="3705840" y="1949400"/>
                <a:ext cx="1370880" cy="313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Palatino"/>
                  </a:rPr>
                  <a:t>AccountId</a:t>
                </a: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70" name="Group 117"/>
          <p:cNvGrpSpPr/>
          <p:nvPr/>
        </p:nvGrpSpPr>
        <p:grpSpPr>
          <a:xfrm>
            <a:off x="5105520" y="1154160"/>
            <a:ext cx="3407040" cy="2285640"/>
            <a:chOff x="5105520" y="1154160"/>
            <a:chExt cx="3407040" cy="2285640"/>
          </a:xfrm>
        </p:grpSpPr>
        <p:grpSp>
          <p:nvGrpSpPr>
            <p:cNvPr id="771" name="Group 25"/>
            <p:cNvGrpSpPr/>
            <p:nvPr/>
          </p:nvGrpSpPr>
          <p:grpSpPr>
            <a:xfrm>
              <a:off x="6833880" y="1154160"/>
              <a:ext cx="1601280" cy="2285640"/>
              <a:chOff x="6833880" y="1154160"/>
              <a:chExt cx="1601280" cy="2285640"/>
            </a:xfrm>
          </p:grpSpPr>
          <p:grpSp>
            <p:nvGrpSpPr>
              <p:cNvPr id="772" name="Group 26"/>
              <p:cNvGrpSpPr/>
              <p:nvPr/>
            </p:nvGrpSpPr>
            <p:grpSpPr>
              <a:xfrm>
                <a:off x="6874920" y="1154160"/>
                <a:ext cx="1560240" cy="2285640"/>
                <a:chOff x="6874920" y="1154160"/>
                <a:chExt cx="1560240" cy="2285640"/>
              </a:xfrm>
            </p:grpSpPr>
            <p:sp>
              <p:nvSpPr>
                <p:cNvPr id="773" name="Rectangle 27"/>
                <p:cNvSpPr/>
                <p:nvPr/>
              </p:nvSpPr>
              <p:spPr>
                <a:xfrm>
                  <a:off x="6874920" y="1154160"/>
                  <a:ext cx="1560240" cy="228564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  <p:sp>
              <p:nvSpPr>
                <p:cNvPr id="774" name="Line 28"/>
                <p:cNvSpPr/>
                <p:nvPr/>
              </p:nvSpPr>
              <p:spPr>
                <a:xfrm>
                  <a:off x="6874920" y="1839960"/>
                  <a:ext cx="156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  <p:sp>
              <p:nvSpPr>
                <p:cNvPr id="775" name="Line 29"/>
                <p:cNvSpPr/>
                <p:nvPr/>
              </p:nvSpPr>
              <p:spPr>
                <a:xfrm>
                  <a:off x="6874920" y="2640240"/>
                  <a:ext cx="156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76" name="Text Box 30"/>
              <p:cNvSpPr/>
              <p:nvPr/>
            </p:nvSpPr>
            <p:spPr>
              <a:xfrm>
                <a:off x="6969240" y="1306800"/>
                <a:ext cx="1305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ff"/>
                    </a:solidFill>
                    <a:latin typeface="Palatino"/>
                  </a:rPr>
                  <a:t>Customer</a:t>
                </a: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777" name="Text Box 31"/>
              <p:cNvSpPr/>
              <p:nvPr/>
            </p:nvSpPr>
            <p:spPr>
              <a:xfrm>
                <a:off x="6833880" y="1818000"/>
                <a:ext cx="854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Palatino"/>
                  </a:rPr>
                  <a:t>Name</a:t>
                </a: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  <p:sp>
          <p:nvSpPr>
            <p:cNvPr id="778" name="Text Box 32"/>
            <p:cNvSpPr/>
            <p:nvPr/>
          </p:nvSpPr>
          <p:spPr>
            <a:xfrm>
              <a:off x="6784920" y="2830680"/>
              <a:ext cx="172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Palatino"/>
                </a:rPr>
                <a:t>CustomerId()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779" name="Line 55"/>
            <p:cNvSpPr/>
            <p:nvPr/>
          </p:nvSpPr>
          <p:spPr>
            <a:xfrm>
              <a:off x="5105520" y="1763640"/>
              <a:ext cx="1752480" cy="838440"/>
            </a:xfrm>
            <a:prstGeom prst="line">
              <a:avLst/>
            </a:prstGeom>
            <a:ln w="2844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780" name="Text Box 56"/>
            <p:cNvSpPr/>
            <p:nvPr/>
          </p:nvSpPr>
          <p:spPr>
            <a:xfrm>
              <a:off x="5797440" y="177804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Palatino"/>
                </a:rPr>
                <a:t>Has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781" name="Text Box 57"/>
            <p:cNvSpPr/>
            <p:nvPr/>
          </p:nvSpPr>
          <p:spPr>
            <a:xfrm>
              <a:off x="5171760" y="153504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Palatino"/>
                </a:rPr>
                <a:t>*</a:t>
              </a:r>
              <a:endParaRPr b="1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782" name="Group 116"/>
          <p:cNvGrpSpPr/>
          <p:nvPr/>
        </p:nvGrpSpPr>
        <p:grpSpPr>
          <a:xfrm>
            <a:off x="814320" y="1154160"/>
            <a:ext cx="2843280" cy="2285640"/>
            <a:chOff x="814320" y="1154160"/>
            <a:chExt cx="2843280" cy="2285640"/>
          </a:xfrm>
        </p:grpSpPr>
        <p:grpSp>
          <p:nvGrpSpPr>
            <p:cNvPr id="783" name="Group 48"/>
            <p:cNvGrpSpPr/>
            <p:nvPr/>
          </p:nvGrpSpPr>
          <p:grpSpPr>
            <a:xfrm>
              <a:off x="814320" y="1154160"/>
              <a:ext cx="1486800" cy="2285640"/>
              <a:chOff x="814320" y="1154160"/>
              <a:chExt cx="1486800" cy="2285640"/>
            </a:xfrm>
          </p:grpSpPr>
          <p:grpSp>
            <p:nvGrpSpPr>
              <p:cNvPr id="784" name="Group 49"/>
              <p:cNvGrpSpPr/>
              <p:nvPr/>
            </p:nvGrpSpPr>
            <p:grpSpPr>
              <a:xfrm>
                <a:off x="853920" y="1154160"/>
                <a:ext cx="1447200" cy="2285640"/>
                <a:chOff x="853920" y="1154160"/>
                <a:chExt cx="1447200" cy="2285640"/>
              </a:xfrm>
            </p:grpSpPr>
            <p:sp>
              <p:nvSpPr>
                <p:cNvPr id="785" name="Rectangle 50"/>
                <p:cNvSpPr/>
                <p:nvPr/>
              </p:nvSpPr>
              <p:spPr>
                <a:xfrm>
                  <a:off x="853920" y="1154160"/>
                  <a:ext cx="1447200" cy="228564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  <p:sp>
              <p:nvSpPr>
                <p:cNvPr id="786" name="Line 51"/>
                <p:cNvSpPr/>
                <p:nvPr/>
              </p:nvSpPr>
              <p:spPr>
                <a:xfrm>
                  <a:off x="853920" y="1839960"/>
                  <a:ext cx="14472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  <p:sp>
              <p:nvSpPr>
                <p:cNvPr id="787" name="Line 52"/>
                <p:cNvSpPr/>
                <p:nvPr/>
              </p:nvSpPr>
              <p:spPr>
                <a:xfrm>
                  <a:off x="853920" y="2640240"/>
                  <a:ext cx="14472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88" name="Text Box 53"/>
              <p:cNvSpPr/>
              <p:nvPr/>
            </p:nvSpPr>
            <p:spPr>
              <a:xfrm>
                <a:off x="970920" y="1306800"/>
                <a:ext cx="768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ff"/>
                    </a:solidFill>
                    <a:latin typeface="Palatino"/>
                  </a:rPr>
                  <a:t>Bank</a:t>
                </a: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789" name="Text Box 54"/>
              <p:cNvSpPr/>
              <p:nvPr/>
            </p:nvSpPr>
            <p:spPr>
              <a:xfrm>
                <a:off x="814320" y="1818000"/>
                <a:ext cx="854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Palatino"/>
                  </a:rPr>
                  <a:t>Name</a:t>
                </a: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  <p:sp>
          <p:nvSpPr>
            <p:cNvPr id="790" name="Text Box 59"/>
            <p:cNvSpPr/>
            <p:nvPr/>
          </p:nvSpPr>
          <p:spPr>
            <a:xfrm>
              <a:off x="3267000" y="145908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Palatino"/>
                </a:rPr>
                <a:t>*</a:t>
              </a:r>
              <a:endParaRPr b="1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791" name="Line 58"/>
            <p:cNvSpPr/>
            <p:nvPr/>
          </p:nvSpPr>
          <p:spPr>
            <a:xfrm flipH="1">
              <a:off x="2362320" y="1916280"/>
              <a:ext cx="129528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792" name="AutoShape 75"/>
            <p:cNvSpPr/>
            <p:nvPr/>
          </p:nvSpPr>
          <p:spPr>
            <a:xfrm>
              <a:off x="2286000" y="2013120"/>
              <a:ext cx="239760" cy="253800"/>
            </a:xfrm>
            <a:prstGeom prst="diamond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sp>
        <p:nvSpPr>
          <p:cNvPr id="793" name="AutoShape 118"/>
          <p:cNvSpPr/>
          <p:nvPr/>
        </p:nvSpPr>
        <p:spPr>
          <a:xfrm>
            <a:off x="2289240" y="2021040"/>
            <a:ext cx="239760" cy="241200"/>
          </a:xfrm>
          <a:prstGeom prst="diamond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9" dur="indefinite" restart="never" nodeType="tmRoot">
          <p:childTnLst>
            <p:seq>
              <p:cTn id="840" dur="indefinite" nodeType="mainSeq">
                <p:childTnLst>
                  <p:par>
                    <p:cTn id="841" fill="hold">
                      <p:stCondLst>
                        <p:cond delay="0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9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0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45820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Practice Object Modeling: Simplify, Organize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795" name="Group 4"/>
          <p:cNvGrpSpPr/>
          <p:nvPr/>
        </p:nvGrpSpPr>
        <p:grpSpPr>
          <a:xfrm>
            <a:off x="1768320" y="3962520"/>
            <a:ext cx="1447560" cy="2285640"/>
            <a:chOff x="1768320" y="3962520"/>
            <a:chExt cx="1447560" cy="2285640"/>
          </a:xfrm>
        </p:grpSpPr>
        <p:sp>
          <p:nvSpPr>
            <p:cNvPr id="796" name="Rectangle 5"/>
            <p:cNvSpPr/>
            <p:nvPr/>
          </p:nvSpPr>
          <p:spPr>
            <a:xfrm>
              <a:off x="1768320" y="3962520"/>
              <a:ext cx="1447560" cy="228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797" name="Line 6"/>
            <p:cNvSpPr/>
            <p:nvPr/>
          </p:nvSpPr>
          <p:spPr>
            <a:xfrm>
              <a:off x="1768320" y="4648320"/>
              <a:ext cx="1447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798" name="Line 7"/>
            <p:cNvSpPr/>
            <p:nvPr/>
          </p:nvSpPr>
          <p:spPr>
            <a:xfrm>
              <a:off x="1768320" y="5448600"/>
              <a:ext cx="1447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sp>
        <p:nvSpPr>
          <p:cNvPr id="799" name="Text Box 8"/>
          <p:cNvSpPr/>
          <p:nvPr/>
        </p:nvSpPr>
        <p:spPr>
          <a:xfrm>
            <a:off x="1939320" y="4038480"/>
            <a:ext cx="113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Palatino"/>
              </a:rPr>
              <a:t>Savings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Palatino"/>
              </a:rPr>
              <a:t>Account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00" name="Text Box 9"/>
          <p:cNvSpPr/>
          <p:nvPr/>
        </p:nvSpPr>
        <p:spPr>
          <a:xfrm>
            <a:off x="1681560" y="5692680"/>
            <a:ext cx="153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"/>
              </a:rPr>
              <a:t>Withdraw()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01" name="AutoShape 10"/>
          <p:cNvSpPr/>
          <p:nvPr/>
        </p:nvSpPr>
        <p:spPr>
          <a:xfrm rot="2722200">
            <a:off x="3686040" y="3161880"/>
            <a:ext cx="324000" cy="2793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440" bIns="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02" name="Line 11"/>
          <p:cNvSpPr/>
          <p:nvPr/>
        </p:nvSpPr>
        <p:spPr>
          <a:xfrm flipV="1">
            <a:off x="2476440" y="3390840"/>
            <a:ext cx="1270080" cy="571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grpSp>
        <p:nvGrpSpPr>
          <p:cNvPr id="803" name="Group 13"/>
          <p:cNvGrpSpPr/>
          <p:nvPr/>
        </p:nvGrpSpPr>
        <p:grpSpPr>
          <a:xfrm>
            <a:off x="3657600" y="3962520"/>
            <a:ext cx="1447560" cy="2285640"/>
            <a:chOff x="3657600" y="3962520"/>
            <a:chExt cx="1447560" cy="2285640"/>
          </a:xfrm>
        </p:grpSpPr>
        <p:sp>
          <p:nvSpPr>
            <p:cNvPr id="804" name="Rectangle 14"/>
            <p:cNvSpPr/>
            <p:nvPr/>
          </p:nvSpPr>
          <p:spPr>
            <a:xfrm>
              <a:off x="3657600" y="3962520"/>
              <a:ext cx="1447560" cy="228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805" name="Line 15"/>
            <p:cNvSpPr/>
            <p:nvPr/>
          </p:nvSpPr>
          <p:spPr>
            <a:xfrm>
              <a:off x="3657600" y="4648320"/>
              <a:ext cx="1447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806" name="Line 16"/>
            <p:cNvSpPr/>
            <p:nvPr/>
          </p:nvSpPr>
          <p:spPr>
            <a:xfrm>
              <a:off x="3657600" y="5448600"/>
              <a:ext cx="1447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sp>
        <p:nvSpPr>
          <p:cNvPr id="807" name="Text Box 17"/>
          <p:cNvSpPr/>
          <p:nvPr/>
        </p:nvSpPr>
        <p:spPr>
          <a:xfrm>
            <a:off x="3842640" y="4038480"/>
            <a:ext cx="124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Palatino"/>
              </a:rPr>
              <a:t>Checking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Palatino"/>
              </a:rPr>
              <a:t>Account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08" name="Text Box 18"/>
          <p:cNvSpPr/>
          <p:nvPr/>
        </p:nvSpPr>
        <p:spPr>
          <a:xfrm>
            <a:off x="3570840" y="5692680"/>
            <a:ext cx="153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"/>
              </a:rPr>
              <a:t>Withdraw()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09" name="AutoShape 19"/>
          <p:cNvSpPr/>
          <p:nvPr/>
        </p:nvSpPr>
        <p:spPr>
          <a:xfrm rot="21593400">
            <a:off x="4168440" y="3162240"/>
            <a:ext cx="324000" cy="2793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440" bIns="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10" name="Line 20"/>
          <p:cNvSpPr/>
          <p:nvPr/>
        </p:nvSpPr>
        <p:spPr>
          <a:xfrm>
            <a:off x="4356000" y="34416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grpSp>
        <p:nvGrpSpPr>
          <p:cNvPr id="811" name="Group 22"/>
          <p:cNvGrpSpPr/>
          <p:nvPr/>
        </p:nvGrpSpPr>
        <p:grpSpPr>
          <a:xfrm>
            <a:off x="5638680" y="3962520"/>
            <a:ext cx="1447560" cy="2285640"/>
            <a:chOff x="5638680" y="3962520"/>
            <a:chExt cx="1447560" cy="2285640"/>
          </a:xfrm>
        </p:grpSpPr>
        <p:sp>
          <p:nvSpPr>
            <p:cNvPr id="812" name="Rectangle 23"/>
            <p:cNvSpPr/>
            <p:nvPr/>
          </p:nvSpPr>
          <p:spPr>
            <a:xfrm>
              <a:off x="5638680" y="3962520"/>
              <a:ext cx="1447560" cy="228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813" name="Line 24"/>
            <p:cNvSpPr/>
            <p:nvPr/>
          </p:nvSpPr>
          <p:spPr>
            <a:xfrm>
              <a:off x="5638680" y="4648320"/>
              <a:ext cx="1447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814" name="Line 25"/>
            <p:cNvSpPr/>
            <p:nvPr/>
          </p:nvSpPr>
          <p:spPr>
            <a:xfrm>
              <a:off x="5638680" y="5448600"/>
              <a:ext cx="1447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sp>
        <p:nvSpPr>
          <p:cNvPr id="815" name="Text Box 26"/>
          <p:cNvSpPr/>
          <p:nvPr/>
        </p:nvSpPr>
        <p:spPr>
          <a:xfrm>
            <a:off x="5807880" y="4038480"/>
            <a:ext cx="127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Palatino"/>
              </a:rPr>
              <a:t>Mortgage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Palatino"/>
              </a:rPr>
              <a:t>Account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16" name="Text Box 27"/>
          <p:cNvSpPr/>
          <p:nvPr/>
        </p:nvSpPr>
        <p:spPr>
          <a:xfrm>
            <a:off x="5551920" y="5692680"/>
            <a:ext cx="153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"/>
              </a:rPr>
              <a:t>Withdraw()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17" name="AutoShape 28"/>
          <p:cNvSpPr/>
          <p:nvPr/>
        </p:nvSpPr>
        <p:spPr>
          <a:xfrm rot="18274800">
            <a:off x="4651560" y="3136320"/>
            <a:ext cx="323640" cy="2793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440" bIns="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18" name="Line 29"/>
          <p:cNvSpPr/>
          <p:nvPr/>
        </p:nvSpPr>
        <p:spPr>
          <a:xfrm>
            <a:off x="4915080" y="3352680"/>
            <a:ext cx="143496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grpSp>
        <p:nvGrpSpPr>
          <p:cNvPr id="819" name="Group 39"/>
          <p:cNvGrpSpPr/>
          <p:nvPr/>
        </p:nvGrpSpPr>
        <p:grpSpPr>
          <a:xfrm>
            <a:off x="3584880" y="925560"/>
            <a:ext cx="1675800" cy="2327040"/>
            <a:chOff x="3584880" y="925560"/>
            <a:chExt cx="1675800" cy="2327040"/>
          </a:xfrm>
        </p:grpSpPr>
        <p:grpSp>
          <p:nvGrpSpPr>
            <p:cNvPr id="820" name="Group 40"/>
            <p:cNvGrpSpPr/>
            <p:nvPr/>
          </p:nvGrpSpPr>
          <p:grpSpPr>
            <a:xfrm>
              <a:off x="3584880" y="925560"/>
              <a:ext cx="1675800" cy="2327040"/>
              <a:chOff x="3584880" y="925560"/>
              <a:chExt cx="1675800" cy="2327040"/>
            </a:xfrm>
          </p:grpSpPr>
          <p:grpSp>
            <p:nvGrpSpPr>
              <p:cNvPr id="821" name="Group 41"/>
              <p:cNvGrpSpPr/>
              <p:nvPr/>
            </p:nvGrpSpPr>
            <p:grpSpPr>
              <a:xfrm>
                <a:off x="3673440" y="925560"/>
                <a:ext cx="1447560" cy="2285640"/>
                <a:chOff x="3673440" y="925560"/>
                <a:chExt cx="1447560" cy="2285640"/>
              </a:xfrm>
            </p:grpSpPr>
            <p:sp>
              <p:nvSpPr>
                <p:cNvPr id="822" name="Rectangle 42"/>
                <p:cNvSpPr/>
                <p:nvPr/>
              </p:nvSpPr>
              <p:spPr>
                <a:xfrm>
                  <a:off x="3673440" y="925560"/>
                  <a:ext cx="1447560" cy="228564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  <p:sp>
              <p:nvSpPr>
                <p:cNvPr id="823" name="Line 43"/>
                <p:cNvSpPr/>
                <p:nvPr/>
              </p:nvSpPr>
              <p:spPr>
                <a:xfrm>
                  <a:off x="3673440" y="1611360"/>
                  <a:ext cx="1447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  <p:sp>
              <p:nvSpPr>
                <p:cNvPr id="824" name="Line 44"/>
                <p:cNvSpPr/>
                <p:nvPr/>
              </p:nvSpPr>
              <p:spPr>
                <a:xfrm>
                  <a:off x="3673440" y="2411640"/>
                  <a:ext cx="1447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25" name="Text Box 45"/>
              <p:cNvSpPr/>
              <p:nvPr/>
            </p:nvSpPr>
            <p:spPr>
              <a:xfrm>
                <a:off x="3936240" y="1077840"/>
                <a:ext cx="11318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ff"/>
                    </a:solidFill>
                    <a:latin typeface="Palatino"/>
                  </a:rPr>
                  <a:t>Account</a:t>
                </a: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826" name="Text Box 46"/>
              <p:cNvSpPr/>
              <p:nvPr/>
            </p:nvSpPr>
            <p:spPr>
              <a:xfrm>
                <a:off x="3623400" y="1589040"/>
                <a:ext cx="1116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Palatino"/>
                  </a:rPr>
                  <a:t>Amount</a:t>
                </a: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827" name="Text Box 47"/>
              <p:cNvSpPr/>
              <p:nvPr/>
            </p:nvSpPr>
            <p:spPr>
              <a:xfrm>
                <a:off x="3617280" y="2427120"/>
                <a:ext cx="1243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Palatino"/>
                  </a:rPr>
                  <a:t>Deposit()</a:t>
                </a: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828" name="Text Box 48"/>
              <p:cNvSpPr/>
              <p:nvPr/>
            </p:nvSpPr>
            <p:spPr>
              <a:xfrm>
                <a:off x="3586680" y="2655720"/>
                <a:ext cx="1532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Palatino"/>
                  </a:rPr>
                  <a:t>Withdraw()</a:t>
                </a: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829" name="Text Box 49"/>
              <p:cNvSpPr/>
              <p:nvPr/>
            </p:nvSpPr>
            <p:spPr>
              <a:xfrm>
                <a:off x="3584880" y="2884320"/>
                <a:ext cx="1675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Palatino"/>
                  </a:rPr>
                  <a:t>GetBalance()</a:t>
                </a: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  <p:sp>
          <p:nvSpPr>
            <p:cNvPr id="830" name="Text Box 50"/>
            <p:cNvSpPr/>
            <p:nvPr/>
          </p:nvSpPr>
          <p:spPr>
            <a:xfrm>
              <a:off x="3599640" y="1992240"/>
              <a:ext cx="1544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Palatino"/>
                </a:rPr>
                <a:t>CustomerId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grpSp>
          <p:nvGrpSpPr>
            <p:cNvPr id="831" name="Group 51"/>
            <p:cNvGrpSpPr/>
            <p:nvPr/>
          </p:nvGrpSpPr>
          <p:grpSpPr>
            <a:xfrm>
              <a:off x="3705840" y="1949400"/>
              <a:ext cx="1370880" cy="665640"/>
              <a:chOff x="3705840" y="1949400"/>
              <a:chExt cx="1370880" cy="665640"/>
            </a:xfrm>
          </p:grpSpPr>
          <p:sp>
            <p:nvSpPr>
              <p:cNvPr id="832" name="Text Box 52"/>
              <p:cNvSpPr/>
              <p:nvPr/>
            </p:nvSpPr>
            <p:spPr>
              <a:xfrm>
                <a:off x="3753000" y="2082600"/>
                <a:ext cx="1276200" cy="532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Palatino"/>
                  </a:rPr>
                  <a:t>AccountId</a:t>
                </a: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833" name="Text Box 53"/>
              <p:cNvSpPr/>
              <p:nvPr/>
            </p:nvSpPr>
            <p:spPr>
              <a:xfrm>
                <a:off x="3705840" y="1949400"/>
                <a:ext cx="1370880" cy="313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Palatino"/>
                  </a:rPr>
                  <a:t>AccountId</a:t>
                </a: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</p:grpSp>
      <p:sp>
        <p:nvSpPr>
          <p:cNvPr id="834" name="Text Box 67"/>
          <p:cNvSpPr/>
          <p:nvPr/>
        </p:nvSpPr>
        <p:spPr>
          <a:xfrm>
            <a:off x="5833440" y="1599480"/>
            <a:ext cx="28555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how Taxonomies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eparately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45820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Practice Object Modeling: Simplify, Organize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836" name="Group 30"/>
          <p:cNvGrpSpPr/>
          <p:nvPr/>
        </p:nvGrpSpPr>
        <p:grpSpPr>
          <a:xfrm>
            <a:off x="814320" y="925560"/>
            <a:ext cx="7698240" cy="2514240"/>
            <a:chOff x="814320" y="925560"/>
            <a:chExt cx="7698240" cy="2514240"/>
          </a:xfrm>
        </p:grpSpPr>
        <p:grpSp>
          <p:nvGrpSpPr>
            <p:cNvPr id="837" name="Group 31"/>
            <p:cNvGrpSpPr/>
            <p:nvPr/>
          </p:nvGrpSpPr>
          <p:grpSpPr>
            <a:xfrm>
              <a:off x="6833880" y="1154160"/>
              <a:ext cx="1601280" cy="2285640"/>
              <a:chOff x="6833880" y="1154160"/>
              <a:chExt cx="1601280" cy="2285640"/>
            </a:xfrm>
          </p:grpSpPr>
          <p:grpSp>
            <p:nvGrpSpPr>
              <p:cNvPr id="838" name="Group 32"/>
              <p:cNvGrpSpPr/>
              <p:nvPr/>
            </p:nvGrpSpPr>
            <p:grpSpPr>
              <a:xfrm>
                <a:off x="6874920" y="1154160"/>
                <a:ext cx="1560240" cy="2285640"/>
                <a:chOff x="6874920" y="1154160"/>
                <a:chExt cx="1560240" cy="2285640"/>
              </a:xfrm>
            </p:grpSpPr>
            <p:sp>
              <p:nvSpPr>
                <p:cNvPr id="839" name="Rectangle 33"/>
                <p:cNvSpPr/>
                <p:nvPr/>
              </p:nvSpPr>
              <p:spPr>
                <a:xfrm>
                  <a:off x="6874920" y="1154160"/>
                  <a:ext cx="1560240" cy="228564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  <p:sp>
              <p:nvSpPr>
                <p:cNvPr id="840" name="Line 34"/>
                <p:cNvSpPr/>
                <p:nvPr/>
              </p:nvSpPr>
              <p:spPr>
                <a:xfrm>
                  <a:off x="6874920" y="1839960"/>
                  <a:ext cx="156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  <p:sp>
              <p:nvSpPr>
                <p:cNvPr id="841" name="Line 35"/>
                <p:cNvSpPr/>
                <p:nvPr/>
              </p:nvSpPr>
              <p:spPr>
                <a:xfrm>
                  <a:off x="6874920" y="2640240"/>
                  <a:ext cx="156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42" name="Text Box 36"/>
              <p:cNvSpPr/>
              <p:nvPr/>
            </p:nvSpPr>
            <p:spPr>
              <a:xfrm>
                <a:off x="6969240" y="1306800"/>
                <a:ext cx="1305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ff"/>
                    </a:solidFill>
                    <a:latin typeface="Palatino"/>
                  </a:rPr>
                  <a:t>Customer</a:t>
                </a: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843" name="Text Box 37"/>
              <p:cNvSpPr/>
              <p:nvPr/>
            </p:nvSpPr>
            <p:spPr>
              <a:xfrm>
                <a:off x="6833880" y="1818000"/>
                <a:ext cx="854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Palatino"/>
                  </a:rPr>
                  <a:t>Name</a:t>
                </a: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  <p:sp>
          <p:nvSpPr>
            <p:cNvPr id="844" name="Text Box 38"/>
            <p:cNvSpPr/>
            <p:nvPr/>
          </p:nvSpPr>
          <p:spPr>
            <a:xfrm>
              <a:off x="6784920" y="2830680"/>
              <a:ext cx="172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Palatino"/>
                </a:rPr>
                <a:t>CustomerId()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grpSp>
          <p:nvGrpSpPr>
            <p:cNvPr id="845" name="Group 39"/>
            <p:cNvGrpSpPr/>
            <p:nvPr/>
          </p:nvGrpSpPr>
          <p:grpSpPr>
            <a:xfrm>
              <a:off x="3584880" y="925560"/>
              <a:ext cx="1675800" cy="2327040"/>
              <a:chOff x="3584880" y="925560"/>
              <a:chExt cx="1675800" cy="2327040"/>
            </a:xfrm>
          </p:grpSpPr>
          <p:grpSp>
            <p:nvGrpSpPr>
              <p:cNvPr id="846" name="Group 40"/>
              <p:cNvGrpSpPr/>
              <p:nvPr/>
            </p:nvGrpSpPr>
            <p:grpSpPr>
              <a:xfrm>
                <a:off x="3584880" y="925560"/>
                <a:ext cx="1675800" cy="2327040"/>
                <a:chOff x="3584880" y="925560"/>
                <a:chExt cx="1675800" cy="2327040"/>
              </a:xfrm>
            </p:grpSpPr>
            <p:grpSp>
              <p:nvGrpSpPr>
                <p:cNvPr id="847" name="Group 41"/>
                <p:cNvGrpSpPr/>
                <p:nvPr/>
              </p:nvGrpSpPr>
              <p:grpSpPr>
                <a:xfrm>
                  <a:off x="3673440" y="925560"/>
                  <a:ext cx="1447560" cy="2285640"/>
                  <a:chOff x="3673440" y="925560"/>
                  <a:chExt cx="1447560" cy="2285640"/>
                </a:xfrm>
              </p:grpSpPr>
              <p:sp>
                <p:nvSpPr>
                  <p:cNvPr id="848" name="Rectangle 42"/>
                  <p:cNvSpPr/>
                  <p:nvPr/>
                </p:nvSpPr>
                <p:spPr>
                  <a:xfrm>
                    <a:off x="3673440" y="925560"/>
                    <a:ext cx="1447560" cy="228564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ff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9" name="Line 43"/>
                  <p:cNvSpPr/>
                  <p:nvPr/>
                </p:nvSpPr>
                <p:spPr>
                  <a:xfrm>
                    <a:off x="3673440" y="1611360"/>
                    <a:ext cx="14475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ff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0" name="Line 44"/>
                  <p:cNvSpPr/>
                  <p:nvPr/>
                </p:nvSpPr>
                <p:spPr>
                  <a:xfrm>
                    <a:off x="3673440" y="2411640"/>
                    <a:ext cx="14475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ff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51" name="Text Box 45"/>
                <p:cNvSpPr/>
                <p:nvPr/>
              </p:nvSpPr>
              <p:spPr>
                <a:xfrm>
                  <a:off x="3936240" y="1077840"/>
                  <a:ext cx="11318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3333ff"/>
                      </a:solidFill>
                      <a:latin typeface="Palatino"/>
                    </a:rPr>
                    <a:t>Account</a:t>
                  </a:r>
                  <a:endParaRPr b="1" lang="en-US" sz="18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  <p:sp>
              <p:nvSpPr>
                <p:cNvPr id="852" name="Text Box 46"/>
                <p:cNvSpPr/>
                <p:nvPr/>
              </p:nvSpPr>
              <p:spPr>
                <a:xfrm>
                  <a:off x="3623400" y="1589040"/>
                  <a:ext cx="11163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Palatino"/>
                    </a:rPr>
                    <a:t>Amount</a:t>
                  </a:r>
                  <a:endParaRPr b="1" lang="en-US" sz="18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  <p:sp>
              <p:nvSpPr>
                <p:cNvPr id="853" name="Text Box 47"/>
                <p:cNvSpPr/>
                <p:nvPr/>
              </p:nvSpPr>
              <p:spPr>
                <a:xfrm>
                  <a:off x="3617280" y="2427120"/>
                  <a:ext cx="12430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Palatino"/>
                    </a:rPr>
                    <a:t>Deposit()</a:t>
                  </a:r>
                  <a:endParaRPr b="1" lang="en-US" sz="18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  <p:sp>
              <p:nvSpPr>
                <p:cNvPr id="854" name="Text Box 48"/>
                <p:cNvSpPr/>
                <p:nvPr/>
              </p:nvSpPr>
              <p:spPr>
                <a:xfrm>
                  <a:off x="3586680" y="2655720"/>
                  <a:ext cx="15325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Palatino"/>
                    </a:rPr>
                    <a:t>Withdraw()</a:t>
                  </a:r>
                  <a:endParaRPr b="1" lang="en-US" sz="18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  <p:sp>
              <p:nvSpPr>
                <p:cNvPr id="855" name="Text Box 49"/>
                <p:cNvSpPr/>
                <p:nvPr/>
              </p:nvSpPr>
              <p:spPr>
                <a:xfrm>
                  <a:off x="3584880" y="2884320"/>
                  <a:ext cx="16758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Palatino"/>
                    </a:rPr>
                    <a:t>GetBalance()</a:t>
                  </a:r>
                  <a:endParaRPr b="1" lang="en-US" sz="18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6" name="Text Box 50"/>
              <p:cNvSpPr/>
              <p:nvPr/>
            </p:nvSpPr>
            <p:spPr>
              <a:xfrm>
                <a:off x="3599640" y="1992240"/>
                <a:ext cx="1544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Palatino"/>
                  </a:rPr>
                  <a:t>CustomerId</a:t>
                </a: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grpSp>
            <p:nvGrpSpPr>
              <p:cNvPr id="857" name="Group 51"/>
              <p:cNvGrpSpPr/>
              <p:nvPr/>
            </p:nvGrpSpPr>
            <p:grpSpPr>
              <a:xfrm>
                <a:off x="3705840" y="1949400"/>
                <a:ext cx="1370880" cy="665640"/>
                <a:chOff x="3705840" y="1949400"/>
                <a:chExt cx="1370880" cy="665640"/>
              </a:xfrm>
            </p:grpSpPr>
            <p:sp>
              <p:nvSpPr>
                <p:cNvPr id="858" name="Text Box 52"/>
                <p:cNvSpPr/>
                <p:nvPr/>
              </p:nvSpPr>
              <p:spPr>
                <a:xfrm>
                  <a:off x="3753000" y="2082600"/>
                  <a:ext cx="1276200" cy="5324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Palatino"/>
                    </a:rPr>
                    <a:t>AccountId</a:t>
                  </a:r>
                  <a:endParaRPr b="1" lang="en-US" sz="18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  <p:sp>
              <p:nvSpPr>
                <p:cNvPr id="859" name="Text Box 53"/>
                <p:cNvSpPr/>
                <p:nvPr/>
              </p:nvSpPr>
              <p:spPr>
                <a:xfrm>
                  <a:off x="3705840" y="1949400"/>
                  <a:ext cx="1370880" cy="31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Palatino"/>
                    </a:rPr>
                    <a:t>AccountId</a:t>
                  </a:r>
                  <a:endParaRPr b="1" lang="en-US" sz="18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60" name="Group 54"/>
            <p:cNvGrpSpPr/>
            <p:nvPr/>
          </p:nvGrpSpPr>
          <p:grpSpPr>
            <a:xfrm>
              <a:off x="814320" y="1154160"/>
              <a:ext cx="1486800" cy="2285640"/>
              <a:chOff x="814320" y="1154160"/>
              <a:chExt cx="1486800" cy="2285640"/>
            </a:xfrm>
          </p:grpSpPr>
          <p:grpSp>
            <p:nvGrpSpPr>
              <p:cNvPr id="861" name="Group 55"/>
              <p:cNvGrpSpPr/>
              <p:nvPr/>
            </p:nvGrpSpPr>
            <p:grpSpPr>
              <a:xfrm>
                <a:off x="853920" y="1154160"/>
                <a:ext cx="1447200" cy="2285640"/>
                <a:chOff x="853920" y="1154160"/>
                <a:chExt cx="1447200" cy="2285640"/>
              </a:xfrm>
            </p:grpSpPr>
            <p:sp>
              <p:nvSpPr>
                <p:cNvPr id="862" name="Rectangle 56"/>
                <p:cNvSpPr/>
                <p:nvPr/>
              </p:nvSpPr>
              <p:spPr>
                <a:xfrm>
                  <a:off x="853920" y="1154160"/>
                  <a:ext cx="1447200" cy="228564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  <p:sp>
              <p:nvSpPr>
                <p:cNvPr id="863" name="Line 57"/>
                <p:cNvSpPr/>
                <p:nvPr/>
              </p:nvSpPr>
              <p:spPr>
                <a:xfrm>
                  <a:off x="853920" y="1839960"/>
                  <a:ext cx="14472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  <p:sp>
              <p:nvSpPr>
                <p:cNvPr id="864" name="Line 58"/>
                <p:cNvSpPr/>
                <p:nvPr/>
              </p:nvSpPr>
              <p:spPr>
                <a:xfrm>
                  <a:off x="853920" y="2640240"/>
                  <a:ext cx="14472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65" name="Text Box 59"/>
              <p:cNvSpPr/>
              <p:nvPr/>
            </p:nvSpPr>
            <p:spPr>
              <a:xfrm>
                <a:off x="970920" y="1306800"/>
                <a:ext cx="768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ff"/>
                    </a:solidFill>
                    <a:latin typeface="Palatino"/>
                  </a:rPr>
                  <a:t>Bank</a:t>
                </a: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866" name="Text Box 60"/>
              <p:cNvSpPr/>
              <p:nvPr/>
            </p:nvSpPr>
            <p:spPr>
              <a:xfrm>
                <a:off x="814320" y="1818000"/>
                <a:ext cx="854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Palatino"/>
                  </a:rPr>
                  <a:t>Name</a:t>
                </a: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  <p:sp>
          <p:nvSpPr>
            <p:cNvPr id="867" name="Line 61"/>
            <p:cNvSpPr/>
            <p:nvPr/>
          </p:nvSpPr>
          <p:spPr>
            <a:xfrm>
              <a:off x="5105520" y="1763640"/>
              <a:ext cx="1752480" cy="838440"/>
            </a:xfrm>
            <a:prstGeom prst="line">
              <a:avLst/>
            </a:prstGeom>
            <a:ln w="2844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868" name="Text Box 62"/>
            <p:cNvSpPr/>
            <p:nvPr/>
          </p:nvSpPr>
          <p:spPr>
            <a:xfrm>
              <a:off x="5797440" y="177804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Palatino"/>
                </a:rPr>
                <a:t>Has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869" name="Text Box 63"/>
            <p:cNvSpPr/>
            <p:nvPr/>
          </p:nvSpPr>
          <p:spPr>
            <a:xfrm>
              <a:off x="5171760" y="153504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Palatino"/>
                </a:rPr>
                <a:t>*</a:t>
              </a:r>
              <a:endParaRPr b="1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870" name="Text Box 64"/>
            <p:cNvSpPr/>
            <p:nvPr/>
          </p:nvSpPr>
          <p:spPr>
            <a:xfrm>
              <a:off x="3267000" y="145908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Palatino"/>
                </a:rPr>
                <a:t>*</a:t>
              </a:r>
              <a:endParaRPr b="1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871" name="Line 65"/>
            <p:cNvSpPr/>
            <p:nvPr/>
          </p:nvSpPr>
          <p:spPr>
            <a:xfrm flipH="1">
              <a:off x="2362320" y="1916280"/>
              <a:ext cx="129528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872" name="AutoShape 66"/>
            <p:cNvSpPr/>
            <p:nvPr/>
          </p:nvSpPr>
          <p:spPr>
            <a:xfrm>
              <a:off x="2286000" y="2013120"/>
              <a:ext cx="239760" cy="253800"/>
            </a:xfrm>
            <a:prstGeom prst="diamond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sp>
        <p:nvSpPr>
          <p:cNvPr id="873" name="Text Box 68"/>
          <p:cNvSpPr/>
          <p:nvPr/>
        </p:nvSpPr>
        <p:spPr>
          <a:xfrm>
            <a:off x="2526120" y="4060800"/>
            <a:ext cx="3510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Use the 7+-2 heuristics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or better 5+-2!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74" name="AutoShape 69"/>
          <p:cNvSpPr/>
          <p:nvPr/>
        </p:nvSpPr>
        <p:spPr>
          <a:xfrm>
            <a:off x="2289240" y="2021040"/>
            <a:ext cx="239760" cy="241200"/>
          </a:xfrm>
          <a:prstGeom prst="diamond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Sequence Diagrams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506840" y="1504440"/>
            <a:ext cx="454032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sed during analysi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78600" indent="-226080">
              <a:lnSpc>
                <a:spcPct val="90000"/>
              </a:lnSpc>
              <a:spcBef>
                <a:spcPts val="675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o refine use case descrip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78600" indent="-226080">
              <a:lnSpc>
                <a:spcPct val="90000"/>
              </a:lnSpc>
              <a:spcBef>
                <a:spcPts val="675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o find additional objects (“participating objects”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2960" indent="-2829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sed during system desig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78600" indent="-226080">
              <a:lnSpc>
                <a:spcPct val="90000"/>
              </a:lnSpc>
              <a:spcBef>
                <a:spcPts val="675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o refine subsystem interfac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2960" indent="-2829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Instances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are represented by rectangles. 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Actor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by sticky figur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2960" indent="-2829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Lifeline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are represented by dashed lin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2960" indent="-2829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Message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are represented by arrows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2960" indent="-2829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Activation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are represented by narrow rectangl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877" name="Group 73"/>
          <p:cNvGrpSpPr/>
          <p:nvPr/>
        </p:nvGrpSpPr>
        <p:grpSpPr>
          <a:xfrm>
            <a:off x="1170000" y="2363760"/>
            <a:ext cx="1900080" cy="3421080"/>
            <a:chOff x="1170000" y="2363760"/>
            <a:chExt cx="1900080" cy="3421080"/>
          </a:xfrm>
        </p:grpSpPr>
        <p:grpSp>
          <p:nvGrpSpPr>
            <p:cNvPr id="878" name="Group 60"/>
            <p:cNvGrpSpPr/>
            <p:nvPr/>
          </p:nvGrpSpPr>
          <p:grpSpPr>
            <a:xfrm>
              <a:off x="1170000" y="2363760"/>
              <a:ext cx="1861920" cy="213480"/>
              <a:chOff x="1170000" y="2363760"/>
              <a:chExt cx="1861920" cy="213480"/>
            </a:xfrm>
          </p:grpSpPr>
          <p:sp>
            <p:nvSpPr>
              <p:cNvPr id="879" name="Line 32"/>
              <p:cNvSpPr/>
              <p:nvPr/>
            </p:nvSpPr>
            <p:spPr>
              <a:xfrm>
                <a:off x="1170000" y="2543040"/>
                <a:ext cx="1861920" cy="180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880" name="Rectangle 33"/>
              <p:cNvSpPr/>
              <p:nvPr/>
            </p:nvSpPr>
            <p:spPr>
              <a:xfrm>
                <a:off x="1349280" y="2363760"/>
                <a:ext cx="12808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selectZone()</a:t>
                </a:r>
                <a:endParaRPr b="1" lang="en-US" sz="1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  <p:grpSp>
          <p:nvGrpSpPr>
            <p:cNvPr id="881" name="Group 62"/>
            <p:cNvGrpSpPr/>
            <p:nvPr/>
          </p:nvGrpSpPr>
          <p:grpSpPr>
            <a:xfrm>
              <a:off x="1185840" y="4516560"/>
              <a:ext cx="1884240" cy="213480"/>
              <a:chOff x="1185840" y="4516560"/>
              <a:chExt cx="1884240" cy="213480"/>
            </a:xfrm>
          </p:grpSpPr>
          <p:sp>
            <p:nvSpPr>
              <p:cNvPr id="882" name="Line 39"/>
              <p:cNvSpPr/>
              <p:nvPr/>
            </p:nvSpPr>
            <p:spPr>
              <a:xfrm>
                <a:off x="1185840" y="4697280"/>
                <a:ext cx="1884240" cy="180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883" name="Rectangle 40"/>
              <p:cNvSpPr/>
              <p:nvPr/>
            </p:nvSpPr>
            <p:spPr>
              <a:xfrm>
                <a:off x="1349280" y="4516560"/>
                <a:ext cx="149436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pickupChange()</a:t>
                </a:r>
                <a:endParaRPr b="1" lang="en-US" sz="1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  <p:grpSp>
          <p:nvGrpSpPr>
            <p:cNvPr id="884" name="Group 63"/>
            <p:cNvGrpSpPr/>
            <p:nvPr/>
          </p:nvGrpSpPr>
          <p:grpSpPr>
            <a:xfrm>
              <a:off x="1170000" y="5568840"/>
              <a:ext cx="1887480" cy="216000"/>
              <a:chOff x="1170000" y="5568840"/>
              <a:chExt cx="1887480" cy="216000"/>
            </a:xfrm>
          </p:grpSpPr>
          <p:sp>
            <p:nvSpPr>
              <p:cNvPr id="885" name="Line 44"/>
              <p:cNvSpPr/>
              <p:nvPr/>
            </p:nvSpPr>
            <p:spPr>
              <a:xfrm>
                <a:off x="1170000" y="5783400"/>
                <a:ext cx="1887480" cy="14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886" name="Rectangle 45"/>
              <p:cNvSpPr/>
              <p:nvPr/>
            </p:nvSpPr>
            <p:spPr>
              <a:xfrm>
                <a:off x="1349280" y="5568840"/>
                <a:ext cx="149436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pickUpTicket()</a:t>
                </a:r>
                <a:endParaRPr b="1" lang="en-US" sz="1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  <p:grpSp>
          <p:nvGrpSpPr>
            <p:cNvPr id="887" name="Group 61"/>
            <p:cNvGrpSpPr/>
            <p:nvPr/>
          </p:nvGrpSpPr>
          <p:grpSpPr>
            <a:xfrm>
              <a:off x="1185840" y="3429000"/>
              <a:ext cx="1851120" cy="213480"/>
              <a:chOff x="1185840" y="3429000"/>
              <a:chExt cx="1851120" cy="213480"/>
            </a:xfrm>
          </p:grpSpPr>
          <p:sp>
            <p:nvSpPr>
              <p:cNvPr id="888" name="Line 47"/>
              <p:cNvSpPr/>
              <p:nvPr/>
            </p:nvSpPr>
            <p:spPr>
              <a:xfrm>
                <a:off x="1185840" y="3610080"/>
                <a:ext cx="1851120" cy="14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889" name="Rectangle 48"/>
              <p:cNvSpPr/>
              <p:nvPr/>
            </p:nvSpPr>
            <p:spPr>
              <a:xfrm>
                <a:off x="1349280" y="3429000"/>
                <a:ext cx="138744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insertCoins()</a:t>
                </a:r>
                <a:endParaRPr b="1" lang="en-US" sz="1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90" name="Group 72"/>
          <p:cNvGrpSpPr/>
          <p:nvPr/>
        </p:nvGrpSpPr>
        <p:grpSpPr>
          <a:xfrm>
            <a:off x="2359080" y="1706400"/>
            <a:ext cx="1604880" cy="4821480"/>
            <a:chOff x="2359080" y="1706400"/>
            <a:chExt cx="1604880" cy="4821480"/>
          </a:xfrm>
        </p:grpSpPr>
        <p:sp>
          <p:nvSpPr>
            <p:cNvPr id="891" name="Rectangle 9"/>
            <p:cNvSpPr/>
            <p:nvPr/>
          </p:nvSpPr>
          <p:spPr>
            <a:xfrm>
              <a:off x="2576520" y="1833480"/>
              <a:ext cx="13874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TicketMachine</a:t>
              </a:r>
              <a:endParaRPr b="1" lang="en-US" sz="1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892" name="Rectangle 8"/>
            <p:cNvSpPr/>
            <p:nvPr/>
          </p:nvSpPr>
          <p:spPr>
            <a:xfrm>
              <a:off x="2359080" y="1706400"/>
              <a:ext cx="1604880" cy="392400"/>
            </a:xfrm>
            <a:prstGeom prst="rect">
              <a:avLst/>
            </a:pr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893" name="Line 55"/>
            <p:cNvSpPr/>
            <p:nvPr/>
          </p:nvSpPr>
          <p:spPr>
            <a:xfrm>
              <a:off x="3162240" y="2095560"/>
              <a:ext cx="0" cy="44323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894" name="Group 71"/>
          <p:cNvGrpSpPr/>
          <p:nvPr/>
        </p:nvGrpSpPr>
        <p:grpSpPr>
          <a:xfrm>
            <a:off x="581040" y="1143000"/>
            <a:ext cx="960840" cy="5268960"/>
            <a:chOff x="581040" y="1143000"/>
            <a:chExt cx="960840" cy="5268960"/>
          </a:xfrm>
        </p:grpSpPr>
        <p:sp>
          <p:nvSpPr>
            <p:cNvPr id="895" name="Rectangle 6"/>
            <p:cNvSpPr/>
            <p:nvPr/>
          </p:nvSpPr>
          <p:spPr>
            <a:xfrm>
              <a:off x="981000" y="2355840"/>
              <a:ext cx="189000" cy="2544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896" name="Freeform 49"/>
            <p:cNvSpPr/>
            <p:nvPr/>
          </p:nvSpPr>
          <p:spPr>
            <a:xfrm>
              <a:off x="879480" y="1297080"/>
              <a:ext cx="204840" cy="596880"/>
            </a:xfrm>
            <a:prstGeom prst="pie">
              <a:avLst/>
            </a:pr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897" name="Line 50"/>
            <p:cNvSpPr/>
            <p:nvPr/>
          </p:nvSpPr>
          <p:spPr>
            <a:xfrm>
              <a:off x="1084320" y="1673280"/>
              <a:ext cx="222120" cy="2206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898" name="Line 51"/>
            <p:cNvSpPr/>
            <p:nvPr/>
          </p:nvSpPr>
          <p:spPr>
            <a:xfrm>
              <a:off x="879480" y="1467000"/>
              <a:ext cx="4269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899" name="Oval 52"/>
            <p:cNvSpPr/>
            <p:nvPr/>
          </p:nvSpPr>
          <p:spPr>
            <a:xfrm>
              <a:off x="981000" y="1143000"/>
              <a:ext cx="222480" cy="22212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900" name="Rectangle 53"/>
            <p:cNvSpPr/>
            <p:nvPr/>
          </p:nvSpPr>
          <p:spPr>
            <a:xfrm>
              <a:off x="581040" y="1936800"/>
              <a:ext cx="9608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Passenger</a:t>
              </a:r>
              <a:endParaRPr b="1" lang="en-US" sz="1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901" name="Line 70"/>
            <p:cNvSpPr/>
            <p:nvPr/>
          </p:nvSpPr>
          <p:spPr>
            <a:xfrm>
              <a:off x="1085760" y="2208240"/>
              <a:ext cx="0" cy="42037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902" name="Group 75"/>
          <p:cNvGrpSpPr/>
          <p:nvPr/>
        </p:nvGrpSpPr>
        <p:grpSpPr>
          <a:xfrm>
            <a:off x="960480" y="2335320"/>
            <a:ext cx="2316240" cy="4010040"/>
            <a:chOff x="960480" y="2335320"/>
            <a:chExt cx="2316240" cy="4010040"/>
          </a:xfrm>
        </p:grpSpPr>
        <p:sp>
          <p:nvSpPr>
            <p:cNvPr id="903" name="Rectangle 56"/>
            <p:cNvSpPr/>
            <p:nvPr/>
          </p:nvSpPr>
          <p:spPr>
            <a:xfrm>
              <a:off x="3071880" y="2513160"/>
              <a:ext cx="204840" cy="51732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904" name="Rectangle 57"/>
            <p:cNvSpPr/>
            <p:nvPr/>
          </p:nvSpPr>
          <p:spPr>
            <a:xfrm>
              <a:off x="3071880" y="3592440"/>
              <a:ext cx="204840" cy="51768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905" name="Rectangle 58"/>
            <p:cNvSpPr/>
            <p:nvPr/>
          </p:nvSpPr>
          <p:spPr>
            <a:xfrm>
              <a:off x="3071880" y="4672080"/>
              <a:ext cx="204840" cy="51732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906" name="Rectangle 59"/>
            <p:cNvSpPr/>
            <p:nvPr/>
          </p:nvSpPr>
          <p:spPr>
            <a:xfrm>
              <a:off x="3071880" y="5751360"/>
              <a:ext cx="204840" cy="51768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907" name="Rectangle 7"/>
            <p:cNvSpPr/>
            <p:nvPr/>
          </p:nvSpPr>
          <p:spPr>
            <a:xfrm>
              <a:off x="960480" y="2335320"/>
              <a:ext cx="204840" cy="40100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sp>
        <p:nvSpPr>
          <p:cNvPr id="908" name="AutoShape 76"/>
          <p:cNvSpPr/>
          <p:nvPr/>
        </p:nvSpPr>
        <p:spPr>
          <a:xfrm>
            <a:off x="4524480" y="192240"/>
            <a:ext cx="3181320" cy="1149120"/>
          </a:xfrm>
          <a:prstGeom prst="wedgeRoundRectCallout">
            <a:avLst>
              <a:gd name="adj1" fmla="val -109930"/>
              <a:gd name="adj2" fmla="val 139916"/>
              <a:gd name="adj3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ocus on 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ontrolflow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09" name="AutoShape 87"/>
          <p:cNvSpPr/>
          <p:nvPr/>
        </p:nvSpPr>
        <p:spPr>
          <a:xfrm>
            <a:off x="6864480" y="3306600"/>
            <a:ext cx="2279520" cy="1154160"/>
          </a:xfrm>
          <a:prstGeom prst="wedgeRoundRectCallout">
            <a:avLst>
              <a:gd name="adj1" fmla="val -98189"/>
              <a:gd name="adj2" fmla="val -94564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Messages -&gt;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Operations on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participating Object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grpSp>
        <p:nvGrpSpPr>
          <p:cNvPr id="910" name="Group 88"/>
          <p:cNvGrpSpPr/>
          <p:nvPr/>
        </p:nvGrpSpPr>
        <p:grpSpPr>
          <a:xfrm>
            <a:off x="3570120" y="3006720"/>
            <a:ext cx="2221200" cy="1960560"/>
            <a:chOff x="3570120" y="3006720"/>
            <a:chExt cx="2221200" cy="1960560"/>
          </a:xfrm>
        </p:grpSpPr>
        <p:sp>
          <p:nvSpPr>
            <p:cNvPr id="911" name="Rectangle 84"/>
            <p:cNvSpPr/>
            <p:nvPr/>
          </p:nvSpPr>
          <p:spPr>
            <a:xfrm>
              <a:off x="3570120" y="3726000"/>
              <a:ext cx="2211480" cy="12412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912" name="Text Box 79"/>
            <p:cNvSpPr/>
            <p:nvPr/>
          </p:nvSpPr>
          <p:spPr>
            <a:xfrm>
              <a:off x="3619440" y="3403440"/>
              <a:ext cx="2109960" cy="146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zone2price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selectZone()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insertCoins()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pickupChange()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pickUpTicket()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913" name="Rectangle 81"/>
            <p:cNvSpPr/>
            <p:nvPr/>
          </p:nvSpPr>
          <p:spPr>
            <a:xfrm>
              <a:off x="3571920" y="3006720"/>
              <a:ext cx="2206440" cy="44784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914" name="Rectangle 82"/>
            <p:cNvSpPr/>
            <p:nvPr/>
          </p:nvSpPr>
          <p:spPr>
            <a:xfrm>
              <a:off x="3785760" y="3156120"/>
              <a:ext cx="1783800" cy="274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TicketMachine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915" name="Rectangle 83"/>
            <p:cNvSpPr/>
            <p:nvPr/>
          </p:nvSpPr>
          <p:spPr>
            <a:xfrm>
              <a:off x="3578400" y="3459240"/>
              <a:ext cx="2212920" cy="25704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sp>
        <p:nvSpPr>
          <p:cNvPr id="916" name="AutoShape 90"/>
          <p:cNvSpPr/>
          <p:nvPr/>
        </p:nvSpPr>
        <p:spPr>
          <a:xfrm>
            <a:off x="2806560" y="4016520"/>
            <a:ext cx="722520" cy="330120"/>
          </a:xfrm>
          <a:prstGeom prst="rightArrow">
            <a:avLst>
              <a:gd name="adj1" fmla="val 50000"/>
              <a:gd name="adj2" fmla="val 5471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9" dur="indefinite" restart="never" nodeType="tmRoot">
          <p:childTnLst>
            <p:seq>
              <p:cTn id="880" dur="indefinite" nodeType="mainSeq">
                <p:childTnLst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Line 72"/>
          <p:cNvSpPr/>
          <p:nvPr/>
        </p:nvSpPr>
        <p:spPr>
          <a:xfrm>
            <a:off x="1463760" y="2158920"/>
            <a:ext cx="0" cy="19940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Sequence Diagrams can also model the Flow of Data 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533160" y="4409640"/>
            <a:ext cx="8001000" cy="1685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source of an arrow indicates the activation which sent the messag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Verdana"/>
              </a:rPr>
              <a:t>Horizontal dashed arrows indicate data flow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for example return results from a messag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20" name="Group 35"/>
          <p:cNvGrpSpPr/>
          <p:nvPr/>
        </p:nvGrpSpPr>
        <p:grpSpPr>
          <a:xfrm>
            <a:off x="952560" y="1143000"/>
            <a:ext cx="960840" cy="1007280"/>
            <a:chOff x="952560" y="1143000"/>
            <a:chExt cx="960840" cy="1007280"/>
          </a:xfrm>
        </p:grpSpPr>
        <p:grpSp>
          <p:nvGrpSpPr>
            <p:cNvPr id="921" name="Group 34"/>
            <p:cNvGrpSpPr/>
            <p:nvPr/>
          </p:nvGrpSpPr>
          <p:grpSpPr>
            <a:xfrm>
              <a:off x="1251000" y="1143000"/>
              <a:ext cx="426960" cy="750960"/>
              <a:chOff x="1251000" y="1143000"/>
              <a:chExt cx="426960" cy="750960"/>
            </a:xfrm>
          </p:grpSpPr>
          <p:sp>
            <p:nvSpPr>
              <p:cNvPr id="922" name="Freeform 20"/>
              <p:cNvSpPr/>
              <p:nvPr/>
            </p:nvSpPr>
            <p:spPr>
              <a:xfrm>
                <a:off x="1251000" y="1297080"/>
                <a:ext cx="204840" cy="596880"/>
              </a:xfrm>
              <a:prstGeom prst="pie">
                <a:avLst/>
              </a:pr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923" name="Line 21"/>
              <p:cNvSpPr/>
              <p:nvPr/>
            </p:nvSpPr>
            <p:spPr>
              <a:xfrm>
                <a:off x="1455840" y="1673280"/>
                <a:ext cx="222120" cy="22068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924" name="Line 22"/>
              <p:cNvSpPr/>
              <p:nvPr/>
            </p:nvSpPr>
            <p:spPr>
              <a:xfrm>
                <a:off x="1251000" y="1467000"/>
                <a:ext cx="426960" cy="14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925" name="Oval 23"/>
              <p:cNvSpPr/>
              <p:nvPr/>
            </p:nvSpPr>
            <p:spPr>
              <a:xfrm>
                <a:off x="1352520" y="1143000"/>
                <a:ext cx="222120" cy="222120"/>
              </a:xfrm>
              <a:prstGeom prst="ellipse">
                <a:avLst/>
              </a:prstGeom>
              <a:solidFill>
                <a:srgbClr val="ffffff"/>
              </a:solidFill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  <p:sp>
          <p:nvSpPr>
            <p:cNvPr id="926" name="Rectangle 24"/>
            <p:cNvSpPr/>
            <p:nvPr/>
          </p:nvSpPr>
          <p:spPr>
            <a:xfrm>
              <a:off x="952560" y="1936800"/>
              <a:ext cx="9608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Passenger</a:t>
              </a:r>
              <a:endParaRPr b="1" lang="en-US" sz="14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sp>
        <p:nvSpPr>
          <p:cNvPr id="927" name="Rectangle 25"/>
          <p:cNvSpPr/>
          <p:nvPr/>
        </p:nvSpPr>
        <p:spPr>
          <a:xfrm>
            <a:off x="1352520" y="2355840"/>
            <a:ext cx="204840" cy="1571760"/>
          </a:xfrm>
          <a:prstGeom prst="rect">
            <a:avLst/>
          </a:prstGeom>
          <a:solidFill>
            <a:srgbClr val="ffffff"/>
          </a:solidFill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grpSp>
        <p:nvGrpSpPr>
          <p:cNvPr id="928" name="Group 87"/>
          <p:cNvGrpSpPr/>
          <p:nvPr/>
        </p:nvGrpSpPr>
        <p:grpSpPr>
          <a:xfrm>
            <a:off x="1541520" y="1706400"/>
            <a:ext cx="7022880" cy="2040120"/>
            <a:chOff x="1541520" y="1706400"/>
            <a:chExt cx="7022880" cy="2040120"/>
          </a:xfrm>
        </p:grpSpPr>
        <p:sp>
          <p:nvSpPr>
            <p:cNvPr id="929" name="Line 9"/>
            <p:cNvSpPr/>
            <p:nvPr/>
          </p:nvSpPr>
          <p:spPr>
            <a:xfrm>
              <a:off x="1541520" y="2543040"/>
              <a:ext cx="1861920" cy="1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930" name="Rectangle 10"/>
            <p:cNvSpPr/>
            <p:nvPr/>
          </p:nvSpPr>
          <p:spPr>
            <a:xfrm>
              <a:off x="1720800" y="2319480"/>
              <a:ext cx="1280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electZone()</a:t>
              </a:r>
              <a:endParaRPr b="1" lang="en-US" sz="1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931" name="Rectangle 27"/>
            <p:cNvSpPr/>
            <p:nvPr/>
          </p:nvSpPr>
          <p:spPr>
            <a:xfrm>
              <a:off x="2730600" y="1706400"/>
              <a:ext cx="1604880" cy="392400"/>
            </a:xfrm>
            <a:prstGeom prst="rect">
              <a:avLst/>
            </a:pr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932" name="Rectangle 28"/>
            <p:cNvSpPr/>
            <p:nvPr/>
          </p:nvSpPr>
          <p:spPr>
            <a:xfrm>
              <a:off x="3000240" y="1833480"/>
              <a:ext cx="10674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ZoneButton</a:t>
              </a:r>
              <a:endParaRPr b="1" lang="en-US" sz="1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933" name="Line 29"/>
            <p:cNvSpPr/>
            <p:nvPr/>
          </p:nvSpPr>
          <p:spPr>
            <a:xfrm>
              <a:off x="3533760" y="2095560"/>
              <a:ext cx="0" cy="16002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934" name="Rectangle 30"/>
            <p:cNvSpPr/>
            <p:nvPr/>
          </p:nvSpPr>
          <p:spPr>
            <a:xfrm>
              <a:off x="3430440" y="2533680"/>
              <a:ext cx="204840" cy="116532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935" name="Rectangle 38"/>
            <p:cNvSpPr/>
            <p:nvPr/>
          </p:nvSpPr>
          <p:spPr>
            <a:xfrm>
              <a:off x="4898880" y="1833480"/>
              <a:ext cx="13874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TarifSchedule</a:t>
              </a:r>
              <a:endParaRPr b="1" lang="en-US" sz="1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grpSp>
          <p:nvGrpSpPr>
            <p:cNvPr id="936" name="Group 81"/>
            <p:cNvGrpSpPr/>
            <p:nvPr/>
          </p:nvGrpSpPr>
          <p:grpSpPr>
            <a:xfrm>
              <a:off x="4788000" y="1706400"/>
              <a:ext cx="1604880" cy="2040120"/>
              <a:chOff x="4788000" y="1706400"/>
              <a:chExt cx="1604880" cy="2040120"/>
            </a:xfrm>
          </p:grpSpPr>
          <p:sp>
            <p:nvSpPr>
              <p:cNvPr id="937" name="Rectangle 37"/>
              <p:cNvSpPr/>
              <p:nvPr/>
            </p:nvSpPr>
            <p:spPr>
              <a:xfrm>
                <a:off x="4788000" y="1706400"/>
                <a:ext cx="1604880" cy="392400"/>
              </a:xfrm>
              <a:prstGeom prst="rect">
                <a:avLst/>
              </a:prstGeom>
              <a:noFill/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938" name="Line 39"/>
              <p:cNvSpPr/>
              <p:nvPr/>
            </p:nvSpPr>
            <p:spPr>
              <a:xfrm>
                <a:off x="5591160" y="2095560"/>
                <a:ext cx="0" cy="16509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  <p:sp>
          <p:nvSpPr>
            <p:cNvPr id="939" name="Rectangle 40"/>
            <p:cNvSpPr/>
            <p:nvPr/>
          </p:nvSpPr>
          <p:spPr>
            <a:xfrm>
              <a:off x="5487840" y="2685960"/>
              <a:ext cx="204840" cy="51768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940" name="Rectangle 45"/>
            <p:cNvSpPr/>
            <p:nvPr/>
          </p:nvSpPr>
          <p:spPr>
            <a:xfrm>
              <a:off x="6959520" y="1706400"/>
              <a:ext cx="1604880" cy="392400"/>
            </a:xfrm>
            <a:prstGeom prst="rect">
              <a:avLst/>
            </a:pr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941" name="Rectangle 46"/>
            <p:cNvSpPr/>
            <p:nvPr/>
          </p:nvSpPr>
          <p:spPr>
            <a:xfrm>
              <a:off x="7389360" y="1833480"/>
              <a:ext cx="747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Display</a:t>
              </a:r>
              <a:endParaRPr b="1" lang="en-US" sz="1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942" name="Line 47"/>
            <p:cNvSpPr/>
            <p:nvPr/>
          </p:nvSpPr>
          <p:spPr>
            <a:xfrm>
              <a:off x="7763040" y="2095560"/>
              <a:ext cx="0" cy="15746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943" name="Rectangle 48"/>
            <p:cNvSpPr/>
            <p:nvPr/>
          </p:nvSpPr>
          <p:spPr>
            <a:xfrm>
              <a:off x="7659720" y="3511440"/>
              <a:ext cx="191880" cy="2318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944" name="Line 56"/>
            <p:cNvSpPr/>
            <p:nvPr/>
          </p:nvSpPr>
          <p:spPr>
            <a:xfrm>
              <a:off x="3649680" y="2682720"/>
              <a:ext cx="1862280" cy="1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945" name="Rectangle 57"/>
            <p:cNvSpPr/>
            <p:nvPr/>
          </p:nvSpPr>
          <p:spPr>
            <a:xfrm>
              <a:off x="3693960" y="2470320"/>
              <a:ext cx="23475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lookupPrice(selection)</a:t>
              </a:r>
              <a:endParaRPr b="1" lang="en-US" sz="1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946" name="Line 59"/>
            <p:cNvSpPr/>
            <p:nvPr/>
          </p:nvSpPr>
          <p:spPr>
            <a:xfrm>
              <a:off x="3675240" y="3519360"/>
              <a:ext cx="3970080" cy="1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947" name="Rectangle 60"/>
            <p:cNvSpPr/>
            <p:nvPr/>
          </p:nvSpPr>
          <p:spPr>
            <a:xfrm>
              <a:off x="4057560" y="3295800"/>
              <a:ext cx="2027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displayPrice(price)</a:t>
              </a:r>
              <a:endParaRPr b="1" lang="en-US" sz="14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948" name="Group 79"/>
          <p:cNvGrpSpPr/>
          <p:nvPr/>
        </p:nvGrpSpPr>
        <p:grpSpPr>
          <a:xfrm>
            <a:off x="3637080" y="2967120"/>
            <a:ext cx="1861920" cy="225360"/>
            <a:chOff x="3637080" y="2967120"/>
            <a:chExt cx="1861920" cy="225360"/>
          </a:xfrm>
        </p:grpSpPr>
        <p:sp>
          <p:nvSpPr>
            <p:cNvPr id="949" name="Line 77"/>
            <p:cNvSpPr/>
            <p:nvPr/>
          </p:nvSpPr>
          <p:spPr>
            <a:xfrm>
              <a:off x="3637080" y="3191040"/>
              <a:ext cx="1861920" cy="1440"/>
            </a:xfrm>
            <a:prstGeom prst="line">
              <a:avLst/>
            </a:prstGeom>
            <a:ln w="1764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950" name="Rectangle 78"/>
            <p:cNvSpPr/>
            <p:nvPr/>
          </p:nvSpPr>
          <p:spPr>
            <a:xfrm>
              <a:off x="3904920" y="2967120"/>
              <a:ext cx="5342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3300"/>
                  </a:solidFill>
                  <a:latin typeface="Courier New"/>
                </a:rPr>
                <a:t>price</a:t>
              </a:r>
              <a:endParaRPr b="1" lang="en-US" sz="14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sp>
        <p:nvSpPr>
          <p:cNvPr id="951" name="AutoShape 80"/>
          <p:cNvSpPr/>
          <p:nvPr/>
        </p:nvSpPr>
        <p:spPr>
          <a:xfrm>
            <a:off x="1814400" y="3301920"/>
            <a:ext cx="1359000" cy="546120"/>
          </a:xfrm>
          <a:prstGeom prst="wedgeRoundRectCallout">
            <a:avLst>
              <a:gd name="adj1" fmla="val 100935"/>
              <a:gd name="adj2" fmla="val -55523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Dataflow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52" name="Text Box 84"/>
          <p:cNvSpPr/>
          <p:nvPr/>
        </p:nvSpPr>
        <p:spPr>
          <a:xfrm>
            <a:off x="2643120" y="3929760"/>
            <a:ext cx="56833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…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inued on next slide...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timing>
    <p:tnLst>
      <p:par>
        <p:cTn id="943" dur="indefinite" restart="never" nodeType="tmRoot">
          <p:childTnLst>
            <p:seq>
              <p:cTn id="944" dur="indefinite" nodeType="mainSeq">
                <p:childTnLst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fill="hold">
                      <p:stCondLst>
                        <p:cond delay="indefinite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fill="hold">
                      <p:stCondLst>
                        <p:cond delay="indefinite"/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Sequence Diagrams: Iteration &amp; Condition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698400" y="507996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teration is denoted by a * preceding the message n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dition is denoted by boolean expression in [ ] before the message n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5" name="Line 6"/>
          <p:cNvSpPr/>
          <p:nvPr/>
        </p:nvSpPr>
        <p:spPr>
          <a:xfrm>
            <a:off x="727200" y="2158920"/>
            <a:ext cx="0" cy="19940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grpSp>
        <p:nvGrpSpPr>
          <p:cNvPr id="956" name="Group 10"/>
          <p:cNvGrpSpPr/>
          <p:nvPr/>
        </p:nvGrpSpPr>
        <p:grpSpPr>
          <a:xfrm>
            <a:off x="216000" y="1143000"/>
            <a:ext cx="960840" cy="1007280"/>
            <a:chOff x="216000" y="1143000"/>
            <a:chExt cx="960840" cy="1007280"/>
          </a:xfrm>
        </p:grpSpPr>
        <p:grpSp>
          <p:nvGrpSpPr>
            <p:cNvPr id="957" name="Group 11"/>
            <p:cNvGrpSpPr/>
            <p:nvPr/>
          </p:nvGrpSpPr>
          <p:grpSpPr>
            <a:xfrm>
              <a:off x="514440" y="1143000"/>
              <a:ext cx="426960" cy="750960"/>
              <a:chOff x="514440" y="1143000"/>
              <a:chExt cx="426960" cy="750960"/>
            </a:xfrm>
          </p:grpSpPr>
          <p:sp>
            <p:nvSpPr>
              <p:cNvPr id="958" name="Freeform 12"/>
              <p:cNvSpPr/>
              <p:nvPr/>
            </p:nvSpPr>
            <p:spPr>
              <a:xfrm>
                <a:off x="514440" y="1297080"/>
                <a:ext cx="204840" cy="596880"/>
              </a:xfrm>
              <a:prstGeom prst="pie">
                <a:avLst/>
              </a:pr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959" name="Line 13"/>
              <p:cNvSpPr/>
              <p:nvPr/>
            </p:nvSpPr>
            <p:spPr>
              <a:xfrm>
                <a:off x="719280" y="1673280"/>
                <a:ext cx="222120" cy="22068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960" name="Line 14"/>
              <p:cNvSpPr/>
              <p:nvPr/>
            </p:nvSpPr>
            <p:spPr>
              <a:xfrm>
                <a:off x="514440" y="1467000"/>
                <a:ext cx="426960" cy="14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961" name="Oval 15"/>
              <p:cNvSpPr/>
              <p:nvPr/>
            </p:nvSpPr>
            <p:spPr>
              <a:xfrm>
                <a:off x="615960" y="1143000"/>
                <a:ext cx="222120" cy="222120"/>
              </a:xfrm>
              <a:prstGeom prst="ellipse">
                <a:avLst/>
              </a:prstGeom>
              <a:solidFill>
                <a:srgbClr val="ffffff"/>
              </a:solidFill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  <p:sp>
          <p:nvSpPr>
            <p:cNvPr id="962" name="Rectangle 16"/>
            <p:cNvSpPr/>
            <p:nvPr/>
          </p:nvSpPr>
          <p:spPr>
            <a:xfrm>
              <a:off x="216000" y="1936800"/>
              <a:ext cx="9608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Passenger</a:t>
              </a:r>
              <a:endParaRPr b="1" lang="en-US" sz="14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sp>
        <p:nvSpPr>
          <p:cNvPr id="963" name="Rectangle 17"/>
          <p:cNvSpPr/>
          <p:nvPr/>
        </p:nvSpPr>
        <p:spPr>
          <a:xfrm>
            <a:off x="615960" y="2355840"/>
            <a:ext cx="204840" cy="1571760"/>
          </a:xfrm>
          <a:prstGeom prst="rect">
            <a:avLst/>
          </a:prstGeom>
          <a:solidFill>
            <a:srgbClr val="ffffff"/>
          </a:solidFill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64" name="Rectangle 18"/>
          <p:cNvSpPr/>
          <p:nvPr/>
        </p:nvSpPr>
        <p:spPr>
          <a:xfrm>
            <a:off x="1930320" y="1706400"/>
            <a:ext cx="1706760" cy="392400"/>
          </a:xfrm>
          <a:prstGeom prst="rect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65" name="Rectangle 19"/>
          <p:cNvSpPr/>
          <p:nvPr/>
        </p:nvSpPr>
        <p:spPr>
          <a:xfrm>
            <a:off x="2009520" y="1833480"/>
            <a:ext cx="160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hangeProcessor</a:t>
            </a:r>
            <a:endParaRPr b="1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66" name="Line 20"/>
          <p:cNvSpPr/>
          <p:nvPr/>
        </p:nvSpPr>
        <p:spPr>
          <a:xfrm>
            <a:off x="2797200" y="2095560"/>
            <a:ext cx="0" cy="24890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grpSp>
        <p:nvGrpSpPr>
          <p:cNvPr id="967" name="Group 63"/>
          <p:cNvGrpSpPr/>
          <p:nvPr/>
        </p:nvGrpSpPr>
        <p:grpSpPr>
          <a:xfrm>
            <a:off x="804960" y="2262240"/>
            <a:ext cx="2100240" cy="2185920"/>
            <a:chOff x="804960" y="2262240"/>
            <a:chExt cx="2100240" cy="2185920"/>
          </a:xfrm>
        </p:grpSpPr>
        <p:sp>
          <p:nvSpPr>
            <p:cNvPr id="968" name="Line 8"/>
            <p:cNvSpPr/>
            <p:nvPr/>
          </p:nvSpPr>
          <p:spPr>
            <a:xfrm>
              <a:off x="804960" y="2543040"/>
              <a:ext cx="1861920" cy="1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969" name="Rectangle 9"/>
            <p:cNvSpPr/>
            <p:nvPr/>
          </p:nvSpPr>
          <p:spPr>
            <a:xfrm>
              <a:off x="984240" y="2262240"/>
              <a:ext cx="19209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insertChange(coin)</a:t>
              </a:r>
              <a:endParaRPr b="1" lang="en-US" sz="1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970" name="Rectangle 21"/>
            <p:cNvSpPr/>
            <p:nvPr/>
          </p:nvSpPr>
          <p:spPr>
            <a:xfrm>
              <a:off x="2693880" y="2533680"/>
              <a:ext cx="204840" cy="191448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971" name="Group 59"/>
          <p:cNvGrpSpPr/>
          <p:nvPr/>
        </p:nvGrpSpPr>
        <p:grpSpPr>
          <a:xfrm>
            <a:off x="3746520" y="1706400"/>
            <a:ext cx="1604880" cy="2891160"/>
            <a:chOff x="3746520" y="1706400"/>
            <a:chExt cx="1604880" cy="2891160"/>
          </a:xfrm>
        </p:grpSpPr>
        <p:sp>
          <p:nvSpPr>
            <p:cNvPr id="972" name="Rectangle 23"/>
            <p:cNvSpPr/>
            <p:nvPr/>
          </p:nvSpPr>
          <p:spPr>
            <a:xfrm>
              <a:off x="3855960" y="1833480"/>
              <a:ext cx="1494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CoinIdentifier</a:t>
              </a:r>
              <a:endParaRPr b="1" lang="en-US" sz="1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973" name="Rectangle 25"/>
            <p:cNvSpPr/>
            <p:nvPr/>
          </p:nvSpPr>
          <p:spPr>
            <a:xfrm>
              <a:off x="3746520" y="1706400"/>
              <a:ext cx="1604880" cy="392400"/>
            </a:xfrm>
            <a:prstGeom prst="rect">
              <a:avLst/>
            </a:pr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974" name="Line 26"/>
            <p:cNvSpPr/>
            <p:nvPr/>
          </p:nvSpPr>
          <p:spPr>
            <a:xfrm>
              <a:off x="4549680" y="2095560"/>
              <a:ext cx="0" cy="25020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975" name="Group 57"/>
          <p:cNvGrpSpPr/>
          <p:nvPr/>
        </p:nvGrpSpPr>
        <p:grpSpPr>
          <a:xfrm>
            <a:off x="5511960" y="1706400"/>
            <a:ext cx="1604880" cy="2891160"/>
            <a:chOff x="5511960" y="1706400"/>
            <a:chExt cx="1604880" cy="2891160"/>
          </a:xfrm>
        </p:grpSpPr>
        <p:sp>
          <p:nvSpPr>
            <p:cNvPr id="976" name="Rectangle 29"/>
            <p:cNvSpPr/>
            <p:nvPr/>
          </p:nvSpPr>
          <p:spPr>
            <a:xfrm>
              <a:off x="5511960" y="1706400"/>
              <a:ext cx="1604880" cy="392400"/>
            </a:xfrm>
            <a:prstGeom prst="rect">
              <a:avLst/>
            </a:pr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977" name="Rectangle 30"/>
            <p:cNvSpPr/>
            <p:nvPr/>
          </p:nvSpPr>
          <p:spPr>
            <a:xfrm>
              <a:off x="5941440" y="1833480"/>
              <a:ext cx="747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Display</a:t>
              </a:r>
              <a:endParaRPr b="1" lang="en-US" sz="1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978" name="Line 31"/>
            <p:cNvSpPr/>
            <p:nvPr/>
          </p:nvSpPr>
          <p:spPr>
            <a:xfrm>
              <a:off x="6315120" y="2095560"/>
              <a:ext cx="0" cy="25020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979" name="Group 58"/>
          <p:cNvGrpSpPr/>
          <p:nvPr/>
        </p:nvGrpSpPr>
        <p:grpSpPr>
          <a:xfrm>
            <a:off x="7226280" y="1706400"/>
            <a:ext cx="1604880" cy="2903760"/>
            <a:chOff x="7226280" y="1706400"/>
            <a:chExt cx="1604880" cy="2903760"/>
          </a:xfrm>
        </p:grpSpPr>
        <p:sp>
          <p:nvSpPr>
            <p:cNvPr id="980" name="Rectangle 47"/>
            <p:cNvSpPr/>
            <p:nvPr/>
          </p:nvSpPr>
          <p:spPr>
            <a:xfrm>
              <a:off x="7226280" y="1706400"/>
              <a:ext cx="1604880" cy="392400"/>
            </a:xfrm>
            <a:prstGeom prst="rect">
              <a:avLst/>
            </a:pr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981" name="Rectangle 48"/>
            <p:cNvSpPr/>
            <p:nvPr/>
          </p:nvSpPr>
          <p:spPr>
            <a:xfrm>
              <a:off x="7655040" y="1833480"/>
              <a:ext cx="854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CoinDrop</a:t>
              </a:r>
              <a:endParaRPr b="1" lang="en-US" sz="1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982" name="Line 49"/>
            <p:cNvSpPr/>
            <p:nvPr/>
          </p:nvSpPr>
          <p:spPr>
            <a:xfrm>
              <a:off x="8029440" y="2095560"/>
              <a:ext cx="0" cy="25146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983" name="Group 64"/>
          <p:cNvGrpSpPr/>
          <p:nvPr/>
        </p:nvGrpSpPr>
        <p:grpSpPr>
          <a:xfrm>
            <a:off x="2938320" y="3100320"/>
            <a:ext cx="3465720" cy="465120"/>
            <a:chOff x="2938320" y="3100320"/>
            <a:chExt cx="3465720" cy="465120"/>
          </a:xfrm>
        </p:grpSpPr>
        <p:sp>
          <p:nvSpPr>
            <p:cNvPr id="984" name="Rectangle 32"/>
            <p:cNvSpPr/>
            <p:nvPr/>
          </p:nvSpPr>
          <p:spPr>
            <a:xfrm>
              <a:off x="6211800" y="3333600"/>
              <a:ext cx="192240" cy="2318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grpSp>
          <p:nvGrpSpPr>
            <p:cNvPr id="985" name="Group 51"/>
            <p:cNvGrpSpPr/>
            <p:nvPr/>
          </p:nvGrpSpPr>
          <p:grpSpPr>
            <a:xfrm>
              <a:off x="2938320" y="3100320"/>
              <a:ext cx="3284640" cy="230400"/>
              <a:chOff x="2938320" y="3100320"/>
              <a:chExt cx="3284640" cy="230400"/>
            </a:xfrm>
          </p:grpSpPr>
          <p:sp>
            <p:nvSpPr>
              <p:cNvPr id="986" name="Line 37"/>
              <p:cNvSpPr/>
              <p:nvPr/>
            </p:nvSpPr>
            <p:spPr>
              <a:xfrm>
                <a:off x="2938320" y="3328920"/>
                <a:ext cx="3284640" cy="180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987" name="Rectangle 38"/>
              <p:cNvSpPr/>
              <p:nvPr/>
            </p:nvSpPr>
            <p:spPr>
              <a:xfrm>
                <a:off x="3092400" y="3100320"/>
                <a:ext cx="256104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displayPrice(owedAmount)</a:t>
                </a:r>
                <a:endParaRPr b="1" lang="en-US" sz="1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88" name="Group 60"/>
          <p:cNvGrpSpPr/>
          <p:nvPr/>
        </p:nvGrpSpPr>
        <p:grpSpPr>
          <a:xfrm>
            <a:off x="2900520" y="2401920"/>
            <a:ext cx="1911600" cy="662040"/>
            <a:chOff x="2900520" y="2401920"/>
            <a:chExt cx="1911600" cy="662040"/>
          </a:xfrm>
        </p:grpSpPr>
        <p:sp>
          <p:nvSpPr>
            <p:cNvPr id="989" name="Rectangle 27"/>
            <p:cNvSpPr/>
            <p:nvPr/>
          </p:nvSpPr>
          <p:spPr>
            <a:xfrm>
              <a:off x="4446720" y="2685960"/>
              <a:ext cx="204480" cy="37800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990" name="Line 34"/>
            <p:cNvSpPr/>
            <p:nvPr/>
          </p:nvSpPr>
          <p:spPr>
            <a:xfrm>
              <a:off x="2913120" y="2682720"/>
              <a:ext cx="1506600" cy="1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991" name="Rectangle 35"/>
            <p:cNvSpPr/>
            <p:nvPr/>
          </p:nvSpPr>
          <p:spPr>
            <a:xfrm>
              <a:off x="3104640" y="2401920"/>
              <a:ext cx="1707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lookupCoin(coin)</a:t>
              </a:r>
              <a:endParaRPr b="1" lang="en-US" sz="1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grpSp>
          <p:nvGrpSpPr>
            <p:cNvPr id="992" name="Group 39"/>
            <p:cNvGrpSpPr/>
            <p:nvPr/>
          </p:nvGrpSpPr>
          <p:grpSpPr>
            <a:xfrm>
              <a:off x="2900520" y="2787480"/>
              <a:ext cx="1506240" cy="214200"/>
              <a:chOff x="2900520" y="2787480"/>
              <a:chExt cx="1506240" cy="214200"/>
            </a:xfrm>
          </p:grpSpPr>
          <p:sp>
            <p:nvSpPr>
              <p:cNvPr id="993" name="Line 40"/>
              <p:cNvSpPr/>
              <p:nvPr/>
            </p:nvSpPr>
            <p:spPr>
              <a:xfrm>
                <a:off x="2900520" y="3000240"/>
                <a:ext cx="1506240" cy="1440"/>
              </a:xfrm>
              <a:prstGeom prst="line">
                <a:avLst/>
              </a:prstGeom>
              <a:ln w="17640">
                <a:solidFill>
                  <a:srgbClr val="000000"/>
                </a:solidFill>
                <a:prstDash val="dash"/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994" name="Rectangle 41"/>
              <p:cNvSpPr/>
              <p:nvPr/>
            </p:nvSpPr>
            <p:spPr>
              <a:xfrm>
                <a:off x="3117240" y="2787480"/>
                <a:ext cx="53424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price</a:t>
                </a:r>
                <a:endParaRPr b="1" lang="en-US" sz="1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95" name="Group 65"/>
          <p:cNvGrpSpPr/>
          <p:nvPr/>
        </p:nvGrpSpPr>
        <p:grpSpPr>
          <a:xfrm>
            <a:off x="2913120" y="3811680"/>
            <a:ext cx="5205240" cy="426960"/>
            <a:chOff x="2913120" y="3811680"/>
            <a:chExt cx="5205240" cy="426960"/>
          </a:xfrm>
        </p:grpSpPr>
        <p:sp>
          <p:nvSpPr>
            <p:cNvPr id="996" name="Rectangle 50"/>
            <p:cNvSpPr/>
            <p:nvPr/>
          </p:nvSpPr>
          <p:spPr>
            <a:xfrm>
              <a:off x="7926480" y="4006800"/>
              <a:ext cx="191880" cy="2318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997" name="Line 53"/>
            <p:cNvSpPr/>
            <p:nvPr/>
          </p:nvSpPr>
          <p:spPr>
            <a:xfrm>
              <a:off x="2913120" y="4040280"/>
              <a:ext cx="4986360" cy="32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998" name="Rectangle 54"/>
            <p:cNvSpPr/>
            <p:nvPr/>
          </p:nvSpPr>
          <p:spPr>
            <a:xfrm>
              <a:off x="3066840" y="3811680"/>
              <a:ext cx="42681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Courier New"/>
                </a:rPr>
                <a:t>[owedAmount&lt;0]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returnChange(-owedAmount)</a:t>
              </a:r>
              <a:endParaRPr b="1" lang="en-US" sz="14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sp>
        <p:nvSpPr>
          <p:cNvPr id="999" name="AutoShape 55"/>
          <p:cNvSpPr/>
          <p:nvPr/>
        </p:nvSpPr>
        <p:spPr>
          <a:xfrm>
            <a:off x="1054080" y="2755800"/>
            <a:ext cx="1244520" cy="609840"/>
          </a:xfrm>
          <a:prstGeom prst="wedgeRoundRectCallout">
            <a:avLst>
              <a:gd name="adj1" fmla="val -59694"/>
              <a:gd name="adj2" fmla="val -119532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Iteration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00" name="AutoShape 56"/>
          <p:cNvSpPr/>
          <p:nvPr/>
        </p:nvSpPr>
        <p:spPr>
          <a:xfrm>
            <a:off x="1003320" y="3822840"/>
            <a:ext cx="1422360" cy="609480"/>
          </a:xfrm>
          <a:prstGeom prst="wedgeRoundRectCallout">
            <a:avLst>
              <a:gd name="adj1" fmla="val 93305"/>
              <a:gd name="adj2" fmla="val -32032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ondition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01" name="Text Box 66"/>
          <p:cNvSpPr/>
          <p:nvPr/>
        </p:nvSpPr>
        <p:spPr>
          <a:xfrm>
            <a:off x="2681280" y="4197960"/>
            <a:ext cx="568332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…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tinued on next slide...</a:t>
            </a:r>
            <a:endParaRPr b="1" lang="en-US" sz="2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02" name="Text Box 68"/>
          <p:cNvSpPr/>
          <p:nvPr/>
        </p:nvSpPr>
        <p:spPr>
          <a:xfrm>
            <a:off x="2173320" y="1123200"/>
            <a:ext cx="56833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inued from previous slide...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03" name="Text Box 69"/>
          <p:cNvSpPr/>
          <p:nvPr/>
        </p:nvSpPr>
        <p:spPr>
          <a:xfrm>
            <a:off x="803520" y="2170800"/>
            <a:ext cx="29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*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timing>
    <p:tnLst>
      <p:par>
        <p:cTn id="969" dur="indefinite" restart="never" nodeType="tmRoot">
          <p:childTnLst>
            <p:seq>
              <p:cTn id="970" dur="indefinite" nodeType="mainSeq">
                <p:childTnLst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3" fill="hold">
                      <p:stCondLst>
                        <p:cond delay="indefinite"/>
                      </p:stCondLst>
                      <p:childTnLst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fill="hold">
                      <p:stCondLst>
                        <p:cond delay="indefinite"/>
                      </p:stCondLst>
                      <p:childTnLst>
                        <p:par>
                          <p:cTn id="992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3" fill="hold">
                      <p:stCondLst>
                        <p:cond delay="indefinite"/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330120" y="304920"/>
            <a:ext cx="844560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Creation and destruction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361440" y="4760640"/>
            <a:ext cx="8597880" cy="1377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257040" indent="-2570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reation is denoted by a message arrow pointing to the objec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57040" indent="-2570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struction is denoted by an X mark at the end of the destruction activ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17040" indent="-205560">
              <a:lnSpc>
                <a:spcPct val="90000"/>
              </a:lnSpc>
              <a:spcBef>
                <a:spcPts val="675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 garbage collection environments, destruction can be used to denote the end of the useful life of an object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6" name="Line 7"/>
          <p:cNvSpPr/>
          <p:nvPr/>
        </p:nvSpPr>
        <p:spPr>
          <a:xfrm>
            <a:off x="727200" y="2158920"/>
            <a:ext cx="0" cy="19940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grpSp>
        <p:nvGrpSpPr>
          <p:cNvPr id="1007" name="Group 8"/>
          <p:cNvGrpSpPr/>
          <p:nvPr/>
        </p:nvGrpSpPr>
        <p:grpSpPr>
          <a:xfrm>
            <a:off x="216000" y="1143000"/>
            <a:ext cx="960840" cy="1007280"/>
            <a:chOff x="216000" y="1143000"/>
            <a:chExt cx="960840" cy="1007280"/>
          </a:xfrm>
        </p:grpSpPr>
        <p:grpSp>
          <p:nvGrpSpPr>
            <p:cNvPr id="1008" name="Group 9"/>
            <p:cNvGrpSpPr/>
            <p:nvPr/>
          </p:nvGrpSpPr>
          <p:grpSpPr>
            <a:xfrm>
              <a:off x="514440" y="1143000"/>
              <a:ext cx="426960" cy="750960"/>
              <a:chOff x="514440" y="1143000"/>
              <a:chExt cx="426960" cy="750960"/>
            </a:xfrm>
          </p:grpSpPr>
          <p:sp>
            <p:nvSpPr>
              <p:cNvPr id="1009" name="Freeform 10"/>
              <p:cNvSpPr/>
              <p:nvPr/>
            </p:nvSpPr>
            <p:spPr>
              <a:xfrm>
                <a:off x="514440" y="1297080"/>
                <a:ext cx="204840" cy="596880"/>
              </a:xfrm>
              <a:prstGeom prst="pie">
                <a:avLst/>
              </a:pr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1010" name="Line 11"/>
              <p:cNvSpPr/>
              <p:nvPr/>
            </p:nvSpPr>
            <p:spPr>
              <a:xfrm>
                <a:off x="719280" y="1673280"/>
                <a:ext cx="222120" cy="22068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1011" name="Line 12"/>
              <p:cNvSpPr/>
              <p:nvPr/>
            </p:nvSpPr>
            <p:spPr>
              <a:xfrm>
                <a:off x="514440" y="1467000"/>
                <a:ext cx="426960" cy="14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1012" name="Oval 13"/>
              <p:cNvSpPr/>
              <p:nvPr/>
            </p:nvSpPr>
            <p:spPr>
              <a:xfrm>
                <a:off x="615960" y="1143000"/>
                <a:ext cx="222120" cy="222120"/>
              </a:xfrm>
              <a:prstGeom prst="ellipse">
                <a:avLst/>
              </a:prstGeom>
              <a:solidFill>
                <a:srgbClr val="ffffff"/>
              </a:solidFill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  <p:sp>
          <p:nvSpPr>
            <p:cNvPr id="1013" name="Rectangle 14"/>
            <p:cNvSpPr/>
            <p:nvPr/>
          </p:nvSpPr>
          <p:spPr>
            <a:xfrm>
              <a:off x="216000" y="1936800"/>
              <a:ext cx="9608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Passenger</a:t>
              </a:r>
              <a:endParaRPr b="1" lang="en-US" sz="14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sp>
        <p:nvSpPr>
          <p:cNvPr id="1014" name="Rectangle 15"/>
          <p:cNvSpPr/>
          <p:nvPr/>
        </p:nvSpPr>
        <p:spPr>
          <a:xfrm>
            <a:off x="615960" y="2355840"/>
            <a:ext cx="204840" cy="1571760"/>
          </a:xfrm>
          <a:prstGeom prst="rect">
            <a:avLst/>
          </a:prstGeom>
          <a:solidFill>
            <a:srgbClr val="ffffff"/>
          </a:solidFill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15" name="Rectangle 16"/>
          <p:cNvSpPr/>
          <p:nvPr/>
        </p:nvSpPr>
        <p:spPr>
          <a:xfrm>
            <a:off x="1930320" y="1706400"/>
            <a:ext cx="1706760" cy="392400"/>
          </a:xfrm>
          <a:prstGeom prst="rect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16" name="Rectangle 17"/>
          <p:cNvSpPr/>
          <p:nvPr/>
        </p:nvSpPr>
        <p:spPr>
          <a:xfrm>
            <a:off x="2009520" y="1833480"/>
            <a:ext cx="160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hangeProcessor</a:t>
            </a:r>
            <a:endParaRPr b="1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17" name="Line 18"/>
          <p:cNvSpPr/>
          <p:nvPr/>
        </p:nvSpPr>
        <p:spPr>
          <a:xfrm>
            <a:off x="2797200" y="2095560"/>
            <a:ext cx="0" cy="24890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18" name="Text Box 53"/>
          <p:cNvSpPr/>
          <p:nvPr/>
        </p:nvSpPr>
        <p:spPr>
          <a:xfrm>
            <a:off x="2173320" y="1123200"/>
            <a:ext cx="56833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inued from previous slide...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19" name="Rectangle 22"/>
          <p:cNvSpPr/>
          <p:nvPr/>
        </p:nvSpPr>
        <p:spPr>
          <a:xfrm>
            <a:off x="2693880" y="2266920"/>
            <a:ext cx="204840" cy="1914480"/>
          </a:xfrm>
          <a:prstGeom prst="rect">
            <a:avLst/>
          </a:prstGeom>
          <a:solidFill>
            <a:srgbClr val="ffffff"/>
          </a:solidFill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grpSp>
        <p:nvGrpSpPr>
          <p:cNvPr id="1020" name="Group 72"/>
          <p:cNvGrpSpPr/>
          <p:nvPr/>
        </p:nvGrpSpPr>
        <p:grpSpPr>
          <a:xfrm>
            <a:off x="2925720" y="2546280"/>
            <a:ext cx="2495880" cy="1822680"/>
            <a:chOff x="2925720" y="2546280"/>
            <a:chExt cx="2495880" cy="1822680"/>
          </a:xfrm>
        </p:grpSpPr>
        <p:sp>
          <p:nvSpPr>
            <p:cNvPr id="1021" name="Rectangle 24"/>
            <p:cNvSpPr/>
            <p:nvPr/>
          </p:nvSpPr>
          <p:spPr>
            <a:xfrm>
              <a:off x="4282560" y="2938320"/>
              <a:ext cx="6408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Ticket</a:t>
              </a:r>
              <a:endParaRPr b="1" lang="en-US" sz="1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grpSp>
          <p:nvGrpSpPr>
            <p:cNvPr id="1022" name="Group 69"/>
            <p:cNvGrpSpPr/>
            <p:nvPr/>
          </p:nvGrpSpPr>
          <p:grpSpPr>
            <a:xfrm>
              <a:off x="2925720" y="2546280"/>
              <a:ext cx="2495880" cy="1822680"/>
              <a:chOff x="2925720" y="2546280"/>
              <a:chExt cx="2495880" cy="1822680"/>
            </a:xfrm>
          </p:grpSpPr>
          <p:sp>
            <p:nvSpPr>
              <p:cNvPr id="1023" name="Rectangle 25"/>
              <p:cNvSpPr/>
              <p:nvPr/>
            </p:nvSpPr>
            <p:spPr>
              <a:xfrm>
                <a:off x="3746520" y="2811600"/>
                <a:ext cx="1604880" cy="392040"/>
              </a:xfrm>
              <a:prstGeom prst="rect">
                <a:avLst/>
              </a:prstGeom>
              <a:noFill/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1024" name="Line 26"/>
              <p:cNvSpPr/>
              <p:nvPr/>
            </p:nvSpPr>
            <p:spPr>
              <a:xfrm>
                <a:off x="4549680" y="3200400"/>
                <a:ext cx="0" cy="11685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1025" name="Line 49"/>
              <p:cNvSpPr/>
              <p:nvPr/>
            </p:nvSpPr>
            <p:spPr>
              <a:xfrm>
                <a:off x="2925720" y="2833560"/>
                <a:ext cx="808200" cy="180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1026" name="Rectangle 50"/>
              <p:cNvSpPr/>
              <p:nvPr/>
            </p:nvSpPr>
            <p:spPr>
              <a:xfrm>
                <a:off x="2967120" y="2546280"/>
                <a:ext cx="24544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createTicket(selection)</a:t>
                </a:r>
                <a:endParaRPr b="1" lang="en-US" sz="1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7" name="Group 71"/>
          <p:cNvGrpSpPr/>
          <p:nvPr/>
        </p:nvGrpSpPr>
        <p:grpSpPr>
          <a:xfrm>
            <a:off x="2913120" y="3710160"/>
            <a:ext cx="1738080" cy="649080"/>
            <a:chOff x="2913120" y="3710160"/>
            <a:chExt cx="1738080" cy="649080"/>
          </a:xfrm>
        </p:grpSpPr>
        <p:grpSp>
          <p:nvGrpSpPr>
            <p:cNvPr id="1028" name="Group 62"/>
            <p:cNvGrpSpPr/>
            <p:nvPr/>
          </p:nvGrpSpPr>
          <p:grpSpPr>
            <a:xfrm>
              <a:off x="2913120" y="3978360"/>
              <a:ext cx="1738080" cy="380880"/>
              <a:chOff x="2913120" y="3978360"/>
              <a:chExt cx="1738080" cy="380880"/>
            </a:xfrm>
          </p:grpSpPr>
          <p:sp>
            <p:nvSpPr>
              <p:cNvPr id="1029" name="Rectangle 63"/>
              <p:cNvSpPr/>
              <p:nvPr/>
            </p:nvSpPr>
            <p:spPr>
              <a:xfrm>
                <a:off x="4446720" y="3981600"/>
                <a:ext cx="204480" cy="377640"/>
              </a:xfrm>
              <a:prstGeom prst="rect">
                <a:avLst/>
              </a:prstGeom>
              <a:solidFill>
                <a:srgbClr val="ffffff"/>
              </a:solidFill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1030" name="Line 64"/>
              <p:cNvSpPr/>
              <p:nvPr/>
            </p:nvSpPr>
            <p:spPr>
              <a:xfrm>
                <a:off x="2913120" y="3978360"/>
                <a:ext cx="1506600" cy="180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  <p:sp>
          <p:nvSpPr>
            <p:cNvPr id="1031" name="Rectangle 66"/>
            <p:cNvSpPr/>
            <p:nvPr/>
          </p:nvSpPr>
          <p:spPr>
            <a:xfrm>
              <a:off x="2977920" y="3710160"/>
              <a:ext cx="6408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free()</a:t>
              </a:r>
              <a:endParaRPr b="1" lang="en-US" sz="14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sp>
        <p:nvSpPr>
          <p:cNvPr id="1032" name="AutoShape 67"/>
          <p:cNvSpPr/>
          <p:nvPr/>
        </p:nvSpPr>
        <p:spPr>
          <a:xfrm>
            <a:off x="5892840" y="1719360"/>
            <a:ext cx="2600280" cy="718920"/>
          </a:xfrm>
          <a:prstGeom prst="wedgeRoundRectCallout">
            <a:avLst>
              <a:gd name="adj1" fmla="val -93282"/>
              <a:gd name="adj2" fmla="val 97018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reation of Ticket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33" name="AutoShape 68"/>
          <p:cNvSpPr/>
          <p:nvPr/>
        </p:nvSpPr>
        <p:spPr>
          <a:xfrm>
            <a:off x="5168880" y="3592440"/>
            <a:ext cx="2901960" cy="598680"/>
          </a:xfrm>
          <a:prstGeom prst="wedgeRoundRectCallout">
            <a:avLst>
              <a:gd name="adj1" fmla="val -69476"/>
              <a:gd name="adj2" fmla="val 83157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Destruction of Ticket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grpSp>
        <p:nvGrpSpPr>
          <p:cNvPr id="1034" name="Group 70"/>
          <p:cNvGrpSpPr/>
          <p:nvPr/>
        </p:nvGrpSpPr>
        <p:grpSpPr>
          <a:xfrm>
            <a:off x="2913120" y="3176640"/>
            <a:ext cx="1738080" cy="610920"/>
            <a:chOff x="2913120" y="3176640"/>
            <a:chExt cx="1738080" cy="610920"/>
          </a:xfrm>
        </p:grpSpPr>
        <p:grpSp>
          <p:nvGrpSpPr>
            <p:cNvPr id="1035" name="Group 61"/>
            <p:cNvGrpSpPr/>
            <p:nvPr/>
          </p:nvGrpSpPr>
          <p:grpSpPr>
            <a:xfrm>
              <a:off x="2913120" y="3406680"/>
              <a:ext cx="1738080" cy="380880"/>
              <a:chOff x="2913120" y="3406680"/>
              <a:chExt cx="1738080" cy="380880"/>
            </a:xfrm>
          </p:grpSpPr>
          <p:sp>
            <p:nvSpPr>
              <p:cNvPr id="1036" name="Rectangle 41"/>
              <p:cNvSpPr/>
              <p:nvPr/>
            </p:nvSpPr>
            <p:spPr>
              <a:xfrm>
                <a:off x="4446720" y="3409920"/>
                <a:ext cx="204480" cy="377640"/>
              </a:xfrm>
              <a:prstGeom prst="rect">
                <a:avLst/>
              </a:prstGeom>
              <a:solidFill>
                <a:srgbClr val="ffffff"/>
              </a:solidFill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1037" name="Line 42"/>
              <p:cNvSpPr/>
              <p:nvPr/>
            </p:nvSpPr>
            <p:spPr>
              <a:xfrm>
                <a:off x="2913120" y="3406680"/>
                <a:ext cx="1506600" cy="180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  <p:sp>
          <p:nvSpPr>
            <p:cNvPr id="1038" name="Rectangle 43"/>
            <p:cNvSpPr/>
            <p:nvPr/>
          </p:nvSpPr>
          <p:spPr>
            <a:xfrm>
              <a:off x="2977560" y="3176640"/>
              <a:ext cx="747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print()</a:t>
              </a:r>
              <a:endParaRPr b="1" lang="en-US" sz="14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1039" name="Group 59"/>
          <p:cNvGrpSpPr/>
          <p:nvPr/>
        </p:nvGrpSpPr>
        <p:grpSpPr>
          <a:xfrm>
            <a:off x="4406760" y="4241520"/>
            <a:ext cx="292320" cy="291960"/>
            <a:chOff x="4406760" y="4241520"/>
            <a:chExt cx="292320" cy="291960"/>
          </a:xfrm>
        </p:grpSpPr>
        <p:sp>
          <p:nvSpPr>
            <p:cNvPr id="1040" name="Line 57"/>
            <p:cNvSpPr/>
            <p:nvPr/>
          </p:nvSpPr>
          <p:spPr>
            <a:xfrm flipV="1">
              <a:off x="4406760" y="4241520"/>
              <a:ext cx="292320" cy="291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041" name="Line 58"/>
            <p:cNvSpPr/>
            <p:nvPr/>
          </p:nvSpPr>
          <p:spPr>
            <a:xfrm flipH="1" flipV="1">
              <a:off x="4406760" y="4241520"/>
              <a:ext cx="292320" cy="291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</p:spTree>
  </p:cSld>
  <p:timing>
    <p:tnLst>
      <p:par>
        <p:cTn id="1011" dur="indefinite" restart="never" nodeType="tmRoot">
          <p:childTnLst>
            <p:seq>
              <p:cTn id="1012" dur="indefinite" nodeType="mainSeq">
                <p:childTnLst>
                  <p:par>
                    <p:cTn id="1013" fill="hold">
                      <p:stCondLst>
                        <p:cond delay="indefinite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fill="hold">
                      <p:stCondLst>
                        <p:cond delay="indefinite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9" fill="hold">
                      <p:stCondLst>
                        <p:cond delay="indefinite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3" fill="hold">
                      <p:stCondLst>
                        <p:cond delay="indefinite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fill="hold">
                      <p:stCondLst>
                        <p:cond delay="indefinite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UML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4440" y="1050840"/>
            <a:ext cx="7872480" cy="475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271440" indent="-2714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nproprietary standard for modeling syste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1440" indent="-2714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urrent Version: UML 2.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51240" indent="-21708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formation at the OMG portal http://www.uml.org/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1440" indent="-2714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ercial tool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51240" indent="-217080">
              <a:lnSpc>
                <a:spcPct val="90000"/>
              </a:lnSpc>
              <a:spcBef>
                <a:spcPts val="675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ational (IBM),Together (Borland), Visual Architect (Visual Paradigm), Enterprise Architect (Sparx Systems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1440" indent="-2714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pen Source tools http://www.sourceforge.net/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51240" indent="-217080">
              <a:lnSpc>
                <a:spcPct val="90000"/>
              </a:lnSpc>
              <a:spcBef>
                <a:spcPts val="675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rgoUML, StarUML, Umbrello (for KDE)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oseidonUM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1440" indent="-2714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ample of research tools: Unicase,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ysiphu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51240" indent="-21708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Verdana"/>
              </a:rPr>
              <a:t>Based on a unified project model for modeling, collaboration and project organiz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51240" indent="-21708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d5500"/>
                </a:solidFill>
                <a:uFillTx/>
                <a:latin typeface="Verdana"/>
                <a:hlinkClick r:id="rId1"/>
              </a:rPr>
              <a:t>http://unicase.or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51240" indent="-21708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d5500"/>
                </a:solidFill>
                <a:uFillTx/>
                <a:latin typeface="Verdana"/>
                <a:hlinkClick r:id="rId2"/>
              </a:rPr>
              <a:t>http://sysiphus.in.tum.de/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512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14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6" name="Picture 4" descr=""/>
          <p:cNvPicPr/>
          <p:nvPr/>
        </p:nvPicPr>
        <p:blipFill>
          <a:blip r:embed="rId3"/>
          <a:stretch/>
        </p:blipFill>
        <p:spPr>
          <a:xfrm>
            <a:off x="7156440" y="4521240"/>
            <a:ext cx="1833480" cy="18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1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Sequence Diagram Properties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ML sequence diagram represent </a:t>
            </a:r>
            <a:r>
              <a:rPr b="0" i="1" lang="en-US" sz="2400" spc="-1" strike="noStrike">
                <a:solidFill>
                  <a:srgbClr val="ff3300"/>
                </a:solidFill>
                <a:latin typeface="Verdana"/>
              </a:rPr>
              <a:t>behavior in terms of interac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eful to identify or find missing objec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ime consuming to build, but worth the invest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plement the class diagrams (which represent structure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Outline of this Class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more detailed view on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se case diagram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ss diagram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quence diagram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ctivity diagram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Activity Diagrams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355680" y="1155240"/>
            <a:ext cx="82548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 activity diagram is a special case of a state chart diagram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states are activities (“functions”)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 activity diagram is useful to depict the workflow in a syste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48" name="Picture 5" descr=""/>
          <p:cNvPicPr/>
          <p:nvPr/>
        </p:nvPicPr>
        <p:blipFill>
          <a:blip r:embed="rId1"/>
          <a:stretch/>
        </p:blipFill>
        <p:spPr>
          <a:xfrm>
            <a:off x="1015920" y="4141800"/>
            <a:ext cx="7632720" cy="81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Activity Diagrams allow to model Decisions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050" name="Picture 4" descr=""/>
          <p:cNvPicPr/>
          <p:nvPr/>
        </p:nvPicPr>
        <p:blipFill>
          <a:blip r:embed="rId1"/>
          <a:stretch/>
        </p:blipFill>
        <p:spPr>
          <a:xfrm>
            <a:off x="625320" y="1727280"/>
            <a:ext cx="8199720" cy="3473280"/>
          </a:xfrm>
          <a:prstGeom prst="rect">
            <a:avLst/>
          </a:prstGeom>
          <a:ln w="0">
            <a:noFill/>
          </a:ln>
        </p:spPr>
      </p:pic>
      <p:sp>
        <p:nvSpPr>
          <p:cNvPr id="1051" name="AutoShape 9"/>
          <p:cNvSpPr/>
          <p:nvPr/>
        </p:nvSpPr>
        <p:spPr>
          <a:xfrm>
            <a:off x="3716280" y="847800"/>
            <a:ext cx="2600280" cy="611280"/>
          </a:xfrm>
          <a:prstGeom prst="wedgeRoundRectCallout">
            <a:avLst>
              <a:gd name="adj1" fmla="val -60319"/>
              <a:gd name="adj2" fmla="val 144805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Decision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3" dur="indefinite" restart="never" nodeType="tmRoot">
          <p:childTnLst>
            <p:seq>
              <p:cTn id="1044" dur="indefinite" nodeType="mainSeq">
                <p:childTnLst>
                  <p:par>
                    <p:cTn id="1045" fill="hold">
                      <p:stCondLst>
                        <p:cond delay="indefinite"/>
                      </p:stCondLst>
                      <p:childTnLst>
                        <p:par>
                          <p:cTn id="1046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419040" y="221760"/>
            <a:ext cx="872496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Activity Diagrams can model Concurrency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482760" y="1352160"/>
            <a:ext cx="82548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ynchronization of multiple activitie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plitting the flow of control into multiple thread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4" name="Picture 8" descr=""/>
          <p:cNvPicPr/>
          <p:nvPr/>
        </p:nvPicPr>
        <p:blipFill>
          <a:blip r:embed="rId1"/>
          <a:stretch/>
        </p:blipFill>
        <p:spPr>
          <a:xfrm>
            <a:off x="514440" y="2882880"/>
            <a:ext cx="8210520" cy="3165480"/>
          </a:xfrm>
          <a:prstGeom prst="rect">
            <a:avLst/>
          </a:prstGeom>
          <a:ln w="0">
            <a:noFill/>
          </a:ln>
        </p:spPr>
      </p:pic>
      <p:sp>
        <p:nvSpPr>
          <p:cNvPr id="1055" name="AutoShape 9"/>
          <p:cNvSpPr/>
          <p:nvPr/>
        </p:nvSpPr>
        <p:spPr>
          <a:xfrm>
            <a:off x="6451560" y="3022560"/>
            <a:ext cx="2413080" cy="762120"/>
          </a:xfrm>
          <a:prstGeom prst="cloudCallout">
            <a:avLst>
              <a:gd name="adj1" fmla="val -47629"/>
              <a:gd name="adj2" fmla="val 122083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ynchronization</a:t>
            </a:r>
            <a:endParaRPr b="1" lang="en-US" sz="2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56" name="AutoShape 10"/>
          <p:cNvSpPr/>
          <p:nvPr/>
        </p:nvSpPr>
        <p:spPr>
          <a:xfrm>
            <a:off x="635040" y="2946240"/>
            <a:ext cx="2438280" cy="698760"/>
          </a:xfrm>
          <a:prstGeom prst="cloudCallout">
            <a:avLst>
              <a:gd name="adj1" fmla="val 37370"/>
              <a:gd name="adj2" fmla="val 161592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plitting</a:t>
            </a:r>
            <a:endParaRPr b="1" lang="en-US" sz="20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Activity Diagrams: Grouping of Activities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tivities may be grouped into </a:t>
            </a: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swimlane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to denote the object or subsystem that implements the activiti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9" name="AutoShape 6"/>
          <p:cNvSpPr/>
          <p:nvPr/>
        </p:nvSpPr>
        <p:spPr>
          <a:xfrm>
            <a:off x="426960" y="3776760"/>
            <a:ext cx="1744920" cy="792000"/>
          </a:xfrm>
          <a:prstGeom prst="roundRect">
            <a:avLst>
              <a:gd name="adj" fmla="val 44991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60" name="Rectangle 7"/>
          <p:cNvSpPr/>
          <p:nvPr/>
        </p:nvSpPr>
        <p:spPr>
          <a:xfrm>
            <a:off x="1112400" y="3965400"/>
            <a:ext cx="488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pen</a:t>
            </a:r>
            <a:endParaRPr b="1" lang="en-US" sz="1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61" name="Rectangle 8"/>
          <p:cNvSpPr/>
          <p:nvPr/>
        </p:nvSpPr>
        <p:spPr>
          <a:xfrm>
            <a:off x="882720" y="4162320"/>
            <a:ext cx="975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cident</a:t>
            </a:r>
            <a:endParaRPr b="1" lang="en-US" sz="1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62" name="AutoShape 9"/>
          <p:cNvSpPr/>
          <p:nvPr/>
        </p:nvSpPr>
        <p:spPr>
          <a:xfrm>
            <a:off x="3776760" y="2606760"/>
            <a:ext cx="1724040" cy="793800"/>
          </a:xfrm>
          <a:prstGeom prst="roundRect">
            <a:avLst>
              <a:gd name="adj" fmla="val 44898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63" name="Rectangle 10"/>
          <p:cNvSpPr/>
          <p:nvPr/>
        </p:nvSpPr>
        <p:spPr>
          <a:xfrm>
            <a:off x="4222800" y="2774880"/>
            <a:ext cx="975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llocate</a:t>
            </a:r>
            <a:endParaRPr b="1" lang="en-US" sz="1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64" name="Rectangle 11"/>
          <p:cNvSpPr/>
          <p:nvPr/>
        </p:nvSpPr>
        <p:spPr>
          <a:xfrm>
            <a:off x="4149360" y="2973240"/>
            <a:ext cx="1098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sources</a:t>
            </a:r>
            <a:endParaRPr b="1" lang="en-US" sz="1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65" name="AutoShape 12"/>
          <p:cNvSpPr/>
          <p:nvPr/>
        </p:nvSpPr>
        <p:spPr>
          <a:xfrm>
            <a:off x="3776760" y="3776760"/>
            <a:ext cx="1724040" cy="792000"/>
          </a:xfrm>
          <a:prstGeom prst="roundRect">
            <a:avLst>
              <a:gd name="adj" fmla="val 44991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66" name="Rectangle 13"/>
          <p:cNvSpPr/>
          <p:nvPr/>
        </p:nvSpPr>
        <p:spPr>
          <a:xfrm>
            <a:off x="4087440" y="3965400"/>
            <a:ext cx="1220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ordinate</a:t>
            </a:r>
            <a:endParaRPr b="1" lang="en-US" sz="1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67" name="Rectangle 14"/>
          <p:cNvSpPr/>
          <p:nvPr/>
        </p:nvSpPr>
        <p:spPr>
          <a:xfrm>
            <a:off x="4149360" y="4162320"/>
            <a:ext cx="1098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sources</a:t>
            </a:r>
            <a:endParaRPr b="1" lang="en-US" sz="1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68" name="AutoShape 15"/>
          <p:cNvSpPr/>
          <p:nvPr/>
        </p:nvSpPr>
        <p:spPr>
          <a:xfrm>
            <a:off x="3776760" y="4965840"/>
            <a:ext cx="1724040" cy="793440"/>
          </a:xfrm>
          <a:prstGeom prst="roundRect">
            <a:avLst>
              <a:gd name="adj" fmla="val 44898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69" name="Rectangle 16"/>
          <p:cNvSpPr/>
          <p:nvPr/>
        </p:nvSpPr>
        <p:spPr>
          <a:xfrm>
            <a:off x="4222800" y="5133960"/>
            <a:ext cx="975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ocument</a:t>
            </a:r>
            <a:endParaRPr b="1" lang="en-US" sz="1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70" name="Rectangle 17"/>
          <p:cNvSpPr/>
          <p:nvPr/>
        </p:nvSpPr>
        <p:spPr>
          <a:xfrm>
            <a:off x="4222800" y="5332320"/>
            <a:ext cx="975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cident</a:t>
            </a:r>
            <a:endParaRPr b="1" lang="en-US" sz="1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71" name="AutoShape 18"/>
          <p:cNvSpPr/>
          <p:nvPr/>
        </p:nvSpPr>
        <p:spPr>
          <a:xfrm>
            <a:off x="6908760" y="3776760"/>
            <a:ext cx="1744560" cy="792000"/>
          </a:xfrm>
          <a:prstGeom prst="roundRect">
            <a:avLst>
              <a:gd name="adj" fmla="val 44991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72" name="Rectangle 19"/>
          <p:cNvSpPr/>
          <p:nvPr/>
        </p:nvSpPr>
        <p:spPr>
          <a:xfrm>
            <a:off x="7413480" y="3965400"/>
            <a:ext cx="854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chive</a:t>
            </a:r>
            <a:endParaRPr b="1" lang="en-US" sz="1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73" name="Rectangle 20"/>
          <p:cNvSpPr/>
          <p:nvPr/>
        </p:nvSpPr>
        <p:spPr>
          <a:xfrm>
            <a:off x="7365960" y="4162320"/>
            <a:ext cx="975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cident</a:t>
            </a:r>
            <a:endParaRPr b="1" lang="en-US" sz="1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74" name="Rectangle 21"/>
          <p:cNvSpPr/>
          <p:nvPr/>
        </p:nvSpPr>
        <p:spPr>
          <a:xfrm>
            <a:off x="2666880" y="3797280"/>
            <a:ext cx="79560" cy="73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75" name="Rectangle 22"/>
          <p:cNvSpPr/>
          <p:nvPr/>
        </p:nvSpPr>
        <p:spPr>
          <a:xfrm>
            <a:off x="2654280" y="3797280"/>
            <a:ext cx="98280" cy="7524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76" name="Rectangle 23"/>
          <p:cNvSpPr/>
          <p:nvPr/>
        </p:nvSpPr>
        <p:spPr>
          <a:xfrm>
            <a:off x="6313320" y="3797280"/>
            <a:ext cx="79560" cy="73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77" name="Rectangle 24"/>
          <p:cNvSpPr/>
          <p:nvPr/>
        </p:nvSpPr>
        <p:spPr>
          <a:xfrm>
            <a:off x="6300720" y="3797280"/>
            <a:ext cx="100080" cy="7524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78" name="Line 25"/>
          <p:cNvSpPr/>
          <p:nvPr/>
        </p:nvSpPr>
        <p:spPr>
          <a:xfrm>
            <a:off x="3559320" y="4152960"/>
            <a:ext cx="2174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79" name="Freeform 26"/>
          <p:cNvSpPr/>
          <p:nvPr/>
        </p:nvSpPr>
        <p:spPr>
          <a:xfrm>
            <a:off x="3578400" y="4094280"/>
            <a:ext cx="198360" cy="1188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80" name="Line 27"/>
          <p:cNvSpPr/>
          <p:nvPr/>
        </p:nvSpPr>
        <p:spPr>
          <a:xfrm>
            <a:off x="2765520" y="4152960"/>
            <a:ext cx="7938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81" name="Line 28"/>
          <p:cNvSpPr/>
          <p:nvPr/>
        </p:nvSpPr>
        <p:spPr>
          <a:xfrm>
            <a:off x="6095880" y="4173480"/>
            <a:ext cx="2174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82" name="Freeform 29"/>
          <p:cNvSpPr/>
          <p:nvPr/>
        </p:nvSpPr>
        <p:spPr>
          <a:xfrm>
            <a:off x="6114960" y="4113360"/>
            <a:ext cx="198360" cy="1188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83" name="Line 30"/>
          <p:cNvSpPr/>
          <p:nvPr/>
        </p:nvSpPr>
        <p:spPr>
          <a:xfrm>
            <a:off x="5540400" y="4173480"/>
            <a:ext cx="55548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84" name="Line 31"/>
          <p:cNvSpPr/>
          <p:nvPr/>
        </p:nvSpPr>
        <p:spPr>
          <a:xfrm>
            <a:off x="2428920" y="4152960"/>
            <a:ext cx="2174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85" name="Freeform 32"/>
          <p:cNvSpPr/>
          <p:nvPr/>
        </p:nvSpPr>
        <p:spPr>
          <a:xfrm>
            <a:off x="2448000" y="4094280"/>
            <a:ext cx="198360" cy="1188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86" name="Line 33"/>
          <p:cNvSpPr/>
          <p:nvPr/>
        </p:nvSpPr>
        <p:spPr>
          <a:xfrm>
            <a:off x="2151000" y="4152960"/>
            <a:ext cx="2779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87" name="Line 34"/>
          <p:cNvSpPr/>
          <p:nvPr/>
        </p:nvSpPr>
        <p:spPr>
          <a:xfrm>
            <a:off x="6670800" y="4173480"/>
            <a:ext cx="2174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88" name="Freeform 35"/>
          <p:cNvSpPr/>
          <p:nvPr/>
        </p:nvSpPr>
        <p:spPr>
          <a:xfrm>
            <a:off x="6691320" y="4113360"/>
            <a:ext cx="196920" cy="1188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89" name="Line 36"/>
          <p:cNvSpPr/>
          <p:nvPr/>
        </p:nvSpPr>
        <p:spPr>
          <a:xfrm>
            <a:off x="6373800" y="4173480"/>
            <a:ext cx="297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90" name="Line 37"/>
          <p:cNvSpPr/>
          <p:nvPr/>
        </p:nvSpPr>
        <p:spPr>
          <a:xfrm>
            <a:off x="3538440" y="2984400"/>
            <a:ext cx="2192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91" name="Freeform 38"/>
          <p:cNvSpPr/>
          <p:nvPr/>
        </p:nvSpPr>
        <p:spPr>
          <a:xfrm>
            <a:off x="3559320" y="2924280"/>
            <a:ext cx="198360" cy="1188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92" name="Freeform 39"/>
          <p:cNvSpPr/>
          <p:nvPr/>
        </p:nvSpPr>
        <p:spPr>
          <a:xfrm>
            <a:off x="3538440" y="5283360"/>
            <a:ext cx="198360" cy="1188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93" name="Freeform 40"/>
          <p:cNvSpPr/>
          <p:nvPr/>
        </p:nvSpPr>
        <p:spPr>
          <a:xfrm>
            <a:off x="3281400" y="2984400"/>
            <a:ext cx="257040" cy="235764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94" name="Freeform 41"/>
          <p:cNvSpPr/>
          <p:nvPr/>
        </p:nvSpPr>
        <p:spPr>
          <a:xfrm>
            <a:off x="5481720" y="2963880"/>
            <a:ext cx="357120" cy="237816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95" name="Line 42"/>
          <p:cNvSpPr/>
          <p:nvPr/>
        </p:nvSpPr>
        <p:spPr>
          <a:xfrm>
            <a:off x="3519360" y="5342040"/>
            <a:ext cx="2174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96" name="Rectangle 43"/>
          <p:cNvSpPr/>
          <p:nvPr/>
        </p:nvSpPr>
        <p:spPr>
          <a:xfrm>
            <a:off x="228600" y="2495520"/>
            <a:ext cx="8721720" cy="22194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97" name="Rectangle 44"/>
          <p:cNvSpPr/>
          <p:nvPr/>
        </p:nvSpPr>
        <p:spPr>
          <a:xfrm>
            <a:off x="228600" y="4708440"/>
            <a:ext cx="8721720" cy="11494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98" name="Rectangle 45"/>
          <p:cNvSpPr/>
          <p:nvPr/>
        </p:nvSpPr>
        <p:spPr>
          <a:xfrm>
            <a:off x="7437240" y="2676600"/>
            <a:ext cx="1220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ispatcher</a:t>
            </a:r>
            <a:endParaRPr b="1" lang="en-US" sz="1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99" name="Rectangle 46"/>
          <p:cNvSpPr/>
          <p:nvPr/>
        </p:nvSpPr>
        <p:spPr>
          <a:xfrm>
            <a:off x="7454880" y="4836960"/>
            <a:ext cx="1463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eldOfficer</a:t>
            </a:r>
            <a:endParaRPr b="1" lang="en-US" sz="1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Activity Diagram vs. Statechart Diagram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101" name="Picture 4" descr=""/>
          <p:cNvPicPr/>
          <p:nvPr/>
        </p:nvPicPr>
        <p:blipFill>
          <a:blip r:embed="rId1"/>
          <a:stretch/>
        </p:blipFill>
        <p:spPr>
          <a:xfrm>
            <a:off x="1092240" y="4560840"/>
            <a:ext cx="7632720" cy="811440"/>
          </a:xfrm>
          <a:prstGeom prst="rect">
            <a:avLst/>
          </a:prstGeom>
          <a:ln w="0">
            <a:noFill/>
          </a:ln>
        </p:spPr>
      </p:pic>
      <p:sp>
        <p:nvSpPr>
          <p:cNvPr id="1102" name="AutoShape 12"/>
          <p:cNvSpPr/>
          <p:nvPr/>
        </p:nvSpPr>
        <p:spPr>
          <a:xfrm>
            <a:off x="1119240" y="2421000"/>
            <a:ext cx="1062000" cy="628560"/>
          </a:xfrm>
          <a:prstGeom prst="roundRect">
            <a:avLst>
              <a:gd name="adj" fmla="val 44949"/>
            </a:avLst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03" name="Rectangle 13"/>
          <p:cNvSpPr/>
          <p:nvPr/>
        </p:nvSpPr>
        <p:spPr>
          <a:xfrm>
            <a:off x="1339560" y="2664000"/>
            <a:ext cx="68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Active</a:t>
            </a:r>
            <a:endParaRPr b="1" lang="en-US" sz="15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04" name="AutoShape 14"/>
          <p:cNvSpPr/>
          <p:nvPr/>
        </p:nvSpPr>
        <p:spPr>
          <a:xfrm>
            <a:off x="3389400" y="2421000"/>
            <a:ext cx="946080" cy="628560"/>
          </a:xfrm>
          <a:prstGeom prst="roundRect">
            <a:avLst>
              <a:gd name="adj" fmla="val 44949"/>
            </a:avLst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05" name="Rectangle 15"/>
          <p:cNvSpPr/>
          <p:nvPr/>
        </p:nvSpPr>
        <p:spPr>
          <a:xfrm>
            <a:off x="3438000" y="2664000"/>
            <a:ext cx="91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Inactive</a:t>
            </a:r>
            <a:endParaRPr b="1" lang="en-US" sz="15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06" name="AutoShape 16"/>
          <p:cNvSpPr/>
          <p:nvPr/>
        </p:nvSpPr>
        <p:spPr>
          <a:xfrm>
            <a:off x="5611680" y="2421000"/>
            <a:ext cx="971640" cy="628560"/>
          </a:xfrm>
          <a:prstGeom prst="roundRect">
            <a:avLst>
              <a:gd name="adj" fmla="val 44949"/>
            </a:avLst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07" name="Rectangle 17"/>
          <p:cNvSpPr/>
          <p:nvPr/>
        </p:nvSpPr>
        <p:spPr>
          <a:xfrm>
            <a:off x="5762160" y="2638440"/>
            <a:ext cx="68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Closed</a:t>
            </a:r>
            <a:endParaRPr b="1" lang="en-US" sz="15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08" name="AutoShape 18"/>
          <p:cNvSpPr/>
          <p:nvPr/>
        </p:nvSpPr>
        <p:spPr>
          <a:xfrm>
            <a:off x="7905600" y="2395440"/>
            <a:ext cx="973440" cy="628920"/>
          </a:xfrm>
          <a:prstGeom prst="roundRect">
            <a:avLst>
              <a:gd name="adj" fmla="val 44949"/>
            </a:avLst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09" name="Rectangle 19"/>
          <p:cNvSpPr/>
          <p:nvPr/>
        </p:nvSpPr>
        <p:spPr>
          <a:xfrm>
            <a:off x="7924320" y="2664000"/>
            <a:ext cx="91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Archived</a:t>
            </a:r>
            <a:endParaRPr b="1" lang="en-US" sz="15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10" name="Line 20"/>
          <p:cNvSpPr/>
          <p:nvPr/>
        </p:nvSpPr>
        <p:spPr>
          <a:xfrm>
            <a:off x="2971800" y="2751120"/>
            <a:ext cx="312840" cy="32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11" name="Freeform 21"/>
          <p:cNvSpPr/>
          <p:nvPr/>
        </p:nvSpPr>
        <p:spPr>
          <a:xfrm>
            <a:off x="3241800" y="2716200"/>
            <a:ext cx="156960" cy="93600"/>
          </a:xfrm>
          <a:prstGeom prst="pie">
            <a:avLst/>
          </a:pr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12" name="Line 22"/>
          <p:cNvSpPr/>
          <p:nvPr/>
        </p:nvSpPr>
        <p:spPr>
          <a:xfrm>
            <a:off x="2168640" y="2749680"/>
            <a:ext cx="803160" cy="28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13" name="Line 23"/>
          <p:cNvSpPr/>
          <p:nvPr/>
        </p:nvSpPr>
        <p:spPr>
          <a:xfrm>
            <a:off x="5460840" y="2703600"/>
            <a:ext cx="17316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14" name="Freeform 24"/>
          <p:cNvSpPr/>
          <p:nvPr/>
        </p:nvSpPr>
        <p:spPr>
          <a:xfrm>
            <a:off x="5477040" y="2655720"/>
            <a:ext cx="156960" cy="95400"/>
          </a:xfrm>
          <a:prstGeom prst="pie">
            <a:avLst/>
          </a:pr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15" name="Line 25"/>
          <p:cNvSpPr/>
          <p:nvPr/>
        </p:nvSpPr>
        <p:spPr>
          <a:xfrm>
            <a:off x="4351320" y="2701800"/>
            <a:ext cx="1198440" cy="32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16" name="Rectangle 29"/>
          <p:cNvSpPr/>
          <p:nvPr/>
        </p:nvSpPr>
        <p:spPr>
          <a:xfrm>
            <a:off x="2219040" y="2932200"/>
            <a:ext cx="102960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Incident-</a:t>
            </a:r>
            <a:endParaRPr b="1" lang="en-US" sz="1500" spc="-1" strike="noStrike">
              <a:solidFill>
                <a:srgbClr val="ff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Handled</a:t>
            </a:r>
            <a:endParaRPr b="1" lang="en-US" sz="15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17" name="Rectangle 30"/>
          <p:cNvSpPr/>
          <p:nvPr/>
        </p:nvSpPr>
        <p:spPr>
          <a:xfrm>
            <a:off x="4389120" y="2855880"/>
            <a:ext cx="114372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Incident-</a:t>
            </a:r>
            <a:endParaRPr b="1" lang="en-US" sz="1500" spc="-1" strike="noStrike">
              <a:solidFill>
                <a:srgbClr val="ff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Documented</a:t>
            </a:r>
            <a:endParaRPr b="1" lang="en-US" sz="15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18" name="Rectangle 31"/>
          <p:cNvSpPr/>
          <p:nvPr/>
        </p:nvSpPr>
        <p:spPr>
          <a:xfrm>
            <a:off x="6757560" y="2919240"/>
            <a:ext cx="102960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Incident-</a:t>
            </a:r>
            <a:endParaRPr b="1" lang="en-US" sz="1500" spc="-1" strike="noStrike">
              <a:solidFill>
                <a:srgbClr val="ff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Archived</a:t>
            </a:r>
            <a:endParaRPr b="1" lang="en-US" sz="15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19" name="Oval 32"/>
          <p:cNvSpPr/>
          <p:nvPr/>
        </p:nvSpPr>
        <p:spPr>
          <a:xfrm>
            <a:off x="1763640" y="1949400"/>
            <a:ext cx="141480" cy="141480"/>
          </a:xfrm>
          <a:prstGeom prst="ellipse">
            <a:avLst/>
          </a:prstGeom>
          <a:solidFill>
            <a:srgbClr val="00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20" name="Line 33"/>
          <p:cNvSpPr/>
          <p:nvPr/>
        </p:nvSpPr>
        <p:spPr>
          <a:xfrm>
            <a:off x="1825560" y="2247840"/>
            <a:ext cx="1800" cy="173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21" name="Freeform 34"/>
          <p:cNvSpPr/>
          <p:nvPr/>
        </p:nvSpPr>
        <p:spPr>
          <a:xfrm>
            <a:off x="1778040" y="2247840"/>
            <a:ext cx="95040" cy="173160"/>
          </a:xfrm>
          <a:prstGeom prst="pie">
            <a:avLst/>
          </a:pr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22" name="Line 35"/>
          <p:cNvSpPr/>
          <p:nvPr/>
        </p:nvSpPr>
        <p:spPr>
          <a:xfrm>
            <a:off x="1825560" y="2090880"/>
            <a:ext cx="1800" cy="1569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23" name="Oval 36"/>
          <p:cNvSpPr/>
          <p:nvPr/>
        </p:nvSpPr>
        <p:spPr>
          <a:xfrm>
            <a:off x="8220240" y="3409920"/>
            <a:ext cx="141120" cy="141480"/>
          </a:xfrm>
          <a:prstGeom prst="ellipse">
            <a:avLst/>
          </a:prstGeom>
          <a:solidFill>
            <a:srgbClr val="00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24" name="Line 37"/>
          <p:cNvSpPr/>
          <p:nvPr/>
        </p:nvSpPr>
        <p:spPr>
          <a:xfrm>
            <a:off x="8298000" y="3205080"/>
            <a:ext cx="1440" cy="173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25" name="Freeform 38"/>
          <p:cNvSpPr/>
          <p:nvPr/>
        </p:nvSpPr>
        <p:spPr>
          <a:xfrm>
            <a:off x="8250120" y="3205080"/>
            <a:ext cx="95400" cy="173160"/>
          </a:xfrm>
          <a:prstGeom prst="pie">
            <a:avLst/>
          </a:pr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26" name="Line 39"/>
          <p:cNvSpPr/>
          <p:nvPr/>
        </p:nvSpPr>
        <p:spPr>
          <a:xfrm flipV="1">
            <a:off x="8298000" y="3049560"/>
            <a:ext cx="1440" cy="1555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27" name="Oval 40"/>
          <p:cNvSpPr/>
          <p:nvPr/>
        </p:nvSpPr>
        <p:spPr>
          <a:xfrm>
            <a:off x="8172360" y="3362400"/>
            <a:ext cx="250920" cy="23652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28" name="Text Box 6"/>
          <p:cNvSpPr/>
          <p:nvPr/>
        </p:nvSpPr>
        <p:spPr>
          <a:xfrm>
            <a:off x="291960" y="1095840"/>
            <a:ext cx="892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techart Diagram for Incident</a:t>
            </a:r>
            <a:endParaRPr b="1" lang="en-US" sz="20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Focus on the set of attributes of a single abstraction (object, system)</a:t>
            </a:r>
            <a:endParaRPr b="1" lang="en-US" sz="2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29" name="Text Box 7"/>
          <p:cNvSpPr/>
          <p:nvPr/>
        </p:nvSpPr>
        <p:spPr>
          <a:xfrm>
            <a:off x="293760" y="3669120"/>
            <a:ext cx="75229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vity Diagram for Incident </a:t>
            </a:r>
            <a:endParaRPr b="1" lang="en-US" sz="20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(Focus on dataflow in a system)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30" name="AutoShape 10"/>
          <p:cNvSpPr/>
          <p:nvPr/>
        </p:nvSpPr>
        <p:spPr>
          <a:xfrm>
            <a:off x="6275520" y="5595840"/>
            <a:ext cx="1255680" cy="563760"/>
          </a:xfrm>
          <a:prstGeom prst="wedgeRoundRectCallout">
            <a:avLst>
              <a:gd name="adj1" fmla="val -55689"/>
              <a:gd name="adj2" fmla="val -160421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Triggerless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transition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31" name="AutoShape 11"/>
          <p:cNvSpPr/>
          <p:nvPr/>
        </p:nvSpPr>
        <p:spPr>
          <a:xfrm>
            <a:off x="1887480" y="5672160"/>
            <a:ext cx="2747880" cy="741240"/>
          </a:xfrm>
          <a:prstGeom prst="wedgeRoundRectCallout">
            <a:avLst>
              <a:gd name="adj1" fmla="val 60398"/>
              <a:gd name="adj2" fmla="val -92828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Completion of activity 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causes state transition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32" name="AutoShape 41"/>
          <p:cNvSpPr/>
          <p:nvPr/>
        </p:nvSpPr>
        <p:spPr>
          <a:xfrm>
            <a:off x="5778360" y="1739880"/>
            <a:ext cx="1663920" cy="495360"/>
          </a:xfrm>
          <a:prstGeom prst="wedgeRoundRectCallout">
            <a:avLst>
              <a:gd name="adj1" fmla="val -117555"/>
              <a:gd name="adj2" fmla="val 136217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Event causes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tate transition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33" name="Line 42"/>
          <p:cNvSpPr/>
          <p:nvPr/>
        </p:nvSpPr>
        <p:spPr>
          <a:xfrm>
            <a:off x="6578640" y="2730600"/>
            <a:ext cx="13460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9" dur="indefinite" restart="never" nodeType="tmRoot">
          <p:childTnLst>
            <p:seq>
              <p:cTn id="1050" dur="indefinite" nodeType="mainSeq">
                <p:childTnLst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9" fill="hold">
                      <p:stCondLst>
                        <p:cond delay="indefinite"/>
                      </p:stCondLst>
                      <p:childTnLst>
                        <p:par>
                          <p:cTn id="1060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UML Summary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/>
          </p:nvPr>
        </p:nvSpPr>
        <p:spPr>
          <a:xfrm>
            <a:off x="355680" y="1263240"/>
            <a:ext cx="82548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ML provides a wide variety of notations for representing many aspects of software develop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owerful, but compl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ML is a programming languag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n be misused to generate unreadable model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n be misunderstood when using too many exotic featur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e concentrated on a few notation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nctional model: Use case diagra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bject model: class diagra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ynamic model: sequence diagrams, statechart and activity diagram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UML: First Pass</a:t>
            </a: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	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You can solve 80% of the modeling problems by using 20 % UM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e teach you those 20%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80-20 rule: Pareto princip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9" name="Picture 5" descr=""/>
          <p:cNvPicPr/>
          <p:nvPr/>
        </p:nvPicPr>
        <p:blipFill>
          <a:blip r:embed="rId1"/>
          <a:stretch/>
        </p:blipFill>
        <p:spPr>
          <a:xfrm>
            <a:off x="5205240" y="1724040"/>
            <a:ext cx="3594240" cy="3171960"/>
          </a:xfrm>
          <a:prstGeom prst="rect">
            <a:avLst/>
          </a:prstGeom>
          <a:ln w="0">
            <a:noFill/>
          </a:ln>
        </p:spPr>
      </p:pic>
      <p:grpSp>
        <p:nvGrpSpPr>
          <p:cNvPr id="110" name="Group 7"/>
          <p:cNvGrpSpPr/>
          <p:nvPr/>
        </p:nvGrpSpPr>
        <p:grpSpPr>
          <a:xfrm>
            <a:off x="692280" y="3732120"/>
            <a:ext cx="6403680" cy="2685960"/>
            <a:chOff x="692280" y="3732120"/>
            <a:chExt cx="6403680" cy="2685960"/>
          </a:xfrm>
        </p:grpSpPr>
        <p:pic>
          <p:nvPicPr>
            <p:cNvPr id="111" name="Picture 4" descr=""/>
            <p:cNvPicPr/>
            <p:nvPr/>
          </p:nvPicPr>
          <p:blipFill>
            <a:blip r:embed="rId2"/>
            <a:stretch/>
          </p:blipFill>
          <p:spPr>
            <a:xfrm>
              <a:off x="692280" y="3732120"/>
              <a:ext cx="1355760" cy="216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Text Box 6"/>
            <p:cNvSpPr/>
            <p:nvPr/>
          </p:nvSpPr>
          <p:spPr>
            <a:xfrm>
              <a:off x="2446200" y="5104440"/>
              <a:ext cx="464976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ilfredo Pareto, 1848-1923</a:t>
              </a:r>
              <a:endParaRPr b="1" lang="en-US" sz="2000" spc="-1" strike="noStrike">
                <a:solidFill>
                  <a:srgbClr val="ff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Introduced the concept of Pareto Efficiency, </a:t>
              </a:r>
              <a:endParaRPr b="1" lang="en-US" sz="2000" spc="-1" strike="noStrike">
                <a:solidFill>
                  <a:srgbClr val="ff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Founder of  the field of microeconomics.</a:t>
              </a:r>
              <a:endParaRPr b="1" lang="en-US" sz="20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500"/>
                            </p:stCondLst>
                            <p:childTnLst>
                              <p:par>
                                <p:cTn id="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UML First Pass (covered in Last Lecture)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55680" y="1104480"/>
            <a:ext cx="795168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274320" indent="-2743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Use case diagra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58080" indent="-21924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scribe the functional behavior of the system as seen by the us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4320" indent="-2743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Class diagra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58080" indent="-21924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scribe the static structure of the system: Objects, attributes, associa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4320" indent="-2743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Sequence diagra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58080" indent="-21924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scribe the dynamic behavior between objects of the syste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4320" indent="-2743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Statechart diagra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58080" indent="-21924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scribe the dynamic behavior of an individual objec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4320" indent="-2743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Activity diagra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58080" indent="-21924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scribe the dynamic behavior of a system, in particular the workflow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UML Basic Notation: First Summary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55680" y="1263240"/>
            <a:ext cx="82548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ML provides a wide variety of notations for modeling many aspects of software syste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 the first lecture we concentrated on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nctional model: Use case diagra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bject model: Class diagra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ynamic model: Sequence diagrams, statecha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w we go into a little bit more detail…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UML Use Case Diagrams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052880" y="2522520"/>
            <a:ext cx="4478400" cy="804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 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Actor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represents a role, that is, a type of user of the syste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9" name="Group 20"/>
          <p:cNvGrpSpPr/>
          <p:nvPr/>
        </p:nvGrpSpPr>
        <p:grpSpPr>
          <a:xfrm>
            <a:off x="423720" y="1754280"/>
            <a:ext cx="1646640" cy="1679040"/>
            <a:chOff x="423720" y="1754280"/>
            <a:chExt cx="1646640" cy="1679040"/>
          </a:xfrm>
        </p:grpSpPr>
        <p:grpSp>
          <p:nvGrpSpPr>
            <p:cNvPr id="120" name="Group 17"/>
            <p:cNvGrpSpPr/>
            <p:nvPr/>
          </p:nvGrpSpPr>
          <p:grpSpPr>
            <a:xfrm>
              <a:off x="912600" y="1754280"/>
              <a:ext cx="705960" cy="1242720"/>
              <a:chOff x="912600" y="1754280"/>
              <a:chExt cx="705960" cy="1242720"/>
            </a:xfrm>
          </p:grpSpPr>
          <p:sp>
            <p:nvSpPr>
              <p:cNvPr id="121" name="Freeform 6"/>
              <p:cNvSpPr/>
              <p:nvPr/>
            </p:nvSpPr>
            <p:spPr>
              <a:xfrm>
                <a:off x="912600" y="2009160"/>
                <a:ext cx="337680" cy="987840"/>
              </a:xfrm>
              <a:prstGeom prst="pie">
                <a:avLst/>
              </a:pr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122" name="Line 7"/>
              <p:cNvSpPr/>
              <p:nvPr/>
            </p:nvSpPr>
            <p:spPr>
              <a:xfrm>
                <a:off x="1250280" y="2630520"/>
                <a:ext cx="368280" cy="366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123" name="Line 8"/>
              <p:cNvSpPr/>
              <p:nvPr/>
            </p:nvSpPr>
            <p:spPr>
              <a:xfrm>
                <a:off x="912600" y="2290320"/>
                <a:ext cx="70596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124" name="Oval 9"/>
              <p:cNvSpPr/>
              <p:nvPr/>
            </p:nvSpPr>
            <p:spPr>
              <a:xfrm>
                <a:off x="1082520" y="1754280"/>
                <a:ext cx="365400" cy="36828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  <p:sp>
          <p:nvSpPr>
            <p:cNvPr id="125" name="Rectangle 10"/>
            <p:cNvSpPr/>
            <p:nvPr/>
          </p:nvSpPr>
          <p:spPr>
            <a:xfrm>
              <a:off x="423720" y="3067200"/>
              <a:ext cx="16466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Passenger</a:t>
              </a: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126" name="Group 24"/>
          <p:cNvGrpSpPr/>
          <p:nvPr/>
        </p:nvGrpSpPr>
        <p:grpSpPr>
          <a:xfrm>
            <a:off x="1073160" y="3495600"/>
            <a:ext cx="2736720" cy="1801800"/>
            <a:chOff x="1073160" y="3495600"/>
            <a:chExt cx="2736720" cy="1801800"/>
          </a:xfrm>
        </p:grpSpPr>
        <p:grpSp>
          <p:nvGrpSpPr>
            <p:cNvPr id="127" name="Group 15"/>
            <p:cNvGrpSpPr/>
            <p:nvPr/>
          </p:nvGrpSpPr>
          <p:grpSpPr>
            <a:xfrm>
              <a:off x="1248840" y="4129200"/>
              <a:ext cx="2561040" cy="1168200"/>
              <a:chOff x="1248840" y="4129200"/>
              <a:chExt cx="2561040" cy="1168200"/>
            </a:xfrm>
          </p:grpSpPr>
          <p:sp>
            <p:nvSpPr>
              <p:cNvPr id="128" name="Oval 12"/>
              <p:cNvSpPr/>
              <p:nvPr/>
            </p:nvSpPr>
            <p:spPr>
              <a:xfrm>
                <a:off x="1549080" y="4129200"/>
                <a:ext cx="1778400" cy="7592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129" name="Rectangle 13"/>
              <p:cNvSpPr/>
              <p:nvPr/>
            </p:nvSpPr>
            <p:spPr>
              <a:xfrm>
                <a:off x="1248840" y="4931280"/>
                <a:ext cx="25610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Courier New"/>
                  </a:rPr>
                  <a:t>PurchaseTicket</a:t>
                </a: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  <p:sp>
          <p:nvSpPr>
            <p:cNvPr id="130" name="Line 14"/>
            <p:cNvSpPr/>
            <p:nvPr/>
          </p:nvSpPr>
          <p:spPr>
            <a:xfrm>
              <a:off x="1073160" y="3495600"/>
              <a:ext cx="582480" cy="509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sp>
        <p:nvSpPr>
          <p:cNvPr id="131" name="Rectangle 21"/>
          <p:cNvSpPr/>
          <p:nvPr/>
        </p:nvSpPr>
        <p:spPr>
          <a:xfrm>
            <a:off x="2635200" y="969840"/>
            <a:ext cx="6058080" cy="9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ed during requirements elicitation and analysis to represent external behavior (“visible from the outside of the system”)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2" name="Rectangle 22"/>
          <p:cNvSpPr/>
          <p:nvPr/>
        </p:nvSpPr>
        <p:spPr>
          <a:xfrm>
            <a:off x="3921120" y="4376880"/>
            <a:ext cx="4911840" cy="186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Use case model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1" lang="en-US" sz="2000" spc="-1" strike="noStrike">
              <a:solidFill>
                <a:srgbClr val="ff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set of all use cases that completely describe the functionality of the  system.</a:t>
            </a:r>
            <a:endParaRPr b="1" lang="en-US" sz="2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3" name="Rectangle 23"/>
          <p:cNvSpPr/>
          <p:nvPr/>
        </p:nvSpPr>
        <p:spPr>
          <a:xfrm>
            <a:off x="3981600" y="3314880"/>
            <a:ext cx="48704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use cas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represents a class of functionality provided by the system</a:t>
            </a:r>
            <a:endParaRPr b="1" lang="en-US" sz="20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Actors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08120" y="1109160"/>
            <a:ext cx="60264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 actor is a model for an external entity which interacts (communicates) with the system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s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ternal system (Another system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hysical environment (e.g. Weather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 actor has a unique name and an optional descrip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1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ssenger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: A person in the trai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GPS satellit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: An external system that provides the system with  GPS coordinat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36" name="Group 12"/>
          <p:cNvGrpSpPr/>
          <p:nvPr/>
        </p:nvGrpSpPr>
        <p:grpSpPr>
          <a:xfrm>
            <a:off x="693720" y="2122560"/>
            <a:ext cx="1646640" cy="1680480"/>
            <a:chOff x="693720" y="2122560"/>
            <a:chExt cx="1646640" cy="1680480"/>
          </a:xfrm>
        </p:grpSpPr>
        <p:grpSp>
          <p:nvGrpSpPr>
            <p:cNvPr id="137" name="Group 6"/>
            <p:cNvGrpSpPr/>
            <p:nvPr/>
          </p:nvGrpSpPr>
          <p:grpSpPr>
            <a:xfrm>
              <a:off x="1131840" y="2122560"/>
              <a:ext cx="706320" cy="1242720"/>
              <a:chOff x="1131840" y="2122560"/>
              <a:chExt cx="706320" cy="1242720"/>
            </a:xfrm>
          </p:grpSpPr>
          <p:sp>
            <p:nvSpPr>
              <p:cNvPr id="138" name="Freeform 7"/>
              <p:cNvSpPr/>
              <p:nvPr/>
            </p:nvSpPr>
            <p:spPr>
              <a:xfrm>
                <a:off x="1131840" y="2377440"/>
                <a:ext cx="337680" cy="987840"/>
              </a:xfrm>
              <a:prstGeom prst="pie">
                <a:avLst/>
              </a:pr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139" name="Line 8"/>
              <p:cNvSpPr/>
              <p:nvPr/>
            </p:nvSpPr>
            <p:spPr>
              <a:xfrm>
                <a:off x="1469520" y="2998800"/>
                <a:ext cx="368280" cy="366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140" name="Line 9"/>
              <p:cNvSpPr/>
              <p:nvPr/>
            </p:nvSpPr>
            <p:spPr>
              <a:xfrm>
                <a:off x="1131840" y="2658600"/>
                <a:ext cx="70632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141" name="Oval 10"/>
              <p:cNvSpPr/>
              <p:nvPr/>
            </p:nvSpPr>
            <p:spPr>
              <a:xfrm>
                <a:off x="1302120" y="2122560"/>
                <a:ext cx="365760" cy="36828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  <p:sp>
          <p:nvSpPr>
            <p:cNvPr id="142" name="Rectangle 11"/>
            <p:cNvSpPr/>
            <p:nvPr/>
          </p:nvSpPr>
          <p:spPr>
            <a:xfrm>
              <a:off x="693720" y="3436920"/>
              <a:ext cx="16466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Passenger</a:t>
              </a: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sp>
        <p:nvSpPr>
          <p:cNvPr id="143" name="AutoShape 13"/>
          <p:cNvSpPr/>
          <p:nvPr/>
        </p:nvSpPr>
        <p:spPr>
          <a:xfrm>
            <a:off x="868320" y="4889520"/>
            <a:ext cx="1670040" cy="633240"/>
          </a:xfrm>
          <a:prstGeom prst="wedgeRoundRectCallout">
            <a:avLst>
              <a:gd name="adj1" fmla="val 92013"/>
              <a:gd name="adj2" fmla="val -59273"/>
              <a:gd name="adj3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ame</a:t>
            </a:r>
            <a:endParaRPr b="1" lang="en-US" sz="2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4" name="AutoShape 14"/>
          <p:cNvSpPr/>
          <p:nvPr/>
        </p:nvSpPr>
        <p:spPr>
          <a:xfrm>
            <a:off x="6545160" y="3649680"/>
            <a:ext cx="2243160" cy="846000"/>
          </a:xfrm>
          <a:prstGeom prst="wedgeRoundRectCallout">
            <a:avLst>
              <a:gd name="adj1" fmla="val -91472"/>
              <a:gd name="adj2" fmla="val 68199"/>
              <a:gd name="adj3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Optional </a:t>
            </a:r>
            <a:endParaRPr b="1" lang="en-US" sz="2000" spc="-1" strike="noStrike">
              <a:solidFill>
                <a:srgbClr val="ff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escription</a:t>
            </a:r>
            <a:endParaRPr b="1" lang="en-US" sz="20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02T10:15:15Z</dcterms:created>
  <dc:creator/>
  <dc:description/>
  <dc:language>en-US</dc:language>
  <cp:lastModifiedBy>Bernd Bruegge</cp:lastModifiedBy>
  <dcterms:modified xsi:type="dcterms:W3CDTF">2009-08-04T06:18:09Z</dcterms:modified>
  <cp:revision>17</cp:revision>
  <dc:subject/>
  <dc:title>Modeling with UML: Basic Notations II</dc:title>
</cp:coreProperties>
</file>